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312-F919-497E-A35D-F7FD1D4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884-624C-4A12-B8C7-74DB7D5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651-E4D1-4775-B4B0-EF8826F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C38-1F69-47F2-BE6D-0A0BDA45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D6D0-2820-44ED-9877-1E0E05C0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A5F-7B86-4B0D-A354-080BD40E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CBE0-5B9F-4B87-B561-9671EEF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D194-A3DD-416F-B574-F6BDB5B6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3EB6-C92D-4C67-88C0-2F7B1319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767-9D8A-48D3-BBA0-3CB4C05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0BC-0C7B-4415-B063-9D7B1D6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BC6-5340-4822-B360-36C1761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7B38-613B-4D1E-BF5E-A6D8A3E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7AE-E50E-473C-AE0F-5BDE1D8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74D1-BCB8-4176-BEF3-D3109D4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2E9E-45D6-4203-982E-C7B9E8CD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5EF9-C21A-4AA9-9AD2-86A9A999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D16-7F35-4B49-BE9D-ECFD64AB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502-D59D-4B72-9A32-7B03A11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F80-4039-4E1B-906B-58FBE040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865-E748-4E2A-AFA7-76850D97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59D-2D98-4730-8C0D-F1B7B76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BFF-5571-4414-BBD7-5ADB0A9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490-56CA-4C34-9BD1-A8D3CBC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576E-51E9-4F36-9E71-75265F78F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60F4-84F8-4BC3-A4E4-684CA07B4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SES DE UN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variables económicas deben ser de una seguridad tal que permita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emostra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la viabilidad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toma la decisión de proseguir con la realización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consigue el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Costanera N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timación de flujos vehiculares (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ternativas de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v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 la vida út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l costo del pea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udios directos (fuentes de información primari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pografía, mecánica de suelos, geología, cl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tación de los deseos del cliente (</a:t>
            </a: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calidad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acción de bases de dise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DE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orizonte de diseño: vida út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rmas aplic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solici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esión y temperatura de funcio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iento, nieve, mareas, espectro sísm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ÓGICA DE FUNCIO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&amp;ID, diagramas de flujo, uniline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alle suficiente para la construcción, determinación de cant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cumentos princip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em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 Generales /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tructura o Cálc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rmas y refuerzos (hormigón arm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abricación y montaje (estructuras metál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Arquite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tas, elevaciones, escantill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ctricidad, instrumentación, piping (isométricos), calefacción y aire acondicionado, alcantarillado y agua potable, ga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alidades deseadas del product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cedimientos de ejec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rmas específicas a cumpl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EETT se redactan para cálculo, arquitectura y especi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 (obligatorio o propues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ago (anticipo, Estados de Pago periódicos, retencio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ntidad y experiencia de los profesionales a car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rantías de seriedad de la oferta, correcta ejecución, antic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ultas por atraso total o parcial, por no acatamiento de instrucciones, inasistencia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guros de incendio, todo riesgo de construcción, responsabilidad ci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resent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evalu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DESARROLLO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637000"/>
            <a:ext cx="5580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ÁLISIS DE FACT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068640"/>
            <a:ext cx="1655640" cy="720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TEPROY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ING. CONC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6000" y="3860640"/>
            <a:ext cx="151128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BÁ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24360" y="4292640"/>
            <a:ext cx="165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DET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5640" y="5013360"/>
            <a:ext cx="1656000" cy="647640"/>
          </a:xfrm>
          <a:prstGeom prst="rightArrow">
            <a:avLst>
              <a:gd name="adj1" fmla="val 50000"/>
              <a:gd name="adj2" fmla="val 427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XPL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19640" y="4724280"/>
            <a:ext cx="194472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STR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35120" cy="81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28000" y="5157720"/>
            <a:ext cx="863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I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4581360"/>
            <a:ext cx="8458200" cy="2209680"/>
            <a:chOff x="250920" y="4581360"/>
            <a:chExt cx="8458200" cy="2209680"/>
          </a:xfrm>
        </p:grpSpPr>
        <p:sp>
          <p:nvSpPr>
            <p:cNvPr id="94" name=""/>
            <p:cNvSpPr/>
            <p:nvPr/>
          </p:nvSpPr>
          <p:spPr>
            <a:xfrm>
              <a:off x="250920" y="6791040"/>
              <a:ext cx="845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0920" y="458136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240" y="4657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28240" y="6333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2040" y="5343480"/>
              <a:ext cx="1752480" cy="137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240" y="6486480"/>
              <a:ext cx="403848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0840" y="6181560"/>
              <a:ext cx="2057400" cy="533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TUDIO DE PROY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5516640"/>
            <a:ext cx="3996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068640"/>
            <a:ext cx="2016000" cy="6476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UDIOS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LIMIN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637000"/>
            <a:ext cx="399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PA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860640"/>
            <a:ext cx="1944720" cy="6480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IMACIÓN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 C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520000" y="3105360"/>
            <a:ext cx="360360" cy="40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1"/>
                </a:lnTo>
                <a:cubicBezTo>
                  <a:pt x="10800" y="9951"/>
                  <a:pt x="5400" y="10851"/>
                  <a:pt x="0" y="10851"/>
                </a:cubicBezTo>
                <a:cubicBezTo>
                  <a:pt x="5400" y="10851"/>
                  <a:pt x="10800" y="11751"/>
                  <a:pt x="10800" y="126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51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551664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stos de inversión, operación y ci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costos: impuestos, intere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gresos por explot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l momento óptimo de inver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la “vida útil”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2492280"/>
          <a:ext cx="785628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856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9640" y="3716280"/>
            <a:ext cx="8280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805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BNA, TIR o VA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Valor Actual Neto (VAN)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Tasa Interna de Retorno (TIR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npv equation"/>
          <p:cNvPicPr/>
          <p:nvPr/>
        </p:nvPicPr>
        <p:blipFill>
          <a:blip r:embed="rId2"/>
          <a:stretch/>
        </p:blipFill>
        <p:spPr>
          <a:xfrm>
            <a:off x="1619280" y="2087640"/>
            <a:ext cx="5904000" cy="141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5661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R := r t.q. VAN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npv equation"/>
          <p:cNvPicPr/>
          <p:nvPr/>
        </p:nvPicPr>
        <p:blipFill>
          <a:blip r:embed="rId3"/>
          <a:stretch/>
        </p:blipFill>
        <p:spPr>
          <a:xfrm>
            <a:off x="2341440" y="3716280"/>
            <a:ext cx="4535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55800" y="1684080"/>
            <a:ext cx="3632400" cy="4036680"/>
            <a:chOff x="2755800" y="1684080"/>
            <a:chExt cx="3632400" cy="4036680"/>
          </a:xfrm>
        </p:grpSpPr>
        <p:sp>
          <p:nvSpPr>
            <p:cNvPr id="122" name="_s40965"/>
            <p:cNvSpPr/>
            <p:nvPr/>
          </p:nvSpPr>
          <p:spPr>
            <a:xfrm flipH="1" flipV="1">
              <a:off x="3696840" y="3198600"/>
              <a:ext cx="43668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0966"/>
            <p:cNvSpPr/>
            <p:nvPr/>
          </p:nvSpPr>
          <p:spPr>
            <a:xfrm>
              <a:off x="27558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PORTUN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0967"/>
            <p:cNvSpPr/>
            <p:nvPr/>
          </p:nvSpPr>
          <p:spPr>
            <a:xfrm flipH="1">
              <a:off x="3699000" y="395604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0968"/>
            <p:cNvSpPr/>
            <p:nvPr/>
          </p:nvSpPr>
          <p:spPr>
            <a:xfrm>
              <a:off x="27558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AN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0969"/>
            <p:cNvSpPr/>
            <p:nvPr/>
          </p:nvSpPr>
          <p:spPr>
            <a:xfrm>
              <a:off x="4573440" y="4208400"/>
              <a:ext cx="0" cy="50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0970"/>
            <p:cNvSpPr/>
            <p:nvPr/>
          </p:nvSpPr>
          <p:spPr>
            <a:xfrm>
              <a:off x="4067280" y="4711680"/>
              <a:ext cx="1009440" cy="100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PROVEED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40971"/>
            <p:cNvSpPr/>
            <p:nvPr/>
          </p:nvSpPr>
          <p:spPr>
            <a:xfrm>
              <a:off x="5010120" y="3954240"/>
              <a:ext cx="436680" cy="25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0972"/>
            <p:cNvSpPr/>
            <p:nvPr/>
          </p:nvSpPr>
          <p:spPr>
            <a:xfrm>
              <a:off x="53784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FINANCIA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40973"/>
            <p:cNvSpPr/>
            <p:nvPr/>
          </p:nvSpPr>
          <p:spPr>
            <a:xfrm flipV="1">
              <a:off x="5008680" y="319716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0974"/>
            <p:cNvSpPr/>
            <p:nvPr/>
          </p:nvSpPr>
          <p:spPr>
            <a:xfrm>
              <a:off x="53784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DI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MBI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0975"/>
            <p:cNvSpPr/>
            <p:nvPr/>
          </p:nvSpPr>
          <p:spPr>
            <a:xfrm flipV="1">
              <a:off x="4572000" y="2693520"/>
              <a:ext cx="0" cy="50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0976"/>
            <p:cNvSpPr/>
            <p:nvPr/>
          </p:nvSpPr>
          <p:spPr>
            <a:xfrm>
              <a:off x="4067280" y="1684080"/>
              <a:ext cx="100944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0977"/>
            <p:cNvSpPr/>
            <p:nvPr/>
          </p:nvSpPr>
          <p:spPr>
            <a:xfrm>
              <a:off x="4067280" y="3198600"/>
              <a:ext cx="1009440" cy="1009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ANTE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PROYE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llamada Ingeniería Concep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prepa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copilación de información des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fuentes secundar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experiencias anteriores) (mercado, alternativas técnicas de producción y capacidad financi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eval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la rentab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paración del flujo de c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buscar optimizaciones al diseño y/o funcionamiento del proyecto, evaluando alternativa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a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analizan distintas fuentes de financiamiento y su impacto en los flu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21:26:44Z</dcterms:created>
  <dc:creator>William Wragg L.</dc:creator>
  <dc:description/>
  <dc:language>en-US</dc:language>
  <cp:lastModifiedBy>William</cp:lastModifiedBy>
  <dcterms:modified xsi:type="dcterms:W3CDTF">2007-03-23T16:11:52Z</dcterms:modified>
  <cp:revision>16</cp:revision>
  <dc:subject/>
  <dc:title>CI 52A Métodos Constructivos</dc:title>
</cp:coreProperties>
</file>