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CA8-3429-4212-BBB9-C677BE78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27E-A924-4D1C-997A-BD4D5946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BC6-D6B2-4DF5-A730-5AFE0598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B18-B9FF-47DF-98BE-D5177DC6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25DD-8A0B-4FB8-83B9-A57DAFFD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50CF-4A5B-4050-80A0-55191798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BFB0-3CC6-4383-86C6-F4F77E49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4780-7BF7-4A63-8D99-63DE941D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AECF-4C57-40E5-8668-E77B7CB0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7E5D-12E2-416F-AF92-334F45E9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A211-2080-4F58-8A19-2E25127A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C3A-BB58-46E2-8B0D-D12C6A2B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D729-487C-4EAB-9778-DD3FA20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2846-D72B-4135-A925-3554D561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0CB5-B876-421A-824A-FB2C7BF7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C2E8-AA29-4BCE-999D-F8A66E9E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4887-4E8B-4A08-802A-BB3E1B54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0A1-4707-41DC-9F77-9997877F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400-2251-4B5A-A9DA-6937682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5CD-0934-443A-A50B-BFDCF2B9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2BF-325B-4A8D-8ACD-0BFE5C0F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D82-3A79-439C-B2C8-523E6E08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15B-54F6-4372-BE03-A92EAA4E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A8E-29A8-4136-B5D0-055E538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D341-BEEA-4CC2-9FE2-9987CA767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C4B8-2BCD-4513-B269-08EE38122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FASES DE UN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variables económicas deben ser de una seguridad tal que permitan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demostra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la viabilidad del proye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toma la decisión de proseguir con la realización del proye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consigue el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: Costanera No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timación de flujos vehiculares (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ternativas de constru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superfi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ter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ev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ción de la vida út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ción del costo del pea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BÁS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udios directos (fuentes de información primari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pografía, mecánica de suelos, geología, cl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tación de los deseos del cliente (</a:t>
            </a: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calidad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acción de bases de diseñ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BÁS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DE DIS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Horizonte de diseño: vida út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rmas aplic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erminación de solici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esión y temperatura de funcion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Viento, nieve, mareas, espectro sísm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ÓGICA DE FUNCIO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&amp;ID, diagramas de flujo, uniline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y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alle suficiente para la construcción, determinación de cant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ocumentos princip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Técn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la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emo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Administrativas Generales /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Estructura o Cálc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ormas y refuerzos (hormigón arm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abricación y montaje (estructuras metálic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Arquite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lantas, elevaciones, escantill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especi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ectricidad, instrumentación, piping (isométricos), calefacción y aire acondicionado, alcantarillado y agua potable, ga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alidades deseadas del producto f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ocedimientos de ejec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rmas específicas a cumpl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EETT se redactan para cálculo, arquitectura y especia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zo de construcción (obligatorio o propues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 de pago (anticipo, Estados de Pago periódicos, retencio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ntidad y experiencia de los profesionales a car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rantías de seriedad de la oferta, correcta ejecución, antic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ultas por atraso total o parcial, por no acatamiento de instrucciones, inasistencia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guros de incendio, todo riesgo de construcción, responsabilidad ci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 de presentar las ofer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 de evaluar las ofer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DESARROLLO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637000"/>
            <a:ext cx="558000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NÁLISIS DE FACT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068640"/>
            <a:ext cx="1655640" cy="7207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NTEPROY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(ING. CONC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6000" y="3860640"/>
            <a:ext cx="151128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. BÁ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24360" y="4292640"/>
            <a:ext cx="165564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. DETA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35640" y="5013360"/>
            <a:ext cx="1656000" cy="647640"/>
          </a:xfrm>
          <a:prstGeom prst="rightArrow">
            <a:avLst>
              <a:gd name="adj1" fmla="val 50000"/>
              <a:gd name="adj2" fmla="val 427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XPL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19640" y="4724280"/>
            <a:ext cx="194472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STRU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735120" cy="81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028000" y="5157720"/>
            <a:ext cx="86364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IER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0920" y="4581360"/>
            <a:ext cx="8458200" cy="2209680"/>
            <a:chOff x="250920" y="4581360"/>
            <a:chExt cx="8458200" cy="2209680"/>
          </a:xfrm>
        </p:grpSpPr>
        <p:sp>
          <p:nvSpPr>
            <p:cNvPr id="94" name=""/>
            <p:cNvSpPr/>
            <p:nvPr/>
          </p:nvSpPr>
          <p:spPr>
            <a:xfrm>
              <a:off x="250920" y="6791040"/>
              <a:ext cx="8458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50920" y="4581360"/>
              <a:ext cx="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7240" y="46576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28240" y="6333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2040" y="5343480"/>
              <a:ext cx="1752480" cy="1371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240" y="6486480"/>
              <a:ext cx="403848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0840" y="6181560"/>
              <a:ext cx="2057400" cy="533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TUDIO DE PROY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5516640"/>
            <a:ext cx="399600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068640"/>
            <a:ext cx="2016000" cy="6476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UDIOS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RELIMIN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637000"/>
            <a:ext cx="399564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REPA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860640"/>
            <a:ext cx="1944720" cy="64800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IMACIÓN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E CO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520000" y="3105360"/>
            <a:ext cx="360360" cy="403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5120 h 4032000"/>
              <a:gd name="textAreaBottom" fmla="*/ 392688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51"/>
                </a:lnTo>
                <a:cubicBezTo>
                  <a:pt x="10800" y="9951"/>
                  <a:pt x="5400" y="10851"/>
                  <a:pt x="0" y="10851"/>
                </a:cubicBezTo>
                <a:cubicBezTo>
                  <a:pt x="5400" y="10851"/>
                  <a:pt x="10800" y="11751"/>
                  <a:pt x="10800" y="126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551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FLUJO DE C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551664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lujo de Ca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stos de inversión, operación y cier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costos: impuestos, intere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gresos por explot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erminación del momento óptimo de invers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erminación de la “vida útil”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lujo de Ca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2492280"/>
          <a:ext cx="785628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492280"/>
                    <a:ext cx="78562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39640" y="3716280"/>
            <a:ext cx="82803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5805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erminación de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BNA, TIR o VA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Valor Actual Neto (VAN)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Tasa Interna de Retorno (TIR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npv equation"/>
          <p:cNvPicPr/>
          <p:nvPr/>
        </p:nvPicPr>
        <p:blipFill>
          <a:blip r:embed="rId2"/>
          <a:stretch/>
        </p:blipFill>
        <p:spPr>
          <a:xfrm>
            <a:off x="1619280" y="2087640"/>
            <a:ext cx="5904000" cy="141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76360" y="5661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IR := r t.q. VAN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npv equation"/>
          <p:cNvPicPr/>
          <p:nvPr/>
        </p:nvPicPr>
        <p:blipFill>
          <a:blip r:embed="rId3"/>
          <a:stretch/>
        </p:blipFill>
        <p:spPr>
          <a:xfrm>
            <a:off x="2341440" y="3716280"/>
            <a:ext cx="45356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55800" y="1684080"/>
            <a:ext cx="3632400" cy="4036680"/>
            <a:chOff x="2755800" y="1684080"/>
            <a:chExt cx="3632400" cy="4036680"/>
          </a:xfrm>
        </p:grpSpPr>
        <p:sp>
          <p:nvSpPr>
            <p:cNvPr id="122" name="_s40965"/>
            <p:cNvSpPr/>
            <p:nvPr/>
          </p:nvSpPr>
          <p:spPr>
            <a:xfrm flipH="1" flipV="1">
              <a:off x="3696840" y="3198600"/>
              <a:ext cx="43668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40966"/>
            <p:cNvSpPr/>
            <p:nvPr/>
          </p:nvSpPr>
          <p:spPr>
            <a:xfrm>
              <a:off x="2755800" y="243972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OPORTUN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0967"/>
            <p:cNvSpPr/>
            <p:nvPr/>
          </p:nvSpPr>
          <p:spPr>
            <a:xfrm flipH="1">
              <a:off x="3699000" y="3956040"/>
              <a:ext cx="43632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0968"/>
            <p:cNvSpPr/>
            <p:nvPr/>
          </p:nvSpPr>
          <p:spPr>
            <a:xfrm>
              <a:off x="2755800" y="395424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ANO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OB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0969"/>
            <p:cNvSpPr/>
            <p:nvPr/>
          </p:nvSpPr>
          <p:spPr>
            <a:xfrm>
              <a:off x="4573440" y="4208400"/>
              <a:ext cx="0" cy="502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0970"/>
            <p:cNvSpPr/>
            <p:nvPr/>
          </p:nvSpPr>
          <p:spPr>
            <a:xfrm>
              <a:off x="4067280" y="4711680"/>
              <a:ext cx="1009440" cy="1009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PROVEED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40971"/>
            <p:cNvSpPr/>
            <p:nvPr/>
          </p:nvSpPr>
          <p:spPr>
            <a:xfrm>
              <a:off x="5010120" y="3954240"/>
              <a:ext cx="436680" cy="25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40972"/>
            <p:cNvSpPr/>
            <p:nvPr/>
          </p:nvSpPr>
          <p:spPr>
            <a:xfrm>
              <a:off x="5378400" y="395424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FINANCIA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40973"/>
            <p:cNvSpPr/>
            <p:nvPr/>
          </p:nvSpPr>
          <p:spPr>
            <a:xfrm flipV="1">
              <a:off x="5008680" y="3197160"/>
              <a:ext cx="43632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0974"/>
            <p:cNvSpPr/>
            <p:nvPr/>
          </p:nvSpPr>
          <p:spPr>
            <a:xfrm>
              <a:off x="5378400" y="243972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EDIO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AMBI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0975"/>
            <p:cNvSpPr/>
            <p:nvPr/>
          </p:nvSpPr>
          <p:spPr>
            <a:xfrm flipV="1">
              <a:off x="4572000" y="2693520"/>
              <a:ext cx="0" cy="50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0976"/>
            <p:cNvSpPr/>
            <p:nvPr/>
          </p:nvSpPr>
          <p:spPr>
            <a:xfrm>
              <a:off x="4067280" y="1684080"/>
              <a:ext cx="100944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ERC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0977"/>
            <p:cNvSpPr/>
            <p:nvPr/>
          </p:nvSpPr>
          <p:spPr>
            <a:xfrm>
              <a:off x="4067280" y="3198600"/>
              <a:ext cx="1009440" cy="1009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3366"/>
                  </a:solidFill>
                  <a:latin typeface="Tahoma"/>
                </a:rPr>
                <a:t>ANTE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3366"/>
                  </a:solidFill>
                  <a:latin typeface="Tahoma"/>
                </a:rPr>
                <a:t>PROYE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bién llamada Ingeniería Concep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ase de prepa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copilación de información des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fuentes secundari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(experiencias anteriores) (mercado, alternativas técnicas de producción y capacidad financi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ase de evalu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erminación de la rentab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eparación del flujo de c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ingeniero debe buscar optimizaciones al diseño y/o funcionamiento del proyecto, evaluando alternativa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b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a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analizan distintas fuentes de financiamiento y su impacto en los flu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21:26:44Z</dcterms:created>
  <dc:creator>William Wragg L.</dc:creator>
  <dc:description/>
  <dc:language>en-US</dc:language>
  <cp:lastModifiedBy>William</cp:lastModifiedBy>
  <dcterms:modified xsi:type="dcterms:W3CDTF">2007-03-23T16:11:52Z</dcterms:modified>
  <cp:revision>16</cp:revision>
  <dc:subject/>
  <dc:title>CI 52A Métodos Constructivos</dc:title>
</cp:coreProperties>
</file>