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C9F-873D-4434-9BB5-B3549353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6D3-C4D6-4B0B-8AE1-C5D1FBE8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6E1C-AEB3-46AF-8CD5-BFDC3888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B33-1BC9-4507-B5CC-07A2E674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8C08-98E9-4DFC-A54B-E51F1269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F3D1-E3A3-4113-8FBE-1523C103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A3D4-BD9F-41FD-A8F2-1A7E7127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A8FF-67A4-4E62-B09A-271E2177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EB58-30A2-4624-BD58-FB12B124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EF27-2639-4E0E-9DF9-B53C57AD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6E86-482E-4343-89FE-22BD0D48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14CA-EA18-4B54-8155-8A03590C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ECF8-EB4D-4D42-B8B9-D3FDBBD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9177-02B3-4821-881F-12C0AB49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E2B3-05E9-4E2C-9ECD-CE20021D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9B7B-4399-4A84-8E82-AAB32290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4802-B926-4296-AFDF-977132C4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8E2-BE57-4744-987F-2CF3E0B5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109B-45EF-4549-8777-C137147D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38A-5073-4927-85C9-319E5E42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9F54-0FE5-4B00-8529-7B6188AB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1FB-1BCA-4DE0-92B5-2CEC27D1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41D-1D76-47E5-96BF-FA345837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079-09C5-4D18-9487-7E8B9A02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3C81-7A2B-4CCF-9EBE-A5961983B9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295A-7A76-42D3-B42C-D24D955A34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FASES DE UN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variables económicas deben ser de una seguridad tal que permitan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demostra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la viabilidad del proye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toma la decisión de proseguir con la realización del proyec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consigue el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: Costanera No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timación de flujos vehiculares (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ternativas de construc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superfic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terrán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ev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terminación de la vida út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terminación del costo del pea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BÁS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udios directos (fuentes de información primari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opografía, mecánica de suelos, geología, cli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tación de los deseos del cliente (</a:t>
            </a: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calidad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dacción de bases de diseñ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BÁS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DE DIS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Horizonte de diseño: vida út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rmas aplic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terminación de solici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esión y temperatura de funcion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Viento, nieve, mareas, espectro sísm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ÓGICA DE FUNCION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&amp;ID, diagramas de flujo, uniline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y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alle suficiente para la construcción, determinación de cant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ocumentos princip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Técn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la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pecificaciones técn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emo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ases Administrativas Generales /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Estructura o Cálc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ormas y refuerzos (hormigón arm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Fabricación y montaje (estructuras metálic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Arquitec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lantas, elevaciones, escantill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nos de especi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ectricidad, instrumentación, piping (isométricos), calefacción y aire acondicionado, alcantarillado y agua potable, ga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ecificaciones técn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alidades deseadas del producto f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ocedimientos de ejec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rmas específicas a cumpl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EETT se redactan para cálculo, arquitectura y especial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ses Administra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zo de construcción (obligatorio o propuest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orma de pago (anticipo, Estados de Pago periódicos, retencio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ntidad y experiencia de los profesionales a carg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arantías de seriedad de la oferta, correcta ejecución, antici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INGENIERÍA DE DETAL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ases Administra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ultas por atraso total o parcial, por no acatamiento de instrucciones, inasistencia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guros de incendio, todo riesgo de construcción, responsabilidad civ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orma de presentar las ofer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orma de evaluar las ofer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DESARROLLO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637000"/>
            <a:ext cx="558000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NÁLISIS DE FACT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068640"/>
            <a:ext cx="1655640" cy="72072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NTEPROY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(ING. CONC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16000" y="3860640"/>
            <a:ext cx="151128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. BÁ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24360" y="4292640"/>
            <a:ext cx="165564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G. DETA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35640" y="5013360"/>
            <a:ext cx="1656000" cy="647640"/>
          </a:xfrm>
          <a:prstGeom prst="rightArrow">
            <a:avLst>
              <a:gd name="adj1" fmla="val 50000"/>
              <a:gd name="adj2" fmla="val 4274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XPL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19640" y="4724280"/>
            <a:ext cx="194472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NSTRU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735120" cy="812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028000" y="5157720"/>
            <a:ext cx="86364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IER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0920" y="4581360"/>
            <a:ext cx="8458200" cy="2209680"/>
            <a:chOff x="250920" y="4581360"/>
            <a:chExt cx="8458200" cy="2209680"/>
          </a:xfrm>
        </p:grpSpPr>
        <p:sp>
          <p:nvSpPr>
            <p:cNvPr id="94" name=""/>
            <p:cNvSpPr/>
            <p:nvPr/>
          </p:nvSpPr>
          <p:spPr>
            <a:xfrm>
              <a:off x="250920" y="6791040"/>
              <a:ext cx="8458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50920" y="4581360"/>
              <a:ext cx="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7240" y="46576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28240" y="63338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2040" y="5343480"/>
              <a:ext cx="1752480" cy="1371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240" y="6486480"/>
              <a:ext cx="403848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0840" y="6181560"/>
              <a:ext cx="2057400" cy="533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TUDIO DE PROYEC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5516640"/>
            <a:ext cx="399600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068640"/>
            <a:ext cx="2016000" cy="6476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UDIOS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RELIMIN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637000"/>
            <a:ext cx="3995640" cy="36036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REPA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860640"/>
            <a:ext cx="1944720" cy="64800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STIMACIÓN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E CO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520000" y="3105360"/>
            <a:ext cx="360360" cy="4032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5120 h 4032000"/>
              <a:gd name="textAreaBottom" fmla="*/ 3926880 h 40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51"/>
                </a:lnTo>
                <a:cubicBezTo>
                  <a:pt x="10800" y="9951"/>
                  <a:pt x="5400" y="10851"/>
                  <a:pt x="0" y="10851"/>
                </a:cubicBezTo>
                <a:cubicBezTo>
                  <a:pt x="5400" y="10851"/>
                  <a:pt x="10800" y="11751"/>
                  <a:pt x="10800" y="126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9280" y="551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FLUJO DE C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5516640"/>
            <a:ext cx="504720" cy="360360"/>
          </a:xfrm>
          <a:prstGeom prst="rightArrow">
            <a:avLst>
              <a:gd name="adj1" fmla="val 50000"/>
              <a:gd name="adj2" fmla="val 35015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lujo de Ca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stos de inversión, operación y cier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costos: impuestos, intere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gresos por explot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erminación del momento óptimo de invers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erminación de la “vida útil”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lujo de Caj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2492280"/>
          <a:ext cx="7856280" cy="31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492280"/>
                    <a:ext cx="785628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39640" y="3716280"/>
            <a:ext cx="828036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5805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terminación de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BNA, TIR o VAN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Valor Actual Neto (VAN)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Tasa Interna de Retorno (TIR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npv equation"/>
          <p:cNvPicPr/>
          <p:nvPr/>
        </p:nvPicPr>
        <p:blipFill>
          <a:blip r:embed="rId2"/>
          <a:stretch/>
        </p:blipFill>
        <p:spPr>
          <a:xfrm>
            <a:off x="1619280" y="2087640"/>
            <a:ext cx="5904000" cy="141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76360" y="5661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IR := r t.q. VAN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npv equation"/>
          <p:cNvPicPr/>
          <p:nvPr/>
        </p:nvPicPr>
        <p:blipFill>
          <a:blip r:embed="rId3"/>
          <a:stretch/>
        </p:blipFill>
        <p:spPr>
          <a:xfrm>
            <a:off x="2341440" y="3716280"/>
            <a:ext cx="45356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755800" y="1684080"/>
            <a:ext cx="3632400" cy="4036680"/>
            <a:chOff x="2755800" y="1684080"/>
            <a:chExt cx="3632400" cy="4036680"/>
          </a:xfrm>
        </p:grpSpPr>
        <p:sp>
          <p:nvSpPr>
            <p:cNvPr id="122" name="_s40965"/>
            <p:cNvSpPr/>
            <p:nvPr/>
          </p:nvSpPr>
          <p:spPr>
            <a:xfrm flipH="1" flipV="1">
              <a:off x="3696840" y="3198600"/>
              <a:ext cx="436680" cy="25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40966"/>
            <p:cNvSpPr/>
            <p:nvPr/>
          </p:nvSpPr>
          <p:spPr>
            <a:xfrm>
              <a:off x="2755800" y="243972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OPORTUNIDA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0967"/>
            <p:cNvSpPr/>
            <p:nvPr/>
          </p:nvSpPr>
          <p:spPr>
            <a:xfrm flipH="1">
              <a:off x="3699000" y="3956040"/>
              <a:ext cx="436320" cy="25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0968"/>
            <p:cNvSpPr/>
            <p:nvPr/>
          </p:nvSpPr>
          <p:spPr>
            <a:xfrm>
              <a:off x="2755800" y="395424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ANO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OB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0969"/>
            <p:cNvSpPr/>
            <p:nvPr/>
          </p:nvSpPr>
          <p:spPr>
            <a:xfrm>
              <a:off x="4573440" y="4208400"/>
              <a:ext cx="0" cy="502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40970"/>
            <p:cNvSpPr/>
            <p:nvPr/>
          </p:nvSpPr>
          <p:spPr>
            <a:xfrm>
              <a:off x="4067280" y="4711680"/>
              <a:ext cx="1009440" cy="1009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PROVEEDOR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40971"/>
            <p:cNvSpPr/>
            <p:nvPr/>
          </p:nvSpPr>
          <p:spPr>
            <a:xfrm>
              <a:off x="5010120" y="3954240"/>
              <a:ext cx="436680" cy="250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40972"/>
            <p:cNvSpPr/>
            <p:nvPr/>
          </p:nvSpPr>
          <p:spPr>
            <a:xfrm>
              <a:off x="5378400" y="395424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FINANCIA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40973"/>
            <p:cNvSpPr/>
            <p:nvPr/>
          </p:nvSpPr>
          <p:spPr>
            <a:xfrm flipV="1">
              <a:off x="5008680" y="3197160"/>
              <a:ext cx="436320" cy="25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40974"/>
            <p:cNvSpPr/>
            <p:nvPr/>
          </p:nvSpPr>
          <p:spPr>
            <a:xfrm>
              <a:off x="5378400" y="2439720"/>
              <a:ext cx="100980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EDIO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AMBI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40975"/>
            <p:cNvSpPr/>
            <p:nvPr/>
          </p:nvSpPr>
          <p:spPr>
            <a:xfrm flipV="1">
              <a:off x="4572000" y="2693520"/>
              <a:ext cx="0" cy="504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40976"/>
            <p:cNvSpPr/>
            <p:nvPr/>
          </p:nvSpPr>
          <p:spPr>
            <a:xfrm>
              <a:off x="4067280" y="1684080"/>
              <a:ext cx="1009440" cy="1009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MERC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40977"/>
            <p:cNvSpPr/>
            <p:nvPr/>
          </p:nvSpPr>
          <p:spPr>
            <a:xfrm>
              <a:off x="4067280" y="3198600"/>
              <a:ext cx="1009440" cy="1009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3366"/>
                  </a:solidFill>
                  <a:latin typeface="Tahoma"/>
                </a:rPr>
                <a:t>ANTE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3366"/>
                  </a:solidFill>
                  <a:latin typeface="Tahoma"/>
                </a:rPr>
                <a:t>PROYEC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bién llamada Ingeniería Concep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ase de prepa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copilación de información des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fuentes secundaria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(experiencias anteriores) (mercado, alternativas técnicas de producción y capacidad financi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ase de evalu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terminación de la rentabi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eparación del flujo de ca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ANTE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ingeniero debe buscar optimizaciones al diseño y/o funcionamiento del proyecto, evaluando alternativa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b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ecnolog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a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analizan distintas fuentes de financiamiento y su impacto en los fluj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21:26:44Z</dcterms:created>
  <dc:creator>William Wragg L.</dc:creator>
  <dc:description/>
  <dc:language>en-US</dc:language>
  <cp:lastModifiedBy>William</cp:lastModifiedBy>
  <dcterms:modified xsi:type="dcterms:W3CDTF">2007-03-23T16:11:52Z</dcterms:modified>
  <cp:revision>16</cp:revision>
  <dc:subject/>
  <dc:title>CI 52A Métodos Constructivos</dc:title>
</cp:coreProperties>
</file>