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1B5-C5D2-420D-96D8-202F6588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36F-11AA-413F-B46F-803A2D88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2F9-9E90-467F-81CB-EDACEAEE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4D1-37F1-464E-A3AB-4B12339D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CA3-0CA8-4076-B6DA-A71F6D5A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0B9-F936-4A0B-A244-660EA829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5FA-4BFC-44B1-8647-9A5009BE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2B2-06B8-4D79-94AA-281C21D9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63C-6A96-4CBE-8DE5-91AE70CC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F8B-A6B9-4971-A4F5-01CD7F90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C09-F777-4D84-9ACD-C92DFBF6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B80-1D4C-4309-9663-E748C7E0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0853-9E7D-4B53-86E4-8A104CF5E760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54&amp;Itemid=167" TargetMode="External"/><Relationship Id="rId2" Type="http://schemas.openxmlformats.org/officeDocument/2006/relationships/hyperlink" Target="http://www.concesiones.cl/index.php?option=com_content&amp;task=blogcategory&amp;id=55&amp;Itemid=169" TargetMode="External"/><Relationship Id="rId3" Type="http://schemas.openxmlformats.org/officeDocument/2006/relationships/hyperlink" Target="http://www.concesiones.cl/index.php?option=com_content&amp;task=blogcategory&amp;id=56&amp;Itemid=170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chilecompra.cl/Portal/PortalProveedor/InicioPortal.aspx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76&amp;Itemid=12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oncesiones.cl/index.php?option=com_content&amp;task=blogcategory&amp;id=14&amp;Itemid=87" TargetMode="External"/><Relationship Id="rId3" Type="http://schemas.openxmlformats.org/officeDocument/2006/relationships/hyperlink" Target="http://www.moptt.cl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MOTORES, FINANCIAMIENTO E INCE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RAS EN EXPLO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únel El Mel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topistas (Ruta 5, 68, 78 - Del Sol, Camino De La Mad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eropuertos (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Puerto Mont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Iquique, Concepción, La Serena, Punta Arenas, Cala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rtos (Iquique, San Antonio (2), Valparaíso, San Vicen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alidad Urbana (Acceso Aeropuerto Arturo Merino Beníte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yectos en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uta 5, Tramo Santiago-Talca y Acceso Sur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Acceso Nor Oriente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abilitación Anillo Intermedio, Tramo El Salto –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ino Internacional, Ruta 60 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Corredor de Transporte Público Av. Santa 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vento Vi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istema Oriente - Poniente Tramo 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tera de Proyectos 2007-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nte sobre el Río Maipo – Santa Rita de Pir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errocarril Trasandino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160, Tramo Coronel – Tres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uta 5 Norte, Tramo Domeyko - Caldera, III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elicitación Aeropuerto El Tepual, Puerto Mon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eropuerto Diego Aracena, Iqu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Programa de Infraestructura Penitenciaria, Grup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cceso Vial Aeropuerto Arturo Merino Benít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uevo Aeropuerto IX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5. Tramo Puerto Montt – Par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grama de Infraestructura Penitenciaria Grupo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gundo Programa de Concesiones Aeroportu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o Metropolitano de Vehículos Retirados de Circul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66,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exión Vial Melipilla -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mérico Vespucio Or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tc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EJEMPLOS DE CONCE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sinos (Viña Del Mar, Puerto Varas, Coquimbo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teles (Miramar, Hotel Del M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dificios Institucionales (Codelco Nor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INCENTIVOS PARA INVERTIR EN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FL 2: Menor pago de contrib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uestos de créditos hipotecarios se pueden descontar del Global Complemen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De Don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baja del 75% del IVA en proyectos habita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Navarino (exención de IVA, subsidio a la contratación de mano de ob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bsidios SERVIU (organización de 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BJETIVOS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POLÍTICOS Y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EFICIOS ECONÓMICOS (UTILID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SOCIALES (BENEFICIENC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diputaciondevalladolid.es/imagenes/img_not_prensa/2007/enero/carretera_provincialG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b5481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ISTERIO DE OBRAS PÚBLICAS (M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VI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AEROPU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OO. HIDRAÚL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SERVICIO DE VIVIENDA Y URBANISMO (SERVI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UNICIP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EMPRESA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FUERZAS ARM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>
            <a:hlinkClick r:id="rId2"/>
          </p:cNvPr>
          <p:cNvSpPr/>
          <p:nvPr/>
        </p:nvSpPr>
        <p:spPr>
          <a:xfrm>
            <a:off x="64771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www.chilecompra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Documents and Settings\William\Mis documentos\Mis imágenes\Buenos Aires 2007\Buenos Aires 2007 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INDUST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COMER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HABITACIONAL (INMOBILIARI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TELE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://www.chattanooga.gov/Images_Editor/Finance_Misc_Images/__and_cents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FINANCI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71680" y="1980720"/>
            <a:ext cx="49719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MOBILI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VERSION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RÉDITOS BANC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OPERACIONES MIX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PRESUPUESTO 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ONCE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st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ntrega a un privado la concesión para la explotación de una obra 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cesion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financia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stru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icha obra y a través de su explotación recupera la inver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final del período de explotación la obra pasa a ser propiedad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on qué criterio decide al Est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versión de más de US$5.400 MM en 36 obras concesionadas (US$2.000 MM en construcción, US$3.400 MM explot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s del sistema de concesiones sólo 230km carretera doble v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horro de tiempo, energía. Inversión fiscal se focaliza en proyectos sociales menos rent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ROYECTO CONCESIONADO: </a:t>
            </a:r>
            <a:r>
              <a:rPr b="0" lang="es-ES_tradn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TÚNEL EL MEL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ÉRDIDAS DE COMPETI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gestión Santiag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4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a la fruta en camion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carreteras y desgaste de vehícu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5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Físicos por accident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fectos sobre la salud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3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los puert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Arial"/>
              </a:rPr>
              <a:t>Total MM US$ 1.7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,Bold"/>
              </a:rPr>
              <a:t>Fuente: Cámara Chilena de la Construcción 199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6264000" cy="4809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AutoShape 7">
            <a:hlinkClick r:id="rId2"/>
          </p:cNvPr>
          <p:cNvSpPr/>
          <p:nvPr/>
        </p:nvSpPr>
        <p:spPr>
          <a:xfrm>
            <a:off x="900000" y="39337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Oval 8">
            <a:hlinkClick r:id="rId3"/>
          </p:cNvPr>
          <p:cNvSpPr/>
          <p:nvPr/>
        </p:nvSpPr>
        <p:spPr>
          <a:xfrm>
            <a:off x="6084720" y="1268280"/>
            <a:ext cx="2286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6480" y="493560"/>
            <a:ext cx="91569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51:38Z</dcterms:created>
  <dc:creator>William Wragg L.</dc:creator>
  <dc:description/>
  <dc:language>en-US</dc:language>
  <cp:lastModifiedBy>William</cp:lastModifiedBy>
  <dcterms:modified xsi:type="dcterms:W3CDTF">2007-07-26T13:53:01Z</dcterms:modified>
  <cp:revision>41</cp:revision>
  <dc:subject/>
  <dc:title>CI 52A Métodos Constructivos</dc:title>
</cp:coreProperties>
</file>