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9B3-060C-466B-B7CE-56AA148B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13-5DA4-4DE7-AD6C-4CC454C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596-DA6D-49F7-AD81-522CCAB2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D45-7E31-48F3-91A1-CE037B7D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922-D21F-48A3-BBB8-6058A7E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13D-00BC-4423-BC8E-44294985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7FD-E36D-4743-AA41-3023865E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958-2431-4745-88BE-DB5E6B5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952-AA25-4A7B-ADEE-8DD13C72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071-5BFF-4E93-871C-362DD2A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899-D159-4A17-B5D4-73FAB59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1E1-4424-425C-BD5A-2C4E785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8C4-0A08-422B-8F16-BCCB6184A294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hyperlink" Target="http://www.concesiones.cl/index.php?option=com_content&amp;task=blogcategory&amp;id=55&amp;Itemid=169" TargetMode="External"/><Relationship Id="rId3" Type="http://schemas.openxmlformats.org/officeDocument/2006/relationships/hyperlink" Target="http://www.concesiones.cl/index.php?option=com_content&amp;task=blogcategory&amp;id=56&amp;Itemid=170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ncesiones.cl/index.php?option=com_content&amp;task=blogcategory&amp;id=14&amp;Itemid=87" TargetMode="External"/><Relationship Id="rId3" Type="http://schemas.openxmlformats.org/officeDocument/2006/relationships/hyperlink" Target="http://www.moptt.cl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vento Vi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 Oriente - Poniente Tram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75% del IVA en proyectos habit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explotación recupera la inver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6264000" cy="4809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AutoShape 7">
            <a:hlinkClick r:id="rId2"/>
          </p:cNvPr>
          <p:cNvSpPr/>
          <p:nvPr/>
        </p:nvSpPr>
        <p:spPr>
          <a:xfrm>
            <a:off x="900000" y="39337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8">
            <a:hlinkClick r:id="rId3"/>
          </p:cNvPr>
          <p:cNvSpPr/>
          <p:nvPr/>
        </p:nvSpPr>
        <p:spPr>
          <a:xfrm>
            <a:off x="6084720" y="1268280"/>
            <a:ext cx="2286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07-07-26T13:53:01Z</dcterms:modified>
  <cp:revision>41</cp:revision>
  <dc:subject/>
  <dc:title>CI 52A Métodos Constructivos</dc:title>
</cp:coreProperties>
</file>