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3CA-8D91-452D-B5F0-6C9D1933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579-969E-4EA0-94E6-C6B8A607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18F-2A88-414D-A190-CCA9C4E7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2A6-075D-493C-8A12-25D5E139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A22-4E50-4ADE-B9BC-DA28D8AD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16D-85A6-4B95-AAFB-2874C5F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E94-99F7-49DA-9F5C-9482C5C5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CBF-699A-4B46-A2EC-DBF125FF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8FF-E43E-4628-9870-F74AD9A7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3A9-7FC2-4FCA-944B-A288C2D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B99-4015-4388-9917-B6F1D61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408-AF52-4CDF-B04F-68B76E4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83E7-CA68-4054-BEB5-77DE2069FE8E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hyperlink" Target="http://www.concesiones.cl/index.php?option=com_content&amp;task=blogcategory&amp;id=55&amp;Itemid=169" TargetMode="External"/><Relationship Id="rId3" Type="http://schemas.openxmlformats.org/officeDocument/2006/relationships/hyperlink" Target="http://www.concesiones.cl/index.php?option=com_content&amp;task=blogcategory&amp;id=56&amp;Itemid=170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ncesiones.cl/index.php?option=com_content&amp;task=blogcategory&amp;id=14&amp;Itemid=87" TargetMode="External"/><Relationship Id="rId3" Type="http://schemas.openxmlformats.org/officeDocument/2006/relationships/hyperlink" Target="http://www.moptt.cl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vento Vi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 Oriente - Poniente Tram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75% del IVA en proyectos habit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explotación recupera la inver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6264000" cy="4809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AutoShape 7">
            <a:hlinkClick r:id="rId2"/>
          </p:cNvPr>
          <p:cNvSpPr/>
          <p:nvPr/>
        </p:nvSpPr>
        <p:spPr>
          <a:xfrm>
            <a:off x="900000" y="39337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8">
            <a:hlinkClick r:id="rId3"/>
          </p:cNvPr>
          <p:cNvSpPr/>
          <p:nvPr/>
        </p:nvSpPr>
        <p:spPr>
          <a:xfrm>
            <a:off x="6084720" y="1268280"/>
            <a:ext cx="2286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07-07-26T13:53:01Z</dcterms:modified>
  <cp:revision>41</cp:revision>
  <dc:subject/>
  <dc:title>CI 52A Métodos Constructivos</dc:title>
</cp:coreProperties>
</file>