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7BC8-DCAC-4CFB-AA91-C990BD8E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557-80E3-4070-8FBE-01B00AC4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115-214F-477B-9583-0FE724D4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85D3-97E4-40CC-9412-13494407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547-414E-4908-AEEB-5F315DFD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779-CE9D-43FC-A30A-2FD9D4D4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136-6C38-4F65-83CD-0CBB2AE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F06-D2B5-4259-8F2F-0EA7EEDE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C3C-53DC-472A-AD8D-8DE12E2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B6C-0922-4499-9AC3-B3021015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CAE-D5AE-48FD-8050-C1FB357C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8865-B315-49FC-B2CF-09765B9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9D8-EF9D-43A1-94EE-2D5942158634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54&amp;Itemid=167" TargetMode="External"/><Relationship Id="rId2" Type="http://schemas.openxmlformats.org/officeDocument/2006/relationships/hyperlink" Target="http://www.concesiones.cl/index.php?option=com_content&amp;task=blogcategory&amp;id=55&amp;Itemid=169" TargetMode="External"/><Relationship Id="rId3" Type="http://schemas.openxmlformats.org/officeDocument/2006/relationships/hyperlink" Target="http://www.concesiones.cl/index.php?option=com_content&amp;task=blogcategory&amp;id=56&amp;Itemid=170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chilecompra.cl/Portal/PortalProveedor/InicioPortal.asp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oncesiones.cl/index.php?option=com_content&amp;task=blogcategory&amp;id=76&amp;Itemid=1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concesiones.cl/index.php?option=com_content&amp;task=blogcategory&amp;id=14&amp;Itemid=87" TargetMode="External"/><Relationship Id="rId3" Type="http://schemas.openxmlformats.org/officeDocument/2006/relationships/hyperlink" Target="http://www.moptt.cl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MOTORES, FINANCIAMIENTO E INCEN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RAS EN EXPLO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únel El Mel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utopistas (Ruta 5, 68, 78 - Del Sol, Camino De La Mader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eropuertos (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Puerto Mont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Iquique, Concepción, La Serena, Punta Arenas, Cala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rtos (Iquique, San Antonio (2), Valparaíso, San Vi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alidad Urbana (Acceso Aeropuerto Arturo Merino Benítez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royectos en Construc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Ruta 5, Tramo Santiago-Talca y Acceso Sur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Acceso Nor Oriente a Santiag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abilitación Anillo Intermedio, Tramo El Salto – Kenne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mino Internacional, Ruta 60 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Habilitación Corredor de Transporte Público Av. Santa 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vento Vi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istema Oriente - Poniente Tramo 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rtera de Proyectos 2007-20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uente sobre el Río Maipo – Santa Rita de Pir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errocarril Trasandino Cent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160, Tramo Coronel – Tres Pin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uta 5 Norte, Tramo Domeyko - Caldera, III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ahoma"/>
              </a:rPr>
              <a:t>Relicitación Aeropuerto El Tepual, Puerto Mon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eropuerto Diego Aracena, Iqu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Programa de Infraestructura Penitenciaria, Grupo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licitación Acceso Vial Aeropuerto Arturo Merino Beníte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Nuevo Aeropuerto IX Reg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5. Tramo Puerto Montt – Par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ograma de Infraestructura Penitenciaria Grupo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gundo Programa de Concesiones Aeroportua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o Metropolitano de Vehículos Retirados de Circul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cesión Ruta 66,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exión Vial Melipilla - Camino de la Fr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mérico Vespucio Or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tc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OS EJEMPLOS DE CONCES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sinos (Viña Del Mar, Puerto Varas, Coquimbo, etc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oteles (Miramar, Hotel Del M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dificios Institucionales (Codelco Nort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INCENTIVOS PARA INVERTIR EN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FL 2: Menor pago de contribu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uestos de créditos hipotecarios se pueden descontar del Global Compleme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De Don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baja del 75% del IVA en proyectos habitacion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y Navarino (exención de IVA, subsidio a la contratación de mano de ob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bsidios SERVIU (organización de deman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BJETIVOS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POLÍTICOS Y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FICI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EFICIOS ECONÓMICOS (UTILIDA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OBJETIVOS SOCIALES (BENEFICIENC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diputaciondevalladolid.es/imagenes/img_not_prensa/2007/enero/carretera_provincialG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b5481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ISTERIO DE OBRAS PÚBLICAS (MO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VIAL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AEROPUER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000"/>
                </a:solidFill>
                <a:latin typeface="Calibri"/>
              </a:rPr>
              <a:t>DIRECCIÓN DE OO. HIDRAÚL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SERVICIO DE VIVIENDA Y URBANISMO (SERVI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UNICIPAL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EMPRESA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FUERZAS ARM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Text Box 4">
            <a:hlinkClick r:id="rId2"/>
          </p:cNvPr>
          <p:cNvSpPr/>
          <p:nvPr/>
        </p:nvSpPr>
        <p:spPr>
          <a:xfrm>
            <a:off x="6477120" y="58672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ahoma"/>
              </a:rPr>
              <a:t>www.chilecompra.c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C:\Documents and Settings\William\Mis documentos\Mis imágenes\Buenos Aires 2007\Buenos Aires 2007 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000"/>
                </a:solidFill>
                <a:latin typeface="Tahoma"/>
              </a:rPr>
              <a:t>PROMOTOR DEL PROYEC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000"/>
                </a:solidFill>
                <a:latin typeface="Calibri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MINER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INDUST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COMER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HABITACIONAL (INMOBILIARI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000"/>
                </a:solidFill>
                <a:latin typeface="Calibri"/>
              </a:rPr>
              <a:t>TELECOMUNIC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http://www.chattanooga.gov/Images_Editor/Finance_Misc_Images/__and_cents.jpg"/>
          <p:cNvPicPr/>
          <p:nvPr/>
        </p:nvPicPr>
        <p:blipFill>
          <a:blip r:embed="rId1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ahoma"/>
              </a:rPr>
              <a:t>FINANCI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1680" y="1980720"/>
            <a:ext cx="49719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RIV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MOBILI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INVERSIONIS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RÉDITOS BANC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OPERACIONES MIX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b8ffff"/>
                </a:solidFill>
                <a:latin typeface="Tahoma"/>
              </a:rPr>
              <a:t>SECTOR PÚBL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PRESUPUESTO AN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b8ffff"/>
                </a:solidFill>
                <a:latin typeface="Tahoma"/>
              </a:rPr>
              <a:t>CONCE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Estad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entrega a un privado la concesión para la explotación de una obra públ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cesion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financia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strucció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e dicha obra y a través de su explotación recupera la invers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 final del período de explotación la obra pasa a ser propiedad del est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on qué criterio decide al Estad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BENEFIC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nversión de más de US$5.400 MM en 36 obras concesionadas (US$2.000 MM en construcción, US$3.400 MM explot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s del sistema de concesiones sólo 230km carretera doble v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horro de tiempo, energía. Inversión fiscal se focaliza en proyectos sociales menos rentab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PROYECTO CONCESIONADO: </a:t>
            </a:r>
            <a:r>
              <a:rPr b="0" lang="es-ES_tradn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TÚNEL EL MEL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ÉRDIDAS DE COMPETITIV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gestión Santiago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47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a la fruta en camion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carreteras y desgaste de vehícu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5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años Físicos por accidente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fectos sobre la salud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36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moras en los puert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M US$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1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0000"/>
                </a:solidFill>
                <a:uFillTx/>
                <a:latin typeface="Arial"/>
              </a:rPr>
              <a:t>Total MM US$ 1.7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,Bold"/>
              </a:rPr>
              <a:t>Fuente: Cámara Chilena de la Construcción 199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6264000" cy="4809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NCES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AutoShape 7">
            <a:hlinkClick r:id="rId2"/>
          </p:cNvPr>
          <p:cNvSpPr/>
          <p:nvPr/>
        </p:nvSpPr>
        <p:spPr>
          <a:xfrm>
            <a:off x="900000" y="3933720"/>
            <a:ext cx="1067040" cy="4572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8">
            <a:hlinkClick r:id="rId3"/>
          </p:cNvPr>
          <p:cNvSpPr/>
          <p:nvPr/>
        </p:nvSpPr>
        <p:spPr>
          <a:xfrm>
            <a:off x="6084720" y="1268280"/>
            <a:ext cx="22860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6480" y="493560"/>
            <a:ext cx="9156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51:38Z</dcterms:created>
  <dc:creator>William Wragg L.</dc:creator>
  <dc:description/>
  <dc:language>en-US</dc:language>
  <cp:lastModifiedBy>William</cp:lastModifiedBy>
  <dcterms:modified xsi:type="dcterms:W3CDTF">2007-07-26T13:53:01Z</dcterms:modified>
  <cp:revision>41</cp:revision>
  <dc:subject/>
  <dc:title>CI 52A Métodos Constructivos</dc:title>
</cp:coreProperties>
</file>