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C05-8838-4D1A-80D0-452C122A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8BD-A19A-4119-A661-C54D759A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DA7-E267-423E-8CDA-41FC0163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07C-C476-43D3-9AFA-E7C0CAEE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9F4-2030-4FBE-8723-D6D788EC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73E-33DC-42C8-BB7E-29B813E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DC0-9049-44DD-B6E9-5FE9CE9C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9A6-5D22-4271-9922-7990604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FE4-3599-4035-9C46-6AB23C2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6A6-A4F2-4077-8059-F856B7D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27A-6CD2-476E-A1B0-6D52C88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588-34F8-4432-9C46-6FB919E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B48-5FFD-4D62-8B79-CDD2360C469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hyperlink" Target="http://www.concesiones.cl/index.php?option=com_content&amp;task=blogcategory&amp;id=55&amp;Itemid=169" TargetMode="External"/><Relationship Id="rId3" Type="http://schemas.openxmlformats.org/officeDocument/2006/relationships/hyperlink" Target="http://www.concesiones.cl/index.php?option=com_content&amp;task=blogcategory&amp;id=56&amp;Itemid=170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ncesiones.cl/index.php?option=com_content&amp;task=blogcategory&amp;id=14&amp;Itemid=87" TargetMode="External"/><Relationship Id="rId3" Type="http://schemas.openxmlformats.org/officeDocument/2006/relationships/hyperlink" Target="http://www.moptt.cl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vento Vi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 Oriente - Poniente Tram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75% del IVA en proyectos habit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explotación recupera la inver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6264000" cy="4809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AutoShape 7">
            <a:hlinkClick r:id="rId2"/>
          </p:cNvPr>
          <p:cNvSpPr/>
          <p:nvPr/>
        </p:nvSpPr>
        <p:spPr>
          <a:xfrm>
            <a:off x="900000" y="39337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8">
            <a:hlinkClick r:id="rId3"/>
          </p:cNvPr>
          <p:cNvSpPr/>
          <p:nvPr/>
        </p:nvSpPr>
        <p:spPr>
          <a:xfrm>
            <a:off x="6084720" y="1268280"/>
            <a:ext cx="2286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07-07-26T13:53:01Z</dcterms:modified>
  <cp:revision>41</cp:revision>
  <dc:subject/>
  <dc:title>CI 52A Métodos Constructivos</dc:title>
</cp:coreProperties>
</file>