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D63-F6A4-4071-BD2D-BF35C82D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C32-F0EC-458A-AD20-F6EF23C3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FAA-F73B-4717-8545-D05488B6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2E5-A973-4349-8F68-19621A5F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EF9-35C5-46E1-BFDD-9C13EEC1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926-B1D0-4B4C-836C-BB484DB2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069-E55D-489E-9774-E853E126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445-8B3D-4E79-96D4-97362BD6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6D4-9BF4-4093-90B5-DB033FA2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5E0-34DF-4E50-A4AC-771CD480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E82-CEEA-4C0C-A60F-B36F78F0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E70-4826-4CA9-91F8-8E933EA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C73A-AB13-4E93-B240-1AB4CDF6026C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wwragg@socovesa.c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, SOBRE LA CONSTRUCCIÓN DE CUALQUIER PROYECTO ABARCANDO LOS TEMAS DEL CURSO (UN INFORME POR CAPÍTUL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INGENIEROS INVITADOS: Construcción de túneles, costo de operación de maquinarias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OPORTUN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0" y="1600200"/>
          <a:ext cx="855180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55180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NUEVOS CONCEPTOS EN LA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AN CO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ESTIÓN DE LA CALIDAD (ISO 9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RAS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LOMB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INO UN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: Socovesa Ingeniería y Construcciones S.A., Jefe Departamento de Desarrol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</a:t>
            </a:r>
            <a:r>
              <a:rPr b="0" lang="es-C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ragg@socovesa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GESTACIÓN DE OB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RABAJOS PRELIMINA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LANIFICACIÓN Y CONTROL EN LA CONSTR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OVIMIENTO DE TIER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AQUINARIAS DE CONST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OBRAS HORMIGÓN ARMADO: Fierro, Moldaje, Hormig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RAS ACERO – MONTAJE Y PIP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TR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SECCIONES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OBRAS SIMI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ESTUDIO DE MODE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SELECCIÓN DE EQUIP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5 EQUIPOS ESPE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6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7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8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9 PROGRAMA EQUIPOS, MANO DE OBRA Y FINANCI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0 PRESUPUESTO Y RENDIMI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1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2 ORGANIZACIÓN DE LA FA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OVIMIENTO DE TIER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3 EXCAVACIÓN A MA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MAQUINARIAS (EXCAVACIÓN, CARGUÍO Y TRANSPORT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COMPACT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SOSTENIMIE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OBRA GRUE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HORMIG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ABR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 Y ENSAY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FIER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ARRAS Y MALL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OBLADO Y 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ES Y ENSAY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MOLDA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IP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</cp:lastModifiedBy>
  <dcterms:modified xsi:type="dcterms:W3CDTF">2007-07-24T13:46:07Z</dcterms:modified>
  <cp:revision>16</cp:revision>
  <dc:subject/>
  <dc:title>CI 52A Métodos Constructivos</dc:title>
</cp:coreProperties>
</file>