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8324-9B05-443E-A94E-F288735F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46E-863E-4EA6-A380-0F3D3513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67D-A614-428E-BA96-2F31465A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187-CDB6-42A9-B3E6-AC77DC4A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202F-8024-4695-9F8C-A64392AD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A22-6B44-4DBF-BEE3-9E4087DD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E8B-3846-44F8-9435-4BDD027C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D65-85AE-4DF7-A10A-C961F17C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3E8-9521-4C9B-A57C-89F2F22B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C45-2685-4601-8A11-C88A0C58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4FE-A63A-4B64-84B6-CC2617A7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166-592F-4D97-8438-15CA3F4C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DB5D-D884-4C8A-B3F6-E83415794DEF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wwragg@socovesa.c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TRAS ACTIV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BAJO EN GRUPOS, SOBRE LA CONSTRUCCIÓN DE CUALQUIER PROYECTO ABARCANDO LOS TEMAS DEL CURSO (UN INFORME POR CAPÍTUL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HARLAS POR INGENIEROS INVITADOS: Construcción de túneles, costo de operación de maquinarias, otras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Image1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4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PROYECTO DE CONSTRUCCIÓN?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INGENIERÍA DE CONSTRUCCIÓ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OPORTUN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0" y="1600200"/>
          <a:ext cx="855180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855180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NUEVOS CONCEPTOS EN LA CONSTRUC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AN CO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ESTIÓN DE LA CALIDAD (ISO 90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RAS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LOMB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EINO UNI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Datos profes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ombre: William Wragg Lar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fesión: Ingeniero Civil U. de 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bajo: Socovesa Ingeniería y Construcciones S.A., Jefe Departamento de Desarrol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rreo electrónico: </a:t>
            </a:r>
            <a:r>
              <a:rPr b="0" lang="es-CL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wwragg@socovesa.c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GRAMA D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PÍTU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ítulo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GESTACIÓN DE OB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TRABAJOS PRELIMINA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LANIFICACIÓN Y CONTROL EN LA CONSTR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ítulo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OVIMIENTO DE TIER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AQUINARIAS DE CONST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ítulo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OBRAS HORMIGÓN ARMADO: Fierro, Moldaje, Hormig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BRAS ACERO – MONTAJE Y PIP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TR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1 GESTACIÓN DE OBR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1 ORIGEN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2 FINAN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3 ANTE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4 INGENIERÍA BÁ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5 INGENIERÍA DE DETA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6 INGENIERÍA DE CONSTR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2 TRABAJOS PRELIMINA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1 GE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2 TOP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3 CL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4 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5 TRANS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6 MANO DE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7 CONDICIONES ECONÓ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8 SERVICIO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9 RELACIONE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3 PLANIFICACIÓN Y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 SECCIONES DE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2 OBRAS SIMIL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3 ESTUDIO DE MODEL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4 SELECCIÓN DE EQUIP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5 EQUIPOS ESPE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6 INSTALACIÓN DE FAENAS Y OBRAS ANEX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7 PLANO DE DISTRIBU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8 PROGRAMA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9 PROGRAMA EQUIPOS, MANO DE OBRA Y FINANCIE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0 PRESUPUESTO Y RENDIMIE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1 CONTROL DE AVANCE, COSTO, REND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2 ORGANIZACIÓN DE LA FA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2 MOVIMIENTO DE TIERR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1.1 GENERALIDAD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1.2 ESPONJAMI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1.3 EXCAVACIÓN A MA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1 MAQUINARIAS (EXCAVACIÓN, CARGUÍO Y TRANSPORT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2 COMPACT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3 SOSTENIMIENT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3 OBRA GRUE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1 HORMIG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FABR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LO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 Y RENDIMIEN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NTROL Y ENSAY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FIER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BARRAS Y MALL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DOBLADO Y COLO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 Y RENDIMI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NTROLES Y ENSAY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3 MOLDA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IP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LO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 Y RENDIMI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17:27Z</dcterms:created>
  <dc:creator>William Wragg L.</dc:creator>
  <dc:description/>
  <dc:language>en-US</dc:language>
  <cp:lastModifiedBy>William</cp:lastModifiedBy>
  <dcterms:modified xsi:type="dcterms:W3CDTF">2007-07-24T13:46:07Z</dcterms:modified>
  <cp:revision>16</cp:revision>
  <dc:subject/>
  <dc:title>CI 52A Métodos Constructivos</dc:title>
</cp:coreProperties>
</file>