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D9048C-E2EC-4359-AAD2-618D77D6BF5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5F92B-6E17-4AF2-8F7B-56ECEE67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F5B7CF-8EC5-41E2-939F-BCCDEADEBA3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98108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4130640"/>
            <a:ext cx="264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063A7-BB06-424E-9105-4C55F58E3D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682A30-B359-4903-BA02-D7D4487A1B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093916-E90A-4332-93EE-111C9AEBA7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EB0A96-760D-4FA1-9582-576F98B91E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D5D788-89CB-4232-ABC4-BCDA551FFB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380880"/>
            <a:ext cx="8229600" cy="635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414147-1CC9-4E2B-A94E-9893C5C8D3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5CA557-C280-4C3C-B2EC-8D745E0BBA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413064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C70E84-78F6-4141-B0E1-4AFB14E6F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981080"/>
            <a:ext cx="4015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4130640"/>
            <a:ext cx="8229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2AF815-4C01-41AC-B4D2-33082C66CD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5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CL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C5F037-5193-4873-ACCB-146B40A16725}" type="slidenum">
              <a:rPr b="0" lang="es-CL" sz="14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hyperlink" Target="mailto:wwragg@socovesa.cl" TargetMode="External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ESENTA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OTRAS ACTIV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TRABAJO EN GRUPOS, SOBRE LA CONSTRUCCIÓN DE CUALQUIER PROYECTO ABARCANDO LOS TEMAS DEL CURSO (UN INFORME POR CAPÍTULO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32640" indent="-33264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CHARLAS POR INGENIEROS INVITADOS: Construcción de túneles, costo de operación de maquinarias, otras.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1" name="Picture 5" descr="Image14"/>
          <p:cNvPicPr/>
          <p:nvPr/>
        </p:nvPicPr>
        <p:blipFill>
          <a:blip r:embed="rId1"/>
          <a:stretch/>
        </p:blipFill>
        <p:spPr>
          <a:xfrm>
            <a:off x="0" y="6480"/>
            <a:ext cx="9144000" cy="6845040"/>
          </a:xfrm>
          <a:prstGeom prst="rect">
            <a:avLst/>
          </a:prstGeom>
          <a:ln w="0">
            <a:noFill/>
          </a:ln>
        </p:spPr>
      </p:pic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544212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PROYECTO DE CONSTRUCCIÓN?</a:t>
            </a:r>
            <a:br>
              <a:rPr sz="4000"/>
            </a:br>
            <a:r>
              <a:rPr b="0" lang="es-CL" sz="4000" spc="-1" strike="noStrike">
                <a:solidFill>
                  <a:srgbClr val="e5ffff"/>
                </a:solidFill>
                <a:latin typeface="Tahoma"/>
              </a:rPr>
              <a:t>¿INGENIERÍA DE CONSTRUCCIÓN?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4400" spc="-1" strike="noStrike">
                <a:solidFill>
                  <a:srgbClr val="e5ffff"/>
                </a:solidFill>
                <a:latin typeface="Tahoma"/>
              </a:rPr>
              <a:t>OPORTUNIDAD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graphicFrame>
        <p:nvGraphicFramePr>
          <p:cNvPr id="64" name="Object 4"/>
          <p:cNvGraphicFramePr/>
          <p:nvPr/>
        </p:nvGraphicFramePr>
        <p:xfrm>
          <a:off x="0" y="1600200"/>
          <a:ext cx="8551800" cy="46688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5" name="Object 4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0" y="1600200"/>
                    <a:ext cx="8551800" cy="46688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000" spc="-1" strike="noStrike">
                <a:solidFill>
                  <a:srgbClr val="e5ffff"/>
                </a:solidFill>
                <a:latin typeface="Tahoma"/>
              </a:rPr>
              <a:t>NUEVOS CONCEPTOS EN LA CONSTRUCCIÓN</a:t>
            </a:r>
            <a:endParaRPr b="0" lang="en-US" sz="40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4543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LEAN COSTRUCTIO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BENCHMARKING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GESTIÓN DE LA CALIDAD (ISO 9000)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EJEMPLO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BRASI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OLOMBI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HIL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REINO UNID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4400" spc="-1" strike="noStrike">
                <a:solidFill>
                  <a:srgbClr val="e5ffff"/>
                </a:solidFill>
                <a:latin typeface="Tahoma"/>
              </a:rPr>
              <a:t>Datos profesor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Nombre: William Wragg Larc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Profesión: Ingeniero Civil U. de Chi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Trabajo: Socovesa Ingeniería y Construcciones S.A., Jefe Departamento de Desarrollo.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799"/>
              </a:spcBef>
              <a:buClr>
                <a:srgbClr val="00cc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3200" spc="-1" strike="noStrike">
                <a:solidFill>
                  <a:srgbClr val="ffffff"/>
                </a:solidFill>
                <a:latin typeface="Tahoma"/>
              </a:rPr>
              <a:t>Correo electrónico: </a:t>
            </a:r>
            <a:r>
              <a:rPr b="0" lang="es-CL" sz="3200" spc="-1" strike="noStrike" u="sng">
                <a:solidFill>
                  <a:srgbClr val="00ccff"/>
                </a:solidFill>
                <a:uFillTx/>
                <a:latin typeface="Tahoma"/>
                <a:hlinkClick r:id="rId1"/>
              </a:rPr>
              <a:t>wwragg@socovesa.c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1676520"/>
            <a:ext cx="7772400" cy="1828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I 52A</a:t>
            </a:r>
            <a:br>
              <a:rPr sz="4400"/>
            </a:b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Métodos Constructiv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PROGRAMA DEL CURS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CAPÍTULO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1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GESTACIÓN DE OB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TRABAJOS PRELIMINAR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PLANIFICACIÓN Y CONTROL EN LA CONSTR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2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OVIMIENTO DE TIERRA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MAQUINARIAS DE CONSTUCCIÓ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609480" indent="-609480">
              <a:lnSpc>
                <a:spcPct val="90000"/>
              </a:lnSpc>
              <a:spcBef>
                <a:spcPts val="601"/>
              </a:spcBef>
              <a:buClr>
                <a:srgbClr val="00ccff"/>
              </a:buClr>
              <a:buSzPct val="65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Capítulo 3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OBRAS HORMIGÓN ARMADO: Fierro, Moldaje, Hormigón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BRAS ACERO – MONTAJE Y PIPING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990720" indent="-533520">
              <a:lnSpc>
                <a:spcPct val="90000"/>
              </a:lnSpc>
              <a:spcBef>
                <a:spcPts val="499"/>
              </a:spcBef>
              <a:buClr>
                <a:srgbClr val="ffcc00"/>
              </a:buClr>
              <a:buSzPct val="65000"/>
              <a:buFont typeface="Tahom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CL" sz="2000" spc="-1" strike="noStrike">
                <a:solidFill>
                  <a:srgbClr val="ffffff"/>
                </a:solidFill>
                <a:latin typeface="Tahoma"/>
              </a:rPr>
              <a:t>OTRA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1 GESTACIÓN DE OB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1 ORIGEN DEL 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2 FINANCIAMIEN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3 ANTEPROYECT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4 INGENIERÍA BÁSIC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5 INGENIERÍA DE DETALL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200" spc="-1" strike="noStrike">
                <a:solidFill>
                  <a:srgbClr val="ffffff"/>
                </a:solidFill>
                <a:latin typeface="Tahoma"/>
              </a:rPr>
              <a:t>1.1.6 INGENIERÍA DE CONSTRUCCIÓ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1.2 TRABAJOS PRELIMINARE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1 GEOLO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2 TOPOGRAF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3 CLIM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4 ENERGÍ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5 TRANSPORT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6 MANO DE OBRA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7 CONDICIONES ECONÓM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8 SERVICIOS SOCIA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6094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1.2.9 RELACIONES PÚBLICA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PLANIFICACIÓN Y CONTROL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 SECCIONES DE OBR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2 OBRAS SIMILAR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3 ESTUDIO DE MODEL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4 SELECCIÓN DE EQUIP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5 EQUIPOS ESPECI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6 INSTALACIÓN DE FAENAS Y OBRAS ANEX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7 PLANO DE DISTRIBU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8 PROGRAMA DE TRABAJ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9 PROGRAMA EQUIPOS, MANO DE OBRA Y FINANCIER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0 PRESUPUESTO Y RENDIMIENT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1 CONTROL DE AVANCE, COSTO, RENDIMIENT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400" spc="-1" strike="noStrike">
                <a:solidFill>
                  <a:srgbClr val="ffffff"/>
                </a:solidFill>
                <a:latin typeface="Tahoma"/>
              </a:rPr>
              <a:t>1.3.12 ORGANIZACIÓN DE LA FAENA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2 MOVIMIENTO DE TIERRAS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1000"/>
          </a:bodyPr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1 GENERALIDADE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2 ESPONJAMIENT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1.3 EXCAVACIÓN A MANO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1 MAQUINARIAS (EXCAVACIÓN, CARGUÍO Y TRANSPORTE)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2 COMPACTACIÓN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  <a:p>
            <a:pPr marL="312120" indent="0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3600" spc="-1" strike="noStrike">
                <a:solidFill>
                  <a:srgbClr val="ffffff"/>
                </a:solidFill>
                <a:latin typeface="Tahoma"/>
              </a:rPr>
              <a:t>2.2.3 SOSTENIMIENTOS</a:t>
            </a:r>
            <a:endParaRPr b="0" lang="en-US" sz="3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380880"/>
            <a:ext cx="8229600" cy="13716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4400" spc="-1" strike="noStrike">
                <a:solidFill>
                  <a:srgbClr val="e5ffff"/>
                </a:solidFill>
                <a:latin typeface="Tahoma"/>
              </a:rPr>
              <a:t>3 OBRA GRUESA</a:t>
            </a:r>
            <a:endParaRPr b="0" lang="en-US" sz="4400" spc="-1" strike="noStrike">
              <a:solidFill>
                <a:srgbClr val="e5ffff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1 HORMIGÓ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FABRI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2 FIERRO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BARRAS Y MALLA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DOBLADO Y 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NTROLES Y ENSAYE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800" spc="-1" strike="noStrike">
                <a:solidFill>
                  <a:srgbClr val="ffffff"/>
                </a:solidFill>
                <a:latin typeface="Tahoma"/>
              </a:rPr>
              <a:t>3.3 MOLDAJ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TIP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LOCACIÓN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80000"/>
              </a:lnSpc>
              <a:spcBef>
                <a:spcPts val="400"/>
              </a:spcBef>
              <a:buClr>
                <a:srgbClr val="ffcc00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600" spc="-1" strike="noStrike">
                <a:solidFill>
                  <a:srgbClr val="ffffff"/>
                </a:solidFill>
                <a:latin typeface="Tahoma"/>
              </a:rPr>
              <a:t>COSTOS Y RENDIMIENTOS</a:t>
            </a:r>
            <a:endParaRPr b="0" lang="en-US" sz="16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7-27T20:17:27Z</dcterms:created>
  <dc:creator>William Wragg L.</dc:creator>
  <dc:description/>
  <dc:language>en-US</dc:language>
  <cp:lastModifiedBy>William</cp:lastModifiedBy>
  <dcterms:modified xsi:type="dcterms:W3CDTF">2007-07-24T13:46:07Z</dcterms:modified>
  <cp:revision>16</cp:revision>
  <dc:subject/>
  <dc:title>CI 52A Métodos Constructivos</dc:title>
</cp:coreProperties>
</file>