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CA2-80A3-4D7D-B278-0295D122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1F2-092B-4EF6-832D-B692D75A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F51-C25C-4CFC-A9B2-DEB66FA4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3FA-3555-46A3-BA81-93DA4352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DB1-A7E2-435D-AA76-12E31BF6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05F-2B69-4A73-8392-572A2AA5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775-00D3-425B-8E9F-A061AB86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B15-4F4A-44FD-B3CE-AF86E9BF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EDD-E592-49AA-AFFD-844A8BE3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37C-5CDC-4F1C-82B6-549B01B4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216-EB07-4512-99E9-49534B06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660-5134-430A-B5D8-E380F2BF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228A-D975-45B7-869B-973ABEF0DF4D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wwragg@socovesa.c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, SOBRE LA CONSTRUCCIÓN DE CUALQUIER PROYECTO ABARCANDO LOS TEMAS DEL CURSO (UN INFORME POR CAPÍTUL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INGENIEROS INVITADOS: Construcción de túneles, costo de operación de maquinarias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OPORTUN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0" y="1600200"/>
          <a:ext cx="855180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55180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NUEVOS CONCEPTOS EN LA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AN CO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ESTIÓN DE LA CALIDAD (ISO 9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RAS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LOMB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INO UN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: Socovesa Ingeniería y Construcciones S.A., Jefe Departamento de Desarro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</a:t>
            </a:r>
            <a:r>
              <a:rPr b="0" lang="es-C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ragg@socovesa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GESTACIÓN DE OB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RABAJOS PRELIMIN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LANIFICACIÓN Y CONTROL EN LA CONSTR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VIMIENTO DE TIER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AQUINARIAS DE CONST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OBRAS HORMIGÓN ARMADO: Fierro, Moldaje, Hormig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RAS ACERO – MONTAJE Y PIP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TR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SECCIONES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OBRAS SIMI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ESTUDIO DE MODE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SELECCIÓN DE EQUI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5 EQUIPOS ESPE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6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7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8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9 PROGRAMA EQUIPOS, MANO DE OBRA Y FINANCI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0 PRESUPUESTO Y RENDIMI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1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2 ORGANIZACIÓN DE LA FA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OVIMIENTO DE TIER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3 EXCAVACIÓN A MA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MAQUINARIAS (EXCAVACIÓN, CARGUÍO Y TRANSPORT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COMPACT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SOSTEN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OBRA GRUE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HORMIG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ABR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 Y ENSAY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FIER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ARRAS Y MALL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OBLADO Y 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ES Y ENSAY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MOLDA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IP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</cp:lastModifiedBy>
  <dcterms:modified xsi:type="dcterms:W3CDTF">2007-07-24T13:46:07Z</dcterms:modified>
  <cp:revision>16</cp:revision>
  <dc:subject/>
  <dc:title>CI 52A Métodos Constructivos</dc:title>
</cp:coreProperties>
</file>