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983E-D163-490F-AEDE-29151980B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4459-402A-4C64-87FE-931D678B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029F-898E-42B9-9CF2-265971FF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C380-F736-4463-B332-BCA0410F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A465-D4CE-4F3F-8622-8A5873FB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ED36-74CE-4268-B584-83C31512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2C9F-4415-41A2-B309-3B6EB689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72B0-7350-4AE5-B96F-A03F5A10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1C65-344F-4770-BED1-47797178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0FF8-AC9D-4A3E-ADB8-C08D8A57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31A6-B34E-4D47-9928-DC53ADC8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F963-C21E-4D55-962B-6335657D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D449-C369-4B76-AE63-E8C99B82AF81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wwragg@socovesa.c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ESEN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OTRAS ACTIVIDAD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RABAJO EN GRUPOS, SOBRE LA CONSTRUCCIÓN DE CUALQUIER PROYECTO ABARCANDO LOS TEMAS DEL CURSO (UN INFORME POR CAPÍTUL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HARLAS POR INGENIEROS INVITADOS: Construcción de túneles, costo de operación de maquinarias, otras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Image14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442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¿PROYECTO DE CONSTRUCCIÓN?</a:t>
            </a:r>
            <a:br>
              <a:rPr sz="4000"/>
            </a:b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¿INGENIERÍA DE CONSTRUCCIÓN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OPORTUNIDAD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0" y="1600200"/>
          <a:ext cx="855180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855180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NUEVOS CONCEPTOS EN LA CONSTRUCCIÓ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EAN COSTR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GESTIÓN DE LA CALIDAD (ISO 900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JEMPL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BRAS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OLOMB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H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REINO UNI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Datos profeso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Nombre: William Wragg Lar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rofesión: Ingeniero Civil U. de Ch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rabajo: Socovesa Ingeniería y Construcciones S.A., Jefe Departamento de Desarrol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orreo electrónico: </a:t>
            </a:r>
            <a:r>
              <a:rPr b="0" lang="es-CL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wwragg@socovesa.c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GRAMA DEL CUR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APÍTUL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pítulo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GESTACIÓN DE OBR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TRABAJOS PRELIMINA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LANIFICACIÓN Y CONTROL EN LA CONSTRU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pítulo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MOVIMIENTO DE TIERR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MAQUINARIAS DE CONSTU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pítulo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OBRAS HORMIGÓN ARMADO: Fierro, Moldaje, Hormig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BRAS ACERO – MONTAJE Y PIP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TR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1.1 GESTACIÓN DE OBR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1 ORIGEN DEL 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2 FINANCI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3 ANTE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4 INGENIERÍA BÁS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5 INGENIERÍA DE DETAL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6 INGENIERÍA DE CONSTRUC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1.2 TRABAJOS PRELIMINA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1 GEOLO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2 TOPOGRAF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3 CL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4 ENER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5 TRANSPOR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6 MANO DE OB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7 CONDICIONES ECONÓM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8 SERVICIOS SO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9 RELACIONES PÚBL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3 PLANIFICACIÓN Y CONTRO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1 SECCIONES DE OB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2 OBRAS SIMILA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3 ESTUDIO DE MODEL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4 SELECCIÓN DE EQUIP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5 EQUIPOS ESPECI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6 INSTALACIÓN DE FAENAS Y OBRAS ANEX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7 PLANO DE DISTRIBU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8 PROGRAMA DE TRABAJ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9 PROGRAMA EQUIPOS, MANO DE OBRA Y FINANCIE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10 PRESUPUESTO Y RENDIMIEN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11 CONTROL DE AVANCE, COSTO, RENDI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12 ORGANIZACIÓN DE LA FA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2 MOVIMIENTO DE TIERR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1.1 GENERALIDAD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1.2 ESPONJAMIEN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1.3 EXCAVACIÓN A MAN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1 MAQUINARIAS (EXCAVACIÓN, CARGUÍO Y TRANSPORT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2 COMPACTA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3 SOSTENIMIENT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3 OBRA GRUES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1 HORMIG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FABRI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LO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STOS Y RENDIMIEN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NTROL Y ENSAY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2 FIER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BARRAS Y MALL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DOBLADO Y COLO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STOS Y RENDIMIEN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NTROLES Y ENSAY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3 MOLDA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TIP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LO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STOS Y RENDIMIEN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7T20:17:27Z</dcterms:created>
  <dc:creator>William Wragg L.</dc:creator>
  <dc:description/>
  <dc:language>en-US</dc:language>
  <cp:lastModifiedBy>William</cp:lastModifiedBy>
  <dcterms:modified xsi:type="dcterms:W3CDTF">2007-07-24T13:46:07Z</dcterms:modified>
  <cp:revision>16</cp:revision>
  <dc:subject/>
  <dc:title>CI 52A Métodos Constructivos</dc:title>
</cp:coreProperties>
</file>