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D21-F04E-47CF-89EA-E5F454FF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EAE-00FD-4FEC-A685-126F371F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C79-BD05-4493-9E7E-DE018F8F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225-61D8-4273-B47B-797DA00A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240-D539-46B5-9F69-35E10453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C57-B784-4DD1-AE50-ACC2E41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CFC-24FD-497E-B11B-8038F532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268-38EC-4FF9-AB87-78949C3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E79-25CF-45F8-9A68-848D276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06D-E904-444F-8664-3F4E026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9D5-AD19-4462-8207-58EE239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6AC-B7CF-467B-A936-002B811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62A-CEA7-4895-AA55-B3ACA850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ICROBIOLOGÍA DEL AGUA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Tema II: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Verdana"/>
              </a:rPr>
              <a:t>Desinfección y Re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 Narrow"/>
              </a:rPr>
              <a:t>Gabriela Castillo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991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414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640" y="18288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Times New Roman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648320"/>
            <a:ext cx="2361960" cy="1904760"/>
            <a:chOff x="228600" y="4648320"/>
            <a:chExt cx="2361960" cy="1904760"/>
          </a:xfrm>
        </p:grpSpPr>
        <p:sp>
          <p:nvSpPr>
            <p:cNvPr id="47" name=""/>
            <p:cNvSpPr/>
            <p:nvPr/>
          </p:nvSpPr>
          <p:spPr>
            <a:xfrm>
              <a:off x="228600" y="4970880"/>
              <a:ext cx="1216440" cy="54468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40" y="6073560"/>
              <a:ext cx="2351520" cy="4795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3960" y="5397120"/>
              <a:ext cx="888840" cy="89676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0440" y="5599440"/>
              <a:ext cx="933120" cy="524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960" y="5461200"/>
              <a:ext cx="942840" cy="70020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" y="4678560"/>
              <a:ext cx="2247840" cy="143172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5880" y="4648320"/>
              <a:ext cx="2297520" cy="156636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2720" y="5142600"/>
              <a:ext cx="172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880" y="4989240"/>
              <a:ext cx="860760" cy="50112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8120" y="5154840"/>
              <a:ext cx="39960" cy="5004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5173200"/>
              <a:ext cx="193320" cy="2606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1120" y="5436360"/>
              <a:ext cx="249480" cy="2174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8240" y="5438520"/>
              <a:ext cx="406800" cy="86400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4440" y="5535360"/>
              <a:ext cx="350280" cy="71100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27760" y="5874480"/>
              <a:ext cx="128520" cy="42156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160" y="5931000"/>
              <a:ext cx="76320" cy="31752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9320" y="6150600"/>
              <a:ext cx="66960" cy="835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8240" y="6125760"/>
              <a:ext cx="100800" cy="19332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8840" y="6238800"/>
              <a:ext cx="154080" cy="14544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74280" y="6255000"/>
              <a:ext cx="72360" cy="38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35360" y="6255000"/>
              <a:ext cx="179640" cy="10620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6480" y="6261480"/>
              <a:ext cx="69480" cy="453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38240" y="6269400"/>
              <a:ext cx="177120" cy="518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7400" y="6291000"/>
              <a:ext cx="97920" cy="554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26480" y="6294240"/>
              <a:ext cx="64080" cy="3996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5520" y="6302880"/>
              <a:ext cx="64440" cy="662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0760" y="6307200"/>
              <a:ext cx="259200" cy="74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7880" y="6313680"/>
              <a:ext cx="209520" cy="6840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26160" y="6316920"/>
              <a:ext cx="92880" cy="5616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6336360"/>
              <a:ext cx="206640" cy="8460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360" y="6341040"/>
              <a:ext cx="53280" cy="43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4760" y="6391080"/>
              <a:ext cx="95040" cy="41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8840" y="6137640"/>
              <a:ext cx="421560" cy="3564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600" y="6141960"/>
              <a:ext cx="1023120" cy="32796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3280" y="6166800"/>
              <a:ext cx="409320" cy="34668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9360" y="6175440"/>
              <a:ext cx="677880" cy="32508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8240" y="6180120"/>
              <a:ext cx="794520" cy="34992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12360" y="6189840"/>
              <a:ext cx="753120" cy="29448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760" y="6202800"/>
              <a:ext cx="592200" cy="28152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360" y="6382080"/>
              <a:ext cx="85680" cy="5004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1240" y="6391080"/>
              <a:ext cx="111240" cy="4752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9040" y="6402960"/>
              <a:ext cx="342360" cy="6948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7920" y="6423480"/>
              <a:ext cx="269640" cy="6948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0160" y="6484320"/>
              <a:ext cx="201240" cy="4104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1280" y="5063400"/>
              <a:ext cx="148680" cy="37692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440" y="5077800"/>
              <a:ext cx="147600" cy="367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200" y="5097960"/>
              <a:ext cx="128880" cy="3150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560" y="5109120"/>
              <a:ext cx="135360" cy="30888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800" y="5117760"/>
              <a:ext cx="136800" cy="29556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400" y="5138640"/>
              <a:ext cx="114120" cy="27468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200" y="5200560"/>
              <a:ext cx="80280" cy="18360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71720" y="5011200"/>
              <a:ext cx="190440" cy="8460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0000" y="5029920"/>
              <a:ext cx="123120" cy="3902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7440" y="5029920"/>
              <a:ext cx="214560" cy="15408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560" y="5048280"/>
              <a:ext cx="195840" cy="2170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7600" y="5073120"/>
              <a:ext cx="156960" cy="25632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8680" y="5083920"/>
              <a:ext cx="90000" cy="32148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1240" y="5104800"/>
              <a:ext cx="128880" cy="262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1080" y="5133960"/>
              <a:ext cx="83160" cy="25632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520" y="5181840"/>
              <a:ext cx="44280" cy="20628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81880" y="5184000"/>
              <a:ext cx="66960" cy="2149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14560" y="5267880"/>
              <a:ext cx="69840" cy="13608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0480" y="5329800"/>
              <a:ext cx="57240" cy="669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88560" y="5367960"/>
              <a:ext cx="46800" cy="270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6680" y="5472000"/>
              <a:ext cx="1039320" cy="78696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4880" y="5653800"/>
              <a:ext cx="882000" cy="49032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3640" y="5334120"/>
              <a:ext cx="433440" cy="40320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960" y="4789440"/>
              <a:ext cx="597240" cy="7434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9680" y="5499360"/>
              <a:ext cx="102960" cy="149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6320" y="5555880"/>
              <a:ext cx="101880" cy="1141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4400" y="5601600"/>
              <a:ext cx="81720" cy="932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5545080"/>
              <a:ext cx="120600" cy="5173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640" y="5549400"/>
              <a:ext cx="97920" cy="44676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3000" y="5549400"/>
              <a:ext cx="131400" cy="31968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" y="5558040"/>
              <a:ext cx="126000" cy="55080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1760" y="5635440"/>
              <a:ext cx="119160" cy="4651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2520" y="5712480"/>
              <a:ext cx="48240" cy="37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6680" y="5891760"/>
              <a:ext cx="38880" cy="17064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600" y="5449320"/>
              <a:ext cx="57600" cy="432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1600" y="5451480"/>
              <a:ext cx="82800" cy="4320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20" y="5457960"/>
              <a:ext cx="103320" cy="4320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Afluente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oliformes fecale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8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Salmonella spp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Vibrio Cholerae no O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&lt;1 - 20  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Efluente (Final) Embalses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Indicado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2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. Fecales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spp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 10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V.cholerae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o 01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48640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Lodo Digerido secado y almacenado en  monorel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C. Fecales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5 NMP/g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Fagos MS2 :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s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Verdana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sp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99"/>
                </a:solidFill>
                <a:latin typeface="Arial Narrow"/>
              </a:rPr>
              <a:t>(valores expresados en peso seco)</a:t>
            </a:r>
            <a:r>
              <a:rPr b="0" lang="es-ES_tradnl" sz="2400" spc="-1" strike="noStrike" baseline="30000">
                <a:solidFill>
                  <a:srgbClr val="ffcc99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421000"/>
            <a:ext cx="7354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sinfección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infección: proceso universalmente utilizado en agua potable para la destruc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gentes más utilizados: cloro e hipoclo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ficiencia de eliminación de patógenos en aguas servidas por la cloración no es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la desinfec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8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04920" y="380880"/>
            <a:ext cx="1600200" cy="1447560"/>
            <a:chOff x="304920" y="380880"/>
            <a:chExt cx="1600200" cy="1447560"/>
          </a:xfrm>
        </p:grpSpPr>
        <p:sp>
          <p:nvSpPr>
            <p:cNvPr id="163" name=""/>
            <p:cNvSpPr/>
            <p:nvPr/>
          </p:nvSpPr>
          <p:spPr>
            <a:xfrm>
              <a:off x="304920" y="626040"/>
              <a:ext cx="824040" cy="41400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20" y="1464120"/>
              <a:ext cx="1593000" cy="3643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480" y="950040"/>
              <a:ext cx="601920" cy="68184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3400" y="1103760"/>
              <a:ext cx="632160" cy="398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880" y="999000"/>
              <a:ext cx="638640" cy="53208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600" y="403920"/>
              <a:ext cx="1522800" cy="108828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440" y="380880"/>
              <a:ext cx="1556280" cy="119088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000" y="756720"/>
              <a:ext cx="1152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680" y="640080"/>
              <a:ext cx="583200" cy="38088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760" y="765720"/>
              <a:ext cx="27000" cy="3780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800" y="779760"/>
              <a:ext cx="130680" cy="19800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77040" y="979920"/>
              <a:ext cx="168840" cy="1652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3200" y="981720"/>
              <a:ext cx="275400" cy="65664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08080" y="1055160"/>
              <a:ext cx="237240" cy="54036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080" y="1312920"/>
              <a:ext cx="87120" cy="32040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1880" y="1355760"/>
              <a:ext cx="51480" cy="24120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720" y="1522800"/>
              <a:ext cx="45360" cy="637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5240" y="1504080"/>
              <a:ext cx="68040" cy="14688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880" y="1589760"/>
              <a:ext cx="104400" cy="11052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440" y="1602360"/>
              <a:ext cx="48960" cy="29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1240" y="1602360"/>
              <a:ext cx="121680" cy="8064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2920" y="1607400"/>
              <a:ext cx="47160" cy="345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200" y="1613160"/>
              <a:ext cx="119880" cy="392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77920" y="1629720"/>
              <a:ext cx="66240" cy="421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2080" y="1631880"/>
              <a:ext cx="43200" cy="30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040" y="1638720"/>
              <a:ext cx="43560" cy="5040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4160" y="1641960"/>
              <a:ext cx="175680" cy="56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6080" y="1646640"/>
              <a:ext cx="141840" cy="5184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0640" y="1649520"/>
              <a:ext cx="62640" cy="428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6440" y="1664280"/>
              <a:ext cx="140040" cy="644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61240" y="1667520"/>
              <a:ext cx="36000" cy="32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1705680"/>
              <a:ext cx="64440" cy="309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1513080"/>
              <a:ext cx="285480" cy="2736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" y="1516320"/>
              <a:ext cx="693000" cy="24912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1535400"/>
              <a:ext cx="277200" cy="263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720" y="1541880"/>
              <a:ext cx="459360" cy="24696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00" y="1545120"/>
              <a:ext cx="538200" cy="26604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1552680"/>
              <a:ext cx="510120" cy="22392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440" y="1562760"/>
              <a:ext cx="401040" cy="21384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880" y="1698840"/>
              <a:ext cx="57960" cy="378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000" y="1705680"/>
              <a:ext cx="75240" cy="36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0400" y="1714680"/>
              <a:ext cx="231840" cy="5256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9920" y="1730520"/>
              <a:ext cx="182520" cy="5256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1776600"/>
              <a:ext cx="136080" cy="3096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60" y="696240"/>
              <a:ext cx="100800" cy="28656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120" y="707040"/>
              <a:ext cx="99720" cy="2790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00" y="722880"/>
              <a:ext cx="87120" cy="2394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" y="731160"/>
              <a:ext cx="91800" cy="23472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560" y="737640"/>
              <a:ext cx="92520" cy="224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480" y="753480"/>
              <a:ext cx="77040" cy="2088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2160" y="800640"/>
              <a:ext cx="54360" cy="13932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5880" y="656640"/>
              <a:ext cx="128880" cy="644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3680" y="670680"/>
              <a:ext cx="83520" cy="2966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6000" y="670680"/>
              <a:ext cx="145440" cy="11700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9720" y="685080"/>
              <a:ext cx="132840" cy="1648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480" y="703800"/>
              <a:ext cx="106200" cy="19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2440" y="712080"/>
              <a:ext cx="60840" cy="24444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4000" y="727920"/>
              <a:ext cx="87120" cy="199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320" y="750240"/>
              <a:ext cx="56520" cy="1947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3040" y="786600"/>
              <a:ext cx="29880" cy="15696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0760" y="788040"/>
              <a:ext cx="45360" cy="16344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5040" y="851760"/>
              <a:ext cx="47160" cy="10332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1480" y="898920"/>
              <a:ext cx="38880" cy="5112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720" y="927720"/>
              <a:ext cx="31680" cy="205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1006920"/>
              <a:ext cx="703800" cy="59832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7320" y="1145160"/>
              <a:ext cx="597600" cy="37260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8840" y="902160"/>
              <a:ext cx="293760" cy="30636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3880" y="488160"/>
              <a:ext cx="404640" cy="5652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1027800"/>
              <a:ext cx="69840" cy="113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0080" y="1071000"/>
              <a:ext cx="68760" cy="8676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1105560"/>
              <a:ext cx="55440" cy="7092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160" y="1062720"/>
              <a:ext cx="81720" cy="3931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600" y="1065600"/>
              <a:ext cx="66240" cy="33948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440" y="1065600"/>
              <a:ext cx="88920" cy="24300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" y="1072440"/>
              <a:ext cx="85320" cy="41868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000" y="1131120"/>
              <a:ext cx="80640" cy="3535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4280" y="1189800"/>
              <a:ext cx="32760" cy="28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2640" y="1326240"/>
              <a:ext cx="26280" cy="12960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760" y="990000"/>
              <a:ext cx="38880" cy="327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320" y="991440"/>
              <a:ext cx="56160" cy="32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8520" y="996480"/>
              <a:ext cx="69840" cy="327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Crite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egún la OMS (1989) la desinfección de las aguas servidas crudas no es una práctica aconsejable, ya que en general, nunca se ha logrado tot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olamente en efluentes de tratamiento se consigue con cierta seguridad eliminar bacterias excre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in embargo, es difícil y costoso mantener una tasa constante y  elevada del desinfectante que garantice la total eficacia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versidad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ferencias en la sensibilidad frente a los agente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esistencia de los patógenos a lo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&gt; ovas de helmintos &gt; quistes de protozoos &gt; bacterias esporuladas &gt; virus &gt; bacterias veget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variable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osis de desinfectante variable originada por variaciones en la concentración de materia orgánica y amon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manda de desinfectante por la materia org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Generación de agentes desinfectantes de menor efectividad (Caso Cloro       Cloram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4100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Eficiencia de la Cloración en la Destrucción de Patóge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en aguas de baj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ja (&lt;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Quistes y Ov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5715000"/>
            <a:ext cx="101448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5753160"/>
            <a:ext cx="1033560" cy="1104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523880" cy="109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209680" y="2362320"/>
            <a:ext cx="5335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040" y="3886200"/>
            <a:ext cx="10666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5562720"/>
            <a:ext cx="76212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5715000"/>
            <a:ext cx="68580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486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Demanda de Desinfect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La desinfección del agua potable con cloro la eliminación de los patógenos exige una cierta concentración de clor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Por las características de las aguas residuales, este requisito es casi imposible lograr, dado que la demanda del desinfectante, por parte de los componentes oxidables suele ser alta (&gt;10 mg/L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TROS AGENTES DESINFECTANTES PARA EFLUENTES DE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zono : O</a:t>
            </a:r>
            <a:r>
              <a:rPr b="0" lang="es-ES" sz="24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Resistencia de microorganismos al Ozon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&gt;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Mycobacterium &gt; poliovirus tipo1 &gt;Candida &gt; E. coli &gt; Salmo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sólidos suspendidos reducen significativamente la inactivación de los virus por el Oz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quistes de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Cryptosporidium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y 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Giardia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on inactivados por bajas conc. de Ozono en pocos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in embargo, la temperatura afecta la eficiencia de la ozonización, a &lt; temperatura &gt; resistencia de los qui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sistemas biológicos de tratamiento de aguas servidas no son eficientes para eliminar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los biofiltros y lodos activados  se produce un traspaso de los patógenos del agua al l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reducción de bacterias y virus en los biofiltros es baja y errática. En los lodos activados es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protozoos y huevos de helmintos desaparecen de la fase líquida por decantación. Las bacterias y los virus son meno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ff"/>
                </a:solidFill>
                <a:latin typeface="Comic Sans MS"/>
              </a:rPr>
              <a:t>RADIACIONES ULTRAVIOLETA (U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Radiaciones de longitud de onda de 2,537 A tienen acción germi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Se usan lámparas de mercurio de baja presión incluídas en tubos de cuarzo, las que se introducen en el agua que va pa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Mecanismo de inactivación de los virus es por destrucción del genoma (DNA), seguido de la cáp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Las rad UV de </a:t>
            </a:r>
            <a:r>
              <a:rPr b="0" lang="es-ES" sz="2400" spc="-1" strike="noStrike">
                <a:solidFill>
                  <a:srgbClr val="cc99ff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260 nm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dañan el DNA microbiano bloqueando su re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FICIENCIA DE DESINFECCIÓN DE LAS RADIACIONE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ende del tipo de microorganismo. En general sigue el mismo patrón que los desinfectantes quí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gt; quistes de protozoos &gt; bacterias esporuladas &gt; virus &gt; 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s dosis requeridas para destruir microorganismos se expres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gunos ej. Para destruir el virus Hepatitis A se requiere una dosis de 3,700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inactivar 1 orden de magnitud log, pero se necesitan 20,000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alcanzar una reducción de 3 órdenes de magnitud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848720" cy="592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57600" y="4114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52320" y="1676520"/>
            <a:ext cx="44960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imes New Roman"/>
              </a:rPr>
              <a:t>Quistes de </a:t>
            </a:r>
            <a:r>
              <a:rPr b="1" i="1" lang="es-ES_tradnl" sz="1200" spc="-1" strike="noStrike">
                <a:solidFill>
                  <a:srgbClr val="000099"/>
                </a:solidFill>
                <a:latin typeface="Times New Roman"/>
              </a:rPr>
              <a:t>Acanthamoeba castel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146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otavi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105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280" y="-228600"/>
            <a:ext cx="771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Dosis Relativa de Radiaciones UV para eliminar el 99,9% de algu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Microorganismos, comparada con </a:t>
            </a:r>
            <a:r>
              <a:rPr b="1" i="1" lang="es-ES" sz="2000" spc="-1" strike="noStrike">
                <a:solidFill>
                  <a:srgbClr val="ffccff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Variables que afectan la desinfección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rofundidad : las rad. UV tienen poco poder de penetración en el agua (aprox 2 m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Bacterias con cápsula impiden la penetración de la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Fotoreactivación: característica que poseen las bacterias de reparar o reemplazar el DNA dañado (sistema SOS) después de haber sido irradiadas, por efecto de exposición a luz visible (300-500 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También se ha observado fotoreactivación de virus dañados por UV en agua de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sinfección de efluentes PTAS por U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desinfección de efluentes de PTAS con UV es actualmente el sistema más recomendado, ya que los costos  han dismin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principal ventaja es que no produce compuestos mutágenos/ cancerígenos, o subproductos tóx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j. Bioensayos de efluentes de PTAS desinfectados con UV no han mostrado efectos tóxicos agudos ni crónicos en peces y microcrustáceos (daphnias), respecto a efluentes desinfectados con agentes químicos (efluentes clo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Una desventaja es la dificultad para determinar la dosis necesaria para la des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usan como modelo esporas de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Bacillus subtili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Clostridium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perfringen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 o fagos MS2 (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os cuestionamientos a la desinfección de efl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año ecológico en el cuerpo recep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gún la EPA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l cloro residual total (CRT) produce efecto tóxico frente a los organismos naturales presentes en los cuerpos recept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os criterios de la regulación EPA para las aguas naturales, limita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9 μg/l el CRT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cuando la exposición sea de 1 hora, y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1 μg/l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si la exposición a CRT es de 4 días. Ambos criterios son usados por diferentes estados, en USA, para limitar las descargas cloradas en las aguas superficiales, sin embargo, parecen ser demasiado restrictivos (Szal, et al., 1991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lagunas de estabilización operadas en serie con un periodo de retención de 25 días eliminan todo tipo de patógenos con gran efi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lodos generados en los tratamientos que poseen unidades de decantación de sólidos presentan 10 a 100 veces mayor concentración de patógenos que las aguas servidas sin 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digestión anaeróbica de lodos no es totalmente segura para la inactiv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Biofiltro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CF: 1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10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: 8,3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(*media geométrica de muestras quincenal durante 9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Biofil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almo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Afluente: 14/24 muest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12/22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2/14 </a:t>
            </a:r>
            <a:r>
              <a:rPr b="0" lang="es-ES_tradnl" sz="16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Serotipos y Frecuencia de ais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A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10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6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typhimurium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(1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3)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9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  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2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*(CF:&lt;2,0 y 7 NMP/100 mL)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9,2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4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 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6,0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&lt;2 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0,3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1UFP m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 Esmeralda 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     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oción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Afluente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6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  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95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Final*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99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000" spc="-1" strike="noStrike">
                <a:solidFill>
                  <a:srgbClr val="ff0066"/>
                </a:solidFill>
                <a:latin typeface="Arial Narrow"/>
              </a:rPr>
              <a:t>(*sin desinfe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pH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: 7,4;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final 7,9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Tº agua: 12,3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3526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 La Esmeralda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 CF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Fagos MS2: 640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 CF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Fagos MS2: 15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 &lt;2,0 NMP/100 mL  Fagos MS2: 14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2,2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Coliformes y </a:t>
            </a:r>
            <a:r>
              <a:rPr b="0" i="1" lang="es-ES_tradnl" sz="2800" spc="-1" strike="noStrike">
                <a:solidFill>
                  <a:srgbClr val="ffff66"/>
                </a:solidFill>
                <a:latin typeface="Verdana"/>
              </a:rPr>
              <a:t>Salmonella</a:t>
            </a: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 en LE Melip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2060640"/>
          <a:ext cx="8200800" cy="41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8200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43000" y="5638680"/>
            <a:ext cx="714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erotipos de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almonella</a:t>
            </a:r>
            <a:r>
              <a:rPr b="0" i="1" lang="es-ES_tradnl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. paratyphi B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 75%; S. agona 11,1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. anatum 3,3%; S grupo C  6,7%; otros serotipos 3,3%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51460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638680"/>
            <a:ext cx="59436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9:03:25Z</dcterms:created>
  <dc:creator>Gabriela Castillo</dc:creator>
  <dc:description/>
  <dc:language>en-US</dc:language>
  <cp:lastModifiedBy>Gabriela Castillo</cp:lastModifiedBy>
  <dcterms:modified xsi:type="dcterms:W3CDTF">2007-11-13T14:26:05Z</dcterms:modified>
  <cp:revision>81</cp:revision>
  <dc:subject/>
  <dc:title>Sin título de diapositiva</dc:title>
</cp:coreProperties>
</file>