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D24-F064-43C5-9D1F-8DFE5F9C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B54-52D5-4E98-A800-A83E608C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9D0-479E-4EBB-83CA-8F856132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FDB-5A47-4AE1-B9BE-8BD770F6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60F9-3DC0-47D9-83B3-46D05265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622F-4257-4420-8696-69B17DE9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4C67-6402-4232-820D-1297DC0C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1CD3-ABD2-49AC-AC20-81C9609E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7892-696A-48D2-9015-6E96328C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C444-FFE6-4250-ACCB-AA799564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7FC2-E922-49CA-A9FF-1108BC55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23B-B631-47B5-9496-6E6CAF05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7436-DA2D-44C2-A94D-00A0624B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AFB2-4AF7-482A-99E9-32DBD898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939E-E0B1-4D37-B14D-3F27474A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A2B9-BABE-4CF1-B137-A321CBFA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2010-55C2-40C2-BAE1-53C9F617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0EC-7491-4DDA-BE5D-5BC1B121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79F-B4FC-43ED-88E8-C23DBD64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5C7-7BBD-4954-B867-CF28C4EE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090-057E-46B7-A34E-F91E78E1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3B1-C787-40D7-BA5E-DD01B3FA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9F1-C6B0-410E-AD33-A63CECDA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BCD-E499-42F3-BC83-44FD9347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B7BE-4054-4B82-985F-432E13EB5F3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6556-39B0-4CAD-9614-14E51697720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533520"/>
            <a:ext cx="64008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Departamento de Geologí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nceptos Geológicos Bás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Formacion de Suel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Sofía Rebolled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uando el magma no consigue llegar a la superficie y se enfría y cristaliza en cámaras magmáticas subsuperficiales, las rocas que se generan se denominan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rocas intrusivas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plutónicas, como el granito y la diorita, se forman a partir de un magma  enterrado a gran profundidad bajo la corteza terrest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se enfrían muy despacio, permitiendo así el crecimiento de grandes cristales de minerales pur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volcánicas, como el basalto y la riolita, se forman por enfriamiento y  solidificación rápida del magma en grietas próximas a la superficie, o en superficie cuando el magma emerge a través de los volcanes.  El resultado son rocas de grano fino o vidr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ígneas, compuestas casi en su totalidad por un tipo de minerales denominados silicatos, suelen clasificarse según su contenido de sílice. Las principales categorías son ácidas o básicas, siendo el granito y la riolita ejemplos del primer grupo, y el gabro y el basalto del segun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ntro de las rocas ígneas,  las rocas piroclásticas tienen particular importancia en la geología de Chi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stas son muy comunes y se asocian a la actividad volcánica de nuestro paí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piroclásticas están formadas por fragmentos de rocas y minerales que son arrojados desde un volcá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Rocas sedimentaria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sedimentarias se  clasifican en clásticas y no clást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sedimentarias clásticas están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formadas por la acumulación y litificación de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partículas minerales y/o fragmentos de rocas,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positadas por la acción del agua y, en menor medida, del viento o del hielo glaciar.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sedimentarias no clásticas pueden ser químicas u orgán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Un ejemplo de rocas químicas son las calizas, formadas  por precipitación de carbonato de calcio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 coquinas, formadas básicamente  a partir de la acumulación de restos de caparazones de organismos marinos,  son un ejemplo de  rocas orgán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 litificación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es el fenómeno por el cual un sedimento se convierte en roca  y  es inducido por la presión y temperatura que afecta a los sedimentos cuando tienen una sobrecarga de varios cientos de metros de sediment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 litificación consiste en tres proceso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380880" algn="just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compactación,</a:t>
            </a:r>
            <a:r>
              <a:rPr b="0" lang="es-ES_tradnl" sz="2800" spc="-1" strike="noStrike">
                <a:solidFill>
                  <a:srgbClr val="ffcc00"/>
                </a:solidFill>
                <a:latin typeface="Arial"/>
              </a:rPr>
              <a:t> que se refiere a la disminución del volumen de los poros de un sedimento debido a la presión ejercida por los sedimentos que lo sobreyacen. Para que exista esta  disminución de la porosidad, debe existir  un arreglo del empaquetamiento de los granos y pérdida de agua.  La disminución del volumen del sedimento debido a compactación puede, en algunos casos, llegar al 50%, como es el caso de algunas arcilla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229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392040" indent="-1116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229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cementación,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que corresponde a la depositación de minerales como calcita, sílice, óxidos de fierro o arcillas en los poros o espacios que existen entre las partículas que constituyen el sedimento.   Este proceso es facilitado por la circulación de agua.</a:t>
            </a: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"/>
              </a:rPr>
              <a:t>DEFINICIÓN Y ALCANCES DE LA GEOLOGÍA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 algn="just">
              <a:lnSpc>
                <a:spcPct val="100000"/>
              </a:lnSpc>
              <a:spcBef>
                <a:spcPts val="901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Geología es la ciencia que estudia la Tierr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s rocas que la constituyen, los procesos que las formaron y los cambios que ellas sufren para dar origen a los paisajes actuales, son algunas de las preocupaciones de un geólogo.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33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33480" algn="ctr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recristalización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que consiste en la disolución y cristalización, a pequeña escala, de alguno de los minerales más inestables como el cuarzo y la calcita y su redeposit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33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l resultado es similar a la cement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33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mayoría de las rocas sedimentarias se presentan en capas o estratos paralelos o discordan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stos planos reflejan cambios en la velocidad de sedimentación o  en la naturaleza de la materia deposit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uando los planos son discordantes, estos reflejan eventos tectónicos  mayo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717560" y="1952640"/>
          <a:ext cx="5708880" cy="295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1952640"/>
                    <a:ext cx="57088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752480" y="320040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73392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58128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43828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752480" y="220968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220968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800600"/>
            <a:ext cx="5715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4114800"/>
            <a:ext cx="5715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438280"/>
            <a:ext cx="0" cy="1143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7339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220968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717560" y="934920"/>
          <a:ext cx="5708880" cy="49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934920"/>
                    <a:ext cx="570888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Rocas metamórf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que se formaron bajo ciertas condiciones de presión y/o temperatura se pueden volver inestables si estas condiciones son alteradas de manera drástic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Si el tiempo es suficientemente largo, los minerales cambian a minerales que son estables bajo las  nuevas condicion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ste cambio o transformación se denomina metamorfismo y las rocas resultantes son las 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rocas metamórficas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n general, la temperatura asociada a metamorfismo es mayor a 200°C  y las presiones son alt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os límites del están sobre la presión y temperatura asociada a litificación pero bajo el punto de fusión de las ro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l efecto principal del metamorfismo es que la fábrica original de la roca se reemplaza por una nuev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Por ejemplo,  en rocas monominerales, como la arenisca cuarcífera  y la caliza, el metamorfismo da origen a una roca con textura de mosaico definida por el desarrollo de granos gruesos, uniformes, con bordes irregulares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Sin embargo,  muchas rocas metamórficas desarrollan una estructura planar, penetrativa, denominada foli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Debido a esta foliación o anisotropía, la mayoría de las propiedades de la roca son altamente dependientes de la orientación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n algunos casos, la foliación corresponde a un clivaje, definido como planos de partición preferenciales de una roca; en otros, a una esquistosidad definida por el crecimiento de minerales tabulares, orientados en planos subparalel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EL TIEMPO EN GEOLOGÍA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tiempo es un parámetro que debe ser tomado en cuenta para la comprensión global de la geología de un luga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columna estratigráfica mundial divide al tiempo geológico en periodos (Tabla 2.1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716120" y="798480"/>
          <a:ext cx="5710320" cy="52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798480"/>
                    <a:ext cx="57103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716120" y="1120680"/>
          <a:ext cx="5711760" cy="46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1120680"/>
                    <a:ext cx="57117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Estructur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ambientes tectónicos como por ejemplo, zonas de colisión de placas, zonas de cizalle  y sectores donde se ha emplazado un intrusivo, la corteza terrestre es sometida a esfuerzos. En estos ambientes cualquier material,  a una determinada temperatura y tasa de deformación, puede plegarse o fracturars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fracturas son superficies a lo largo de las cuales una roca ha perdido cohes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mayoría de estas estructuras, entre las que destacan diaclasas y fallas, son posteriores a la formación de la roca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Algunas fracturas son primarias, y se desarrollan junto con la roca. Ejemplos de fracturas primarias son las diaclasas columnares, producidas al enfriarse un cuerpo ígneo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pliegues son estructuras en forma de onda que se producen por la deformación de un material en estado dúctil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la naturaleza, los pliegues  pueden tener longitudes de onda desde 1 cm o menores,  hasta algunos kilómetr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Suel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ológicamente, depósitos recientes, cuaternarios, corresponden a suelos. En Santiago por ejemplo, la mayor parte del suelo de fundación son depósitos de los ríos y esteros princip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i una muestra de suelo es examinada, se verá que está constituida por partículas de diferente tamaño. Las partículas mayores (&gt;2mm) son principalmente fragmentos de rocas. Las medias (0.1-2 mm) son usualmente partículas minerales, en muchos casos cuarzo. El fino, limo y arcillas, son difíciles de describir visualmente en terreno, pero caracterizadas por plasticidad, dilatancia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"/>
              </a:rPr>
              <a:t>Tipos de suel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Residuales: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aquellos formados en el lugar por meteorización directa de la roca.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lugares fríos y en zonas climáticas templadas los suelos son usualmente delgadas capas debido a meteorización lenta. En regiones cálidas es inver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Transportados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: han sido depositados en su ubicación presente por alguno de los agentes-agua-viento-lluvia. Depósitos aluviales, morrenas, duna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Rocas no endurecidas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: usualmente referidas como suelo. Arcilla Oxford, algunas formaciones de arenas antigua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DEPOSITOS CUATERNARIO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epósitos del Cuaternario son bastante amplios y  son importantes como medios de fund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981080" y="762120"/>
          <a:ext cx="610884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762120"/>
                    <a:ext cx="610884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276720" y="28954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312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666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286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lgunos son subaéreos, por ejemplo, los fragmentos que cubren las pendientes rocosas, otros son acuáticos como las arenas y gravas fluviales y las arenas de play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Otros pueden ser volcánicos como los formados de ceniza  y muchos han sido depositados por la acción de glaci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epósitos originados en el Cuaternario, frecuentemente son diferentes de las rocas más duras y sólidas a las que cub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"/>
              </a:rPr>
              <a:t>Denud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acción conjunta de la meteorización y erosión se denomina denudación y es la responsable de modelar el paisaj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trito corresponde a una partícula de roca o a un fragmento monomineral  que proviene de la intemperización de una roca. Un conjunto de detritos se denomina depósito sedimentario o sedimen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Tipos de depósit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aluvi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coluvi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orren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eólicos (dunas, loes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teriales volcán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de remoción en ma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epósitos aluv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dimento aluvial es el término general dado a los depósitos dejados por el río; incluyen material fino como limo y arcilla y material grueso como arena y grava.  El sedimento transportado es abandonado al disminuir la velocidad de una corrient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epósitos fluviales se presentan en cuatro formas básica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) aquellos en el cauce normal del río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) aquellos que se esparcen sobre la planicie en cualquier lado del río durante los períodos de inundación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i) aquellos depósitos en el piso del estuario  y que están interestratificados con sedimentos acarreados al estuario por el mar, 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v) los correspondientes a delt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depósito aluvial es, en general, muy poroso y compresible, sobre todo si es rico en arcilla, y es permeable si está compuesto principalmente de limo, arena o grav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mecánica del río, da origen a variaciones laterales y verticales importantes de los sedimen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epósito coluvial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rresponde a material acumulado por procesos gravitacionales formando taludes y conos de derrubios al pie de escarp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u composición es idéntica al material originari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tamaño de los fragmentos se relaciona a la estructura de la roca paren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epósitos glacia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oda la carga transportada por el hielo es aludida genéricamente como derrubios glaciar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sedimentación se produce al fundirse el hielo, variar las tensiones de confinamiento o cesar el empuj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Tipos de materiales geológic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cc"/>
                </a:solidFill>
                <a:latin typeface="Arial"/>
              </a:rPr>
              <a:t>Rocas y Suel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sedimentos derivados del hielo glaciar forman acumulaciones de baja consistencia (sueltas), que reciben el nombre genérico de til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stán litificados se denominan tillit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material es, en general, polimíctico, no litificado, mal seleccionado, con fragmentos de tamaño variable entre unos pocos mm a grandes bloqu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orren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morrenas son acumulaciones de till, de todo tipo y procedencia, con gran heterogeneidad fisonómica, aunque predomina una geometría caracterizada por suaves colinas que culminan en una cresta agu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Arial"/>
              </a:rPr>
              <a:t>Propiedades Físicas de los Depósit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Arial"/>
              </a:rPr>
              <a:t>Propiedades de los depósitos pueden ser previstos del conocimiento geológico o del ambiente de depositación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Arial"/>
              </a:rPr>
              <a:t>Depósitos glaciales: depositados por glaciares o agua de ellos. Importantes en el Plioceno. Mezcla de variados tamaños desde arcilla a grandes bloques. Los asociados al derretimiento, mejor seleccionados. Distribución escalonada o multimodal. Permeabilidad variable según el contenido de arcilla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Depósitos eólicos: Arena fina y tamaño limo, son muy permeables y erosionables. Dunas y loess. En zonas costeras y en desiertos (actuales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Depósitos aluviales: Asociados a ríos, limos a gravas y buenos para la agricultura. Variaciones locales. Permeabilidad variab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Depósitos de pantanos: ricos en materia orgánica, baja resistencia, altamente compresibles y a veces saturados. Baja permeabilida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orosidad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Hay  cuatro tipos principales de espacios vacíos, o poros, en una roca y/o sedimento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) espacios entre granos minerales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) fracturas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i) cavidades por disolución y/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v) vesícul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depósitos de arenas y gravas, los poros pueden llegar a constituir entre el 12 a 45% del volumen total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l sedimento es mal seleccionado, es decir, tiene varios tamaños, o si hay cementación, la porosidad llega a disminuir de manera important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rocas como los granitos, la única posibilidad de espacios vacíos corresponde a fractur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rocas carbonatadas, las cavidades pueden dar origen a una porosidad alt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rocas volcánicas, las vesículas pueden dar origen a una permeabilidad, en general, de poca importanc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ermeabilidad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ocas de alta permeabilidad son  conglomerados, areniscas, basaltos y ciertas caliz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Meteoriz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se forman, en general, bajo la superficie de la tierra, en condiciones de presión y temperatura diferentes a las que predominan en superfici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Ro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terial o substancia rocosa y macizo rocos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terial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s ígne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s sedimenta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s metamórf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scripción: Color, tamaño de grano,estructura, meteorización, nombre, resistencia y discontinuida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acción del agua, glaciares, viento y oleaje, permite que estas rocas afloren y queden expuestas al ataque de la atmósfera y de agentes orgánic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uando están expuestas, las rocas son transformadas por el proceso  denominado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meteorización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meteorización físic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se refiere al proceso de ruptura de la roca.  Los agentes principales de este tipo de meteorización son organismos, ciclos congelamiento y fusión del agua, cambios de temperatura, et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Una vez que la roca está fracturada, agentes químicos disueltos en el agua pueden penetrar a la roca y destruir  las estructuras  de los minerales en un proceso denominado 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meteorización químic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principales agentes son dióxido de carbono, proveniente de la atmósfera y del suelo,  y ácidos orgánicos  disueltos por el agua infiltrad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Si estos ácidos disuelven minerales   que constituyen el cemento de algunas rocas sedimentarias y/o el relleno de algunas discontinuidades selladas, la roca se debilita o se disgreg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minerales más fácilmente alterables son la calcita, dolomita y yes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on el tiempo, los ácidos disueltos en el agua pueden alterar  a arcilla los cristales de feldespatos, piroxenos y anfíbol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l resultado de la descomposición será un material constituido por granos residuales de cuarzo, estable a la meteorización,  en una matriz de arcilla o lim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efectos y la profundidad de la roca afectada por la meteorización son  dependientes del tipo de roca, del clima y del tiemp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eacciones químicas son mucho más rápidas en climas tropicales y húmedos que en climas áridos o frí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Por ejemplo, en los polos y en los desiertos, actúan principalmente los procesos mecánicos de la meteorización física, los cuales llevan, lentamente, a la ruptura de la masa rocos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los trópicos los procesos mecánicos trabajan rápidamente y  en conjunto con la meteorización química, de manera que rocas frescas, recién expuestas,  pueden ser alteradas en un corto plaz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Tabla 4.9 muestra una clasificación de rocas meteorizad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716120" y="203040"/>
          <a:ext cx="571356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03040"/>
                    <a:ext cx="571356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RO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se definen como agregados sólidos de minerales.  Dependiendo de su  origen, las rocas se dividen en tres grandes grupos: rocas ígneas, rocas sedimentarias y rocas metamórfi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Resistencia del material  rocoso.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resistencia de una muestra de roca intacta depende  de la resistencia de los minerales que la  componen y de la  manera en que ellos están unidos -ya sea por cristalización o cementación.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 resistencia de una roca sedimentaria depende de manera importante del cemento y del arreglo de las partícul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714680" y="1486080"/>
          <a:ext cx="567684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486080"/>
                    <a:ext cx="5676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484280" y="274680"/>
          <a:ext cx="6175440" cy="631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274680"/>
                    <a:ext cx="6175440" cy="63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Tabla 4.10 muestra que una misma roca, afectada por distintos grados de meteorización, puede presentar variaciones importantes en sus propieda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716120" y="2243160"/>
          <a:ext cx="5710320" cy="23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243160"/>
                    <a:ext cx="57103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Arial"/>
              </a:rPr>
              <a:t>Condiciones difíciles a evalua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s dificultades más comunes son: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edimentos de características varia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 blanda, meteorizada o fracturada, permea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avidades naturales o artificiales dentro de la ro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ocas Sedimentar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ermeabi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terminar la morfología de los cuerpos que varían su  espesor de manera rápid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rado de cementación con el fin de estimar la permeabilidad de la roc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blemas durante la etapa de exploración debido a su alta dureza ortoqz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ocas Ign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ntactos complejos, en general discordantes, difíciles de predeci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iaclasas que provienen del enfriamiento y descarga del  material que la cubría y que generan permeabilid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eteorización juega un papel muy importante en las propiedade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rocas volcánicas,diferentes tipos de materiales presentes y zonas de alta permeabilidad.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s lavas con diaclasamiento columnar son una de las rocas de mayor permeabilid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superficie superior de la lava puede estar fracturada y ser porosa. La superficie inferior puede haber oxidado o alterado la roca que subyace. La porción central puede estar fracturada de manera columnar con fractur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ocas Metamórf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rado de meteoriz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blemáticas por esquistosidad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iferencia gran variedad de tipos dificultan agruparlas en rocas con problemas simil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uarcita es muy dura, problemas  para perfo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terminar la orientación de la foliación en la explo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uy común la existencia de diaclasas producto de la relajación de esfuerz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Rocas ígnea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ígneas se forman del enfriamiento de un material caliente (roca fundida), rico en gases,  denominado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 magm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l magma se origina en las profundidades de la corteza y se acumula en cámaras magmát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ookes, P.G. 1997. Geology for Engineers: the Geological Model, Prediction and Performance. Quarterly Journal of Engineering Geology,30.293-424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Goodman, R. 1993. Engineering Geology. Rock in Engineering Construction. John Wiley &amp; Sons, Inc. 412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lyth, F.G.H. Y M.H. de Freitas. 1989. Geología para Ingenieros. Compañía Editorial Continental, S.A., México. 440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algunos casos, el magma se abre espacio y sale a la superficie generando una erupción volcán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que se generan en este evento son denominadas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rocas volcánicas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o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extrusivas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y representan uno de los dos tipos principales de rocas ígne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26:13Z</dcterms:created>
  <dc:creator>pentium lll 450</dc:creator>
  <dc:description/>
  <dc:language>en-US</dc:language>
  <cp:lastModifiedBy>Claudio Foncea</cp:lastModifiedBy>
  <dcterms:modified xsi:type="dcterms:W3CDTF">2006-03-15T18:45:30Z</dcterms:modified>
  <cp:revision>44</cp:revision>
  <dc:subject/>
  <dc:title>DEFINICIÓN Y ALCANCES DE LA GEOLOGÍA </dc:title>
</cp:coreProperties>
</file>