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95A-06B7-4353-BEAC-138F80FC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7E3-74CD-40ED-82B1-8B406FF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F44-6AAA-40A2-80EA-3E3FF496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E53-EE98-4519-943F-B92261BA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C027-6FED-42D9-A872-B8311930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D10-5F25-4D9B-9A48-14BF3DE1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6634-F8A7-498D-BE45-BCBAD55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6A6-B6F1-4CA1-9CD0-13489ED8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8FD-B2A8-445E-8E6E-AFD7B1B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9620-0069-4E41-A9EA-D56FE8F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9AD0-3974-4008-AB61-143B5CB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D92-F574-4331-933A-6A90B5B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DBF-AED2-49A2-8489-D710FBF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DB05-CFE0-4EDE-9948-EEE1095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46D3-A7C4-4A93-8B2E-09DCACA3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E61-E7F6-47A8-BC3B-2E79C1B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91B-6BD9-425B-88E0-A22E985B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747-A7DA-4650-8DE7-00F115E5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355-9E2A-4EFE-8621-DC5C4138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622-3D93-4428-82F1-B20B2684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575-C6B0-4510-ABD6-2C9AD4F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7DC-B865-4B66-B34A-30508E0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BD2-207F-4C2E-9EBE-D7F7C20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02D-D0A4-42D1-8AEB-364F773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AA72-CA6E-4CA8-9FFF-8C10A99C48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08F-5F1B-4D4D-919B-CD88EF9E69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533520"/>
            <a:ext cx="6400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epartamento de Geolo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nceptos Geológicos Bás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ormacion de Sue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Sofía Rebolle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l magma no consigue llegar a la superficie y se enfría y cristaliza en cámaras magmáticas subsuperficiales, las rocas que se generan se denominan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in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lutónicas, como el granito y la diorita, se forman a partir de un magma  enterrado a gran profundidad bajo la corteza terrest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enfrían muy despacio, permitiendo así el crecimiento de grandes cristales de minerales pur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volcánicas, como el basalto y la riolita, se forman por enfriamiento y  solidificación rápida del magma en grietas próximas a la superficie, o en superficie cuando el magma emerge a través de los volcanes.  El resultado son rocas de grano fino o vid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, compuestas casi en su totalidad por un tipo de minerales denominados silicatos, suelen clasificarse según su contenido de sílice. Las principales categorías son ácidas o básicas, siendo el granito y la riolita ejemplos del primer grupo, y el gabro y el basalto del segu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ntro de las rocas ígneas,  las rocas piroclásticas tienen particular importancia en la geología de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as son muy comunes y se asocian a la actividad volcánica de nuestro paí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piroclásticas están formadas por fragmentos de rocas y minerales que son arrojados desde un volcá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sedimentaria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se  clasifican en clásticas y no clás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clásticas están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formadas por la acumulación y litificación de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artículas minerales y/o fragmentos de rocas,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positadas por la acción del agua y, en menor medida, del viento o del hielo glaciar.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sedimentarias no clásticas pueden ser químicas u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Un ejemplo de rocas químicas son las calizas, formadas  por precipitación de carbonato de calci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 coquinas, formadas básicamente  a partir de la acumulación de restos de caparazones de organismos marinos,  son un ejemplo de  rocas orgán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 litificación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es el fenómeno por el cual un sedimento se convierte en roca  y  es inducido por la presión y temperatura que afecta a los sedimentos cuando tienen una sobrecarga de varios cientos de metros de sediment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litificación consiste en tres proce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80880" algn="just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ompactación,</a:t>
            </a:r>
            <a:r>
              <a:rPr b="0" lang="es-ES_tradnl" sz="2800" spc="-1" strike="noStrike">
                <a:solidFill>
                  <a:srgbClr val="ffcc00"/>
                </a:solidFill>
                <a:latin typeface="Arial"/>
              </a:rPr>
              <a:t> que se refiere a la disminución del volumen de los poros de un sedimento debido a la presión ejercida por los sedimentos que lo sobreyacen. Para que exista esta  disminución de la porosidad, debe existir  un arreglo del empaquetamiento de los granos y pérdida de agua.  La disminución del volumen del sedimento debido a compactación puede, en algunos casos, llegar al 50%, como es el caso de algunas arcilla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92040" indent="-1116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229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cementación,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 que corresponde a la depositación de minerales como calcita, sílice, óxidos de fierro o arcillas en los poros o espacios que existen entre las partículas que constituyen el sedimento.   Este proceso es facilitado por la circulación de agua.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FINICIÓN Y ALCANCES DE LA GEOLOGÍA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901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Geología es la ciencia que estudia la Tierr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s rocas que la constituyen, los procesos que las formaron y los cambios que ellas sufren para dar origen a los paisajes actuales, son algunas de las preocupaciones de un geólogo.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33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ecristalización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que consiste en la disolución y cristalización, a pequeña escala, de alguno de los minerales más inestables como el cuarzo y la calcita y su redeposit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resultado es similar a la cement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33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las rocas sedimentarias se presentan en capas o estratos paralelos o discord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stos planos reflejan cambios en la velocidad de sedimentación o  en la naturaleza de la materia deposit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los planos son discordantes, estos reflejan eventos tectónicos  mayo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17560" y="1952640"/>
          <a:ext cx="5708880" cy="29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52640"/>
                    <a:ext cx="5708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752480" y="320040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581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4382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52480" y="2209680"/>
            <a:ext cx="5639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006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114800"/>
            <a:ext cx="5715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438280"/>
            <a:ext cx="0" cy="1143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7339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20968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717560" y="934920"/>
          <a:ext cx="5708880" cy="49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934920"/>
                    <a:ext cx="570888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s rocas que se formaron bajo ciertas condiciones de presión y/o temperatura se pueden volver inestables si estas condiciones son alteradas de manera drástic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 el tiempo es suficientemente largo, los minerales cambian a minerales que son estables bajo las  nuevas condicion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ste cambio o transformación se denomina metamorfismo y las rocas resultantes son las </a:t>
            </a: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rocas metamórficas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general, la temperatura asociada a metamorfismo es mayor a 200°C  y las presiones son alt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os límites del están sobre la presión y temperatura asociada a litificación pero bajo el punto de fusión de las 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l efecto principal del metamorfismo es que la fábrica original de la roca se reemplaza por una nue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Por ejemplo,  en rocas monominerales, como la arenisca cuarcífera  y la caliza, el metamorfismo da origen a una roca con textura de mosaico definida por el desarrollo de granos gruesos, uniformes, con bordes irregulares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Sin embargo,  muchas rocas metamórficas desarrollan una estructura planar, penetrativa, denominada foli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Debido a esta foliación o anisotropía, la mayoría de las propiedades de la roca son altamente dependientes de la orientació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En algunos casos, la foliación corresponde a un clivaje, definido como planos de partición preferenciales de una roca; en otros, a una esquistosidad definida por el crecimiento de minerales tabulares, orientados en planos subparalel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EL TIEMPO EN GEOLOGÍA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es un parámetro que debe ser tomado en cuenta para la comprensión global de la geología de un lug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columna estratigráfica mundial divide al tiempo geológico en periodos (Tabla 2.1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16120" y="798480"/>
          <a:ext cx="5710320" cy="52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798480"/>
                    <a:ext cx="57103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716120" y="1120680"/>
          <a:ext cx="571176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1120680"/>
                    <a:ext cx="57117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mbientes tectónicos como por ejemplo, zonas de colisión de placas, zonas de cizalle  y sectores donde se ha emplazado un intrusivo, la corteza terrestre es sometida a esfuerzos. En estos ambientes cualquier material,  a una determinada temperatura y tasa de deformación, puede plegarse o fracturar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fracturas son superficies a lo largo de las cuales una roca ha perdido cohes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mayoría de estas estructuras, entre las que destacan diaclasas y fallas, son posteriores a la formación de la roca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lgunas fracturas son primarias, y se desarrollan junto con la roca. Ejemplos de fracturas primarias son las diaclasas columnares, producidas al enfriarse un cuerpo ígneo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liegues son estructuras en forma de onda que se producen por la deformación de un material en estado dúcti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a naturaleza, los pliegues  pueden tener longitudes de onda desde 1 cm o menores,  hasta algunos kilómetr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eológicamente, depósitos recientes, cuaternarios, corresponden a suelos. En Santiago por ejemplo, la mayor parte del suelo de fundación son depósitos de los ríos y esteros princip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i una muestra de suelo es examinada, se verá que está constituida por partículas de diferente tamaño. Las partículas mayores (&gt;2mm) son principalmente fragmentos de rocas. Las medias (0.1-2 mm) son usualmente partículas minerales, en muchos casos cuarzo. El fino, limo y arcillas, son difíciles de describir visualmente en terreno, pero caracterizadas por plasticidad, dilatancia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"/>
              </a:rPr>
              <a:t>Tipos de suel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esiduales: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aquellos formados en el lugar por meteorización directa de la roca.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lugares fríos y en zonas climáticas templadas los suelos son usualmente delgadas capas debido a meteorización lenta. En regiones cálidas es inver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Transportado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han sido depositados en su ubicación presente por alguno de los agentes-agua-viento-lluvia. Depósitos aluviales, morrenas, duna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"/>
              </a:rPr>
              <a:t>Rocas no endurecidas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: usualmente referidas como suelo. Arcilla Oxford, algunas formaciones de arenas antigu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DEPOSITOS CUATERNARIO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del Cuaternario son bastante amplios y  son importantes como medios de fund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981080" y="762120"/>
          <a:ext cx="610884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762120"/>
                    <a:ext cx="610884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276720" y="28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66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286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gunos son subaéreos, por ejemplo, los fragmentos que cubren las pendientes rocosas, otros son acuáticos como las arenas y gravas fluviales y las arenas de play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Otros pueden ser volcánicos como los formados de ceniza  y muchos han sido depositados por la acción de glaci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originados en el Cuaternario, frecuentemente son diferentes de las rocas más duras y sólidas a las que cub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"/>
              </a:rPr>
              <a:t>Denud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cción conjunta de la meteorización y erosión se denomina denudación y es la responsable de modelar el paisaj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trito corresponde a una partícula de roca o a un fragmento monomineral  que proviene de la intemperización de una roca. Un conjunto de detritos se denomina depósito sedimentario o sedimen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depósi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coluv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orren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eólicos (dunas, loes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es volcán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pósitos de remoción en ma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aluv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dimento aluvial es el término general dado a los depósitos dejados por el río; incluyen material fino como limo y arcilla y material grueso como arena y grava.  El sedimento transportado es abandonado al disminuir la velocidad de una corrient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depósitos fluviales se presentan en cuatro formas básica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aquellos en el cauce normal del rí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aquellos que se esparcen sobre la planicie en cualquier lado del río durante los períodos de inundació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aquellos depósitos en el piso del estuario  y que están interestratificados con sedimentos acarreados al estuario por el mar, 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los correspondientes a del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depósito aluvial es, en general, muy poroso y compresible, sobre todo si es rico en arcilla, y es permeable si está compuesto principalmente de limo, arena o grav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mecánica del río, da origen a variaciones laterales y verticales importantes de los sedimen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 coluvial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rresponde a material acumulado por procesos gravitacionales formando taludes y conos de derrubios al pie de escarp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 composición es idéntica al material origin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amaño de los fragmentos se relaciona a la estructura de la roca paren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Depósitos glacia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oda la carga transportada por el hielo es aludida genéricamente como derrubios glaciar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sedimentación se produce al fundirse el hielo, variar las tensiones de confinamiento o cesar el empuj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Tipos de materiales geológic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cc"/>
                </a:solidFill>
                <a:latin typeface="Arial"/>
              </a:rPr>
              <a:t>Rocas y Sue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sedimentos derivados del hielo glaciar forman acumulaciones de baja consistencia (sueltas), que reciben el nombre genérico de t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tán litificados se denominan tillit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material es, en general, polimíctico, no litificado, mal seleccionado, con fragmentos de tamaño variable entre unos pocos mm a grandes bloqu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rre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morrenas son acumulaciones de till, de todo tipo y procedencia, con gran heterogeneidad fisonómica, aunque predomina una geometría caracterizada por suaves colinas que culminan en una cresta agu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Propiedades Físicas de los Depósit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Arial"/>
              </a:rPr>
              <a:t>Propiedades de los depósitos pueden ser previstos del conocimiento geológico o del ambiente de depositación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Arial"/>
              </a:rPr>
              <a:t>Depósitos glaciales: depositados por glaciares o agua de ellos. Importantes en el Plioceno. Mezcla de variados tamaños desde arcilla a grandes bloques. Los asociados al derretimiento, mejor seleccionados. Distribución escalonada o multimodal. Permeabilidad variable según el contenido de arcilla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eólicos: Arena fina y tamaño limo, son muy permeables y erosionables. Dunas y loess. En zonas costeras y en desiertos (actuale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aluviales: Asociados a ríos, limos a gravas y buenos para la agricultura. Variaciones locales. Permeabilidad vari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Depósitos de pantanos: ricos en materia orgánica, baja resistencia, altamente compresibles y a veces saturados. Baja permeabilida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ros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 cuatro tipos principales de espacios vacíos, o poros, en una roca y/o sedimento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) espacios entre granos minerale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) fracturas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ii) cavidades por disolución y/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iv) vesícu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depósitos de arenas y gravas, los poros pueden llegar a constituir entre el 12 a 45% del volumen total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sedimento es mal seleccionado, es decir, tiene varios tamaños, o si hay cementación, la porosidad llega a disminuir de manera important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omo los granitos, la única posibilidad de espacios vacíos corresponde a fractur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carbonatadas, las cavidades pueden dar origen a una porosidad al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rocas volcánicas, las vesículas pueden dar origen a una permeabilidad, en general, de poca importa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ermeabilidad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ocas de alta permeabilidad son  conglomerados, areniscas, basaltos y ciertas caliz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Meteor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forman, en general, bajo la superficie de la tierra, en condiciones de presión y temperatura diferentes a las que predominan en superficie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 o substancia rocosa y macizo roco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ateri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ígn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sediment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s metamórf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scripción: Color, tamaño de grano,estructura, meteorización, nombre, resistencia y discontinu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acción del agua, glaciares, viento y oleaje, permite que estas rocas afloren y queden expuestas al ataque de la atmósfera y de agentes orgánic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uando están expuestas, las rocas son transformadas por el proceso  denominad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fís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se refiere al proceso de ruptura de la roca.  Los agentes principales de este tipo de meteorización son organismos, ciclos congelamiento y fusión del agua, cambios de temperatura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Una vez que la roca está fracturada, agentes químicos disueltos en el agua pueden penetrar a la roca y destruir  las estructuras  de los minerales en un proceso denominado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meteorización químic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principales agentes son dióxido de carbono, proveniente de la atmósfera y del suelo,  y ácidos orgánicos  disueltos por el agua infiltra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Si estos ácidos disuelven minerales   que constituyen el cemento de algunas rocas sedimentarias y/o el relleno de algunas discontinuidades selladas, la roca se debilita o se disgreg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minerales más fácilmente alterables son la calcita, dolomita y yes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 el tiempo, los ácidos disueltos en el agua pueden alterar  a arcilla los cristales de feldespatos, piroxenos y anfíbol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resultado de la descomposición será un material constituido por granos residuales de cuarzo, estable a la meteorización,  en una matriz de arcilla o lim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os efectos y la profundidad de la roca afectada por la meteorización son  dependientes del tipo de roca, del clima y del tiemp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eacciones químicas son mucho más rápidas en climas tropicales y húmedos que en climas áridos o frí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or ejemplo, en los polos y en los desiertos, actúan principalmente los procesos mecánicos de la meteorización física, los cuales llevan, lentamente, a la ruptura de la masa rocos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los trópicos los procesos mecánicos trabajan rápidamente y  en conjunto con la meteorización química, de manera que rocas frescas, recién expuestas,  pueden ser alteradas en un corto plaz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9 muestra una clasificación de rocas meteorizad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16120" y="203040"/>
          <a:ext cx="571356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3040"/>
                    <a:ext cx="571356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se definen como agregados sólidos de minerales.  Dependiendo de su  origen, las rocas se dividen en tres grandes grupos: rocas ígneas, rocas sedimentarias y rocas metamórf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esistencia del material  rocoso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resistencia de una muestra de roca intacta depende  de la resistencia de los minerales que la  componen y de la  manera en que ellos están unidos -ya sea por cristalización o cementación.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La resistencia de una roca sedimentaria depende de manera importante del cemento y del arreglo de las partícul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14680" y="1486080"/>
          <a:ext cx="567684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486080"/>
                    <a:ext cx="5676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84280" y="274680"/>
          <a:ext cx="6175440" cy="631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74680"/>
                    <a:ext cx="6175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Tabla 4.10 muestra que una misma roca, afectada por distintos grados de meteorización, puede presentar variaciones importantes en sus propieda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716120" y="2243160"/>
          <a:ext cx="5710320" cy="23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243160"/>
                    <a:ext cx="5710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Arial"/>
              </a:rPr>
              <a:t>Condiciones difíciles a evalu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dificultades más comunes son: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dimentos de características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oca blanda, meteorizada o fracturada, perme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vidades naturales o artificiales dentro de la ro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Sedimentar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ermeabi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morfología de los cuerpos que varían su  espesor de manera rápida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cementación con el fin de estimar la permeabilidad de la roc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as durante la etapa de exploración debido a su alta dureza ortoqz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tactos complejos, en general discordantes, difíciles de predeci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aclasas que provienen del enfriamiento y descarga del  material que la cubría y que generan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eteorización juega un papel muy importante en las propiedade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1950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rocas volcánicas,diferentes tipos de materiales presentes y zonas de alta permeabilidad.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s lavas con diaclasamiento columnar son una de las rocas de mayor permeabil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superficie superior de la lava puede estar fracturada y ser porosa. La superficie inferior puede haber oxidado o alterado la roca que subyace. La porción central puede estar fracturada de manera columnar con fractur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Rocas Metamórf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Grado de meteoriz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blemáticas por esquistosidad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iferencia gran variedad de tipos dificultan agruparlas en rocas con problemas simi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7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uarcita es muy dura, problemas  para perf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terminar la orientación de la foliación en la explo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lnSpc>
                <a:spcPct val="60000"/>
              </a:lnSpc>
              <a:spcBef>
                <a:spcPts val="799"/>
              </a:spcBef>
              <a:spcAft>
                <a:spcPts val="2237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uy común la existencia de diaclasas producto de la relajación de esfuerz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Arial"/>
              </a:rPr>
              <a:t>Rocas ígnea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ígneas se forman del enfriamiento de un material caliente (roca fundida), rico en gases,  denominado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 magm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l magma se origina en las profundidades de la corteza y se acumula en cámaras magmát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ookes, P.G. 1997. Geology for Engineers: the Geological Model, Prediction and Performance. Quarterly Journal of Engineering Geology,30.293-42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oodman, R. 1993. Engineering Geology. Rock in Engineering Construction. John Wiley &amp; Sons, Inc. 412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lyth, F.G.H. Y M.H. de Freitas. 1989. Geología para Ingenieros. Compañía Editorial Continental, S.A., México. 440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n algunos casos, el magma se abre espacio y sale a la superficie generando una erupción volcán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s rocas que se generan en este evento son denominadas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ocas volcánic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extrusivas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y representan uno de los dos tipos principales de rocas ígnea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6:26:13Z</dcterms:created>
  <dc:creator>pentium lll 450</dc:creator>
  <dc:description/>
  <dc:language>en-US</dc:language>
  <cp:lastModifiedBy>Claudio Foncea</cp:lastModifiedBy>
  <dcterms:modified xsi:type="dcterms:W3CDTF">2006-03-15T18:45:30Z</dcterms:modified>
  <cp:revision>44</cp:revision>
  <dc:subject/>
  <dc:title>DEFINICIÓN Y ALCANCES DE LA GEOLOGÍA </dc:title>
</cp:coreProperties>
</file>