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8F2D-6F80-4278-BA71-35EE8C38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387F-A1B0-46BF-8FA8-EA306BF7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C935-43FF-4BD5-A0CB-0BC46B46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8963-F0C1-494C-91C8-A84C3E3C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D4F7-7DDD-46A9-9A8C-E58F83F9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B3CB-D8FC-44FE-8788-2C8EFB83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BA60-E37B-49D8-98FA-0CE35A55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603A-2389-47A1-9301-9C71874D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AFD6-D16D-428D-ACC0-DC9692C0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1E54-9E8A-4884-8496-75D17F1F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6297-9DF3-4FB8-975E-1CE7C2C0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0D2F-8594-48E4-A7FA-B7FDA9A6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2AC7-9415-4B63-80C7-0C90A9F7F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13320" y="1195920"/>
            <a:ext cx="335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2261160"/>
            <a:ext cx="851220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La tecnología de trans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X,Y)&gt;= 0 (función de transform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Y: Demanda (vector de flujos OD, periodo, mo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: Insumos (vías, terminales, vehículos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ombino los X para producir Y en forma ópti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91880" y="1512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en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3732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752480" y="793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869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2927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88040" y="2926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7524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38400">
            <a:off x="2133360" y="26222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7200" y="31852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752480" y="170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90040" y="146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66880" y="1708200"/>
            <a:ext cx="297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38400">
            <a:off x="4113000" y="15667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01680" y="3231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6386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38400">
            <a:off x="6095880" y="2622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05080" y="3185280"/>
            <a:ext cx="6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09480" y="419112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895480" y="4114800"/>
                <a:ext cx="495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547640" y="5207040"/>
                <a:ext cx="444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2280" y="272160"/>
            <a:ext cx="22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por el sistem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3186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92400" y="88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150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úmero de ciclos en un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11127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1203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ación 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066680" y="2362320"/>
                <a:ext cx="1516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2437200" y="1005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895480" y="2160720"/>
                <a:ext cx="1616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572000" y="2133720"/>
                <a:ext cx="434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267080" y="3124080"/>
                <a:ext cx="4646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380880" y="45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medio de permanencia de lo transportado en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200240" y="5334120"/>
                <a:ext cx="4073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5410080" y="565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de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09480" y="16002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1143000" y="16448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800600" y="16765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33412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Qué pasa si k/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+ &gt; 1/f 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100728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ón que permite cargar o descargar un vehí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782640" y="2666880"/>
                <a:ext cx="4478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219320" y="289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tervalo entre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esito más de un si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235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esto no se cumple, de todas maneras puedo necesitar más de un sitio, debido al tiempo de posicion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40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p: tiempo de posicionamiento: tiempo que transcurre entre la llegada de un vehículo al sitio y que este se encuentre listo para cargar/descargar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6868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396252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4952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84600" y="438156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396252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381560"/>
            <a:ext cx="685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120320"/>
            <a:ext cx="8001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+ sitios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capacidad de carga (UF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sitio está en operación una propor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de sitios en servicio en un instante 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pacidad de carga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be cumplirse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952880" y="5334120"/>
                <a:ext cx="1811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534600"/>
            <a:ext cx="8001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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intensidad relativa del flujo de transporte con respecto a la capacidad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mínimo de sitios que en promedio deben estar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ara descarga se analiza de igual f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 k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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&gt; 1/f ==&gt; se necesita más de un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Graficar operación de un terminal de carga con tres si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nalizar tiempo de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lastslide"/>
          </p:cNvPr>
          <p:cNvSpPr/>
          <p:nvPr/>
        </p:nvSpPr>
        <p:spPr>
          <a:xfrm>
            <a:off x="80773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94120" y="53244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100160"/>
            <a:ext cx="8001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ones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962520" y="914400"/>
                <a:ext cx="33526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334120" y="2133720"/>
                <a:ext cx="26524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268920" y="30474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iempo de es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09480" y="358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56386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09480" y="4038120"/>
            <a:ext cx="2286000" cy="1600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18440" y="396144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s a tas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752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5637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3960" y="609516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 de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5637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819520" y="4114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609120" y="4869000"/>
            <a:ext cx="114300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644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0912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5960" y="3961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142640" y="4876920"/>
            <a:ext cx="609480" cy="761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16160" y="509652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209680" y="4114800"/>
            <a:ext cx="609840" cy="7621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83200" y="43344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48769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5840" y="524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08360" y="4715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080" y="47077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·k·1/f - 1/2·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5360" y="539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91840" y="538560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59480" y="6058440"/>
            <a:ext cx="45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31480" y="60714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05800" y="607932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/k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5943600"/>
            <a:ext cx="24382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500"/>
                            </p:stCondLst>
                            <p:childTnLst>
                              <p:par>
                                <p:cTn id="10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64340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1664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 el retorno se utiliza para el transporte de un segundo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La frecuencia de servicio debe ser suficiente para absorb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cuencia neces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260960" y="3073320"/>
                <a:ext cx="131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958000" y="3073320"/>
                <a:ext cx="13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533520" y="43909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rmas de op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lena utilización de la capacidad de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959480" y="1512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235160" y="3208320"/>
                <a:ext cx="17190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80880" y="1593720"/>
                <a:ext cx="79549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385920" y="68508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505400" y="3271680"/>
                <a:ext cx="1411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448920" y="464760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 con frecuencia única (flota ú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327480" y="5232240"/>
                <a:ext cx="1617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1522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en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143000" y="1981080"/>
                <a:ext cx="13096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743200" y="1371600"/>
                <a:ext cx="144468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4831920" y="1975680"/>
            <a:ext cx="361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n general distintas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bdividir la f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3269160"/>
            <a:ext cx="8686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1: vehículos que transportan producto 1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12: vehículos que transportan producto 1 a la ida y producto 2 en el 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2: vehículos que transportan producto 2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913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s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809880" y="914400"/>
                <a:ext cx="461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762120" y="4563000"/>
            <a:ext cx="8686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 &gt;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+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-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+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447920" y="2133720"/>
                <a:ext cx="6941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505320" y="3505320"/>
                <a:ext cx="485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95976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antidad de vehículos en cada flota depende de la magnitud relativa en las frecuencias.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&gt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394956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y vice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ar B con ambos tip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puesto: ¿qué elementos de este sistema son “optimizables”? 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590920" y="2063880"/>
                <a:ext cx="2965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666880" y="3130560"/>
                <a:ext cx="2152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85800"/>
            <a:ext cx="792468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pu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0 ton, 25 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vehículos requieren mantenimiento durante 1 día/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v(k)=L/Vmax+0,0001k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=5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=8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10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1: materia prima, densidad 2 [ton/m3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00[ton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2: producto elaborado, densidad 0,8 [ton/m3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40[ton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i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de frecuencia ún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a plena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533600"/>
            <a:ext cx="80010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viaje en el vehículo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amaño de embarque en el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rendimiento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sitios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frecuencia (ú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n puntos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 los que hay demanda de ingreso y/o salida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45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producto ú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demandas de ingreso y egreso en el terminal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743200" y="2743200"/>
                <a:ext cx="2565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609480" y="3825360"/>
            <a:ext cx="80010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g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lt;=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ocesos de carga/descarga pueden ser simultáneos o secuenciales, según sean las características del vehículo/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2" dur="indefinite" restart="never" nodeType="tmRoot">
          <p:childTnLst>
            <p:seq>
              <p:cTn id="1403" dur="indefinite" nodeType="mainSeq">
                <p:childTnLst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139480" y="379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14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181480" y="1143000"/>
                <a:ext cx="25653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304920" y="274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continuida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343400" y="2743200"/>
                <a:ext cx="3211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380880" y="4167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imultá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649760" y="3860640"/>
                <a:ext cx="34765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477720" y="5160960"/>
                <a:ext cx="38926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0" dur="indefinite" restart="never" nodeType="tmRoot">
          <p:childTnLst>
            <p:seq>
              <p:cTn id="1441" dur="indefinite" nodeType="mainSeq">
                <p:childTnLst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2686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nsidad de flujo desde i hacia j (matriz origen-dest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133720" y="1752480"/>
                <a:ext cx="20415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5029200" y="1752480"/>
                <a:ext cx="20779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5181480" y="4308480"/>
            <a:ext cx="3429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f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 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 &lt;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838080" y="5181480"/>
                <a:ext cx="1524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228600" y="312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recurr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85800" y="3581280"/>
                <a:ext cx="3362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39560" y="3733920"/>
                <a:ext cx="27021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304920" y="1162440"/>
            <a:ext cx="8001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Si tenemos un conjunto de valor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cumple con la ecuación de recurrencia, entonc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‘=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C también cu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ustituimos f por f’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==&gt; las ecuaciones serán satisfech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962520" y="3124080"/>
                <a:ext cx="4419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886200" y="4495680"/>
                <a:ext cx="4419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861480" y="60948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método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139480" y="456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étodo de cálculo 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082880"/>
            <a:ext cx="1828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57440" y="5284080"/>
            <a:ext cx="26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demo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1134000"/>
            <a:ext cx="5410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f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 tal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   i=1, ... 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10576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o es como usar una frecuencia unitaria, puede no satisfacer restricciones de carga 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3368880"/>
            <a:ext cx="5410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ín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áx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352680" y="36964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:   f=(Q-q)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maño de embarque: ki=(qi-q)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2" dur="indefinite" restart="never" nodeType="tmRoot">
          <p:childTnLst>
            <p:seq>
              <p:cTn id="1573" dur="indefinite" nodeType="mainSeq">
                <p:childTnLst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188880" y="45612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880920"/>
            <a:ext cx="8305560" cy="54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rvicio de buses expreso tipo metro desde Paradero 14 Vicuña Mackenna hasta plaza Puente Alto. Con pago extra-vehic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manda {pax/min}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-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-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ben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aja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be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aj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etr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2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ojas Magallan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9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6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abriel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4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4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ospital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9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uente Alt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58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8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K= 85 pax. sentados + 65 pax. de pie. Tiempo de viaje entre tramos: 8min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+: 90 pax/m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: 120 pax/m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1. Parada de 3 min en terminales (Metro, P. Alto) para arqu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lcular frecuencia para operar a un 85% de la capacidad en el tramo más cargado. Calcular el tamaño de la flo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tidad realmente cargada u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04920" y="228600"/>
                <a:ext cx="365760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380880" y="310032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: transporte de mi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= 6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= 12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(k)= 20 + k  (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100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0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4343400" y="304920"/>
                <a:ext cx="42670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066680" y="1752480"/>
                <a:ext cx="601344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2286000" y="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jemplo sistema cíclico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0" dur="indefinite" restart="never" nodeType="tmRoot">
          <p:childTnLst>
            <p:seq>
              <p:cTn id="1721" dur="indefinite" nodeType="mainSeq">
                <p:childTnLst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81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432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35160" y="396252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146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4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25880" y="355608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355608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434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21160" y="355608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6200" y="438156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0481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339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8120" y="4952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03848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292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242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3848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0292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199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92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0199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292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08640" y="438156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244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76920" y="396252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1992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990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152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867280" y="3556080"/>
            <a:ext cx="609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0280" y="355608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89720" y="355608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05920" y="355608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685800" y="914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6" dur="indefinite" restart="never" nodeType="tmRoot">
          <p:childTnLst>
            <p:seq>
              <p:cTn id="1777" dur="indefinite" nodeType="mainSeq">
                <p:childTnLst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da sitio atiende a 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533520" y="5099760"/>
            <a:ext cx="7924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titución entre número de vehículos y tamaño de embar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44360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981080" y="2057400"/>
                <a:ext cx="430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304920" y="3826800"/>
            <a:ext cx="8534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titución entre número de vehículos y capacidad de 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pacidad media de carga/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791320" y="5029200"/>
                <a:ext cx="2895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9621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ductividad marginal de la capacidad de carga/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09480" y="914400"/>
                <a:ext cx="4429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831960" y="2333520"/>
                <a:ext cx="4136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η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 flipV="1">
            <a:off x="5867280" y="10663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67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1143000"/>
            <a:ext cx="2133720" cy="1600200"/>
          </a:xfrm>
          <a:custGeom>
            <a:avLst/>
            <a:gdLst/>
            <a:ahLst/>
            <a:rect l="l" t="t" r="r" b="b"/>
            <a:pathLst>
              <a:path w="1536" h="976">
                <a:moveTo>
                  <a:pt x="0" y="0"/>
                </a:moveTo>
                <a:cubicBezTo>
                  <a:pt x="64" y="328"/>
                  <a:pt x="128" y="656"/>
                  <a:pt x="384" y="816"/>
                </a:cubicBezTo>
                <a:cubicBezTo>
                  <a:pt x="640" y="976"/>
                  <a:pt x="1088" y="968"/>
                  <a:pt x="1536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8200" y="11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3840" y="312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09480" y="5029200"/>
                <a:ext cx="3395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257800" y="4952880"/>
                <a:ext cx="1095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7-10-29T13:48:35Z</dcterms:modified>
  <cp:revision>44</cp:revision>
  <dc:subject/>
  <dc:title>Sin título de diapositiva</dc:title>
</cp:coreProperties>
</file>