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7E0-F779-40F0-BE25-588B33D9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E6C-1BA1-402C-858B-C15EFFA3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D1B-8892-4B54-8AB8-6E1DC94F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4DB-539B-482D-ABE9-D7989E3F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46F-630C-413E-A17F-919043D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7C1-3B98-4DFC-8E7C-049CBC8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9C6-776E-4A75-997F-5C3F182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9B6-9F87-4B37-8B51-5EA836FD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711-CDD6-4D48-BA0B-1214A1B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DCF-42F9-48FD-B51D-5CA2B87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47-138D-4A62-B807-9EAFE480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586-2F3D-4DCD-A5F4-AE98F2F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517-7F18-401B-BC5A-2651763C0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13320" y="11959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9T13:48:35Z</dcterms:modified>
  <cp:revision>44</cp:revision>
  <dc:subject/>
  <dc:title>Sin título de diapositiva</dc:title>
</cp:coreProperties>
</file>