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2A0-DF33-4232-9C63-8CB4090C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73F-5E18-4C2E-B502-5E480052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3B0-7A88-4D94-904B-178FE58D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F2E-099C-4CBA-927C-4094C8E7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96E-A0F6-48EF-B1A1-B51DA294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AE7-A4B1-48E1-AE88-FF835D7B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0B2-98B8-45A7-B358-B32156D2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A54-63B6-49B2-85E0-5216E6A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607-90EC-4077-8EF1-42206BAC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E79-EE6E-42ED-A82B-A604238D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027-2E17-4A83-94FA-C13E687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D8B-B1E9-4C0D-B906-620868EF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88F0-EAD5-49F4-B5F5-6423A74F7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7-10-26T14:28:24Z</dcterms:modified>
  <cp:revision>18</cp:revision>
  <dc:subject/>
  <dc:title>Sin título de diapositiva</dc:title>
</cp:coreProperties>
</file>