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90E-3D67-45CC-88CD-91AB1878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90A-145E-4C20-9158-66080712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306-3C73-47DA-AE7A-F730CF15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4A2A-BA1A-472A-A29B-1470B74A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2FF-F61C-4D7A-92D9-9BE53D24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62C-CD75-43C9-84BB-69BE590F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6B9-793E-4229-BCC1-3A1301C7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5B6-04C5-4CF6-97A3-EB679B7C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585-2665-42F9-B295-172F4652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4E9-740A-4047-B6FA-7893CA05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F58-605D-41A7-B017-997F0B4D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023-CBB4-4A65-8A6F-0A85B4B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C37B-52AD-49C2-9AC7-B4AA00887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7-10-26T14:28:24Z</dcterms:modified>
  <cp:revision>18</cp:revision>
  <dc:subject/>
  <dc:title>Sin título de diapositiva</dc:title>
</cp:coreProperties>
</file>