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D7A1-5207-427D-A56E-3D94DD8E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5D72-2151-464D-A522-E05C09A6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9284-CF39-472A-94CF-CF392C0B9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8447-992A-439F-8E52-073A45C5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CAD6-DD57-4090-8B71-2C657A77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5172-56F9-4A39-8A21-7FD9BC19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A053-DF22-4E30-922C-5422DC11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532C-F1E8-4A87-B2EC-13A475BF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6C42-6ED0-46EB-9072-321E095C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532B-6EE6-4007-B675-D11787C3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42D9-51F8-48E2-9026-E8B0050A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7E01-214A-402C-8D84-BB1F5A79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9530-0125-4B5B-83D7-107B7034D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70920" y="985320"/>
            <a:ext cx="3373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243036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l au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267080" y="23619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51814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54520" y="2513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4000" y="5256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228600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76160" y="58366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62800" y="33822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83000" y="72900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¿Costo transporte públ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74636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operación del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74636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reciente con número de  usuarios (si la oferta es fi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osto medio decreciente           (Allport, 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410868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público C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a+tesp+t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352680" y="38095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6477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457200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029200" y="3886200"/>
                <a:ext cx="550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5487480" y="4037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13200" y="4151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g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391520" y="3962520"/>
                <a:ext cx="11570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6886080" y="498996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C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7588080" y="4800600"/>
                <a:ext cx="551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8121600" y="49528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 rot="16250400">
            <a:off x="7772400" y="518112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30200" y="609480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17080"/>
            <a:ext cx="7924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Demanda fija =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tre bus y au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transporte público - transporte priv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514600" y="28954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5791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38862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89480" y="32850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70572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886200" y="28954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950160" y="34070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4191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6172200"/>
            <a:ext cx="1752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82320" y="57693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6172200"/>
            <a:ext cx="24386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373000" y="57693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65530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92520" y="62092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65016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se realiza un proyecto que mejora la infraestructura para el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3733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3657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886200" y="5486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5146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514600" y="3733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1720" y="594288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Pasa esto en Santi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500"/>
                            </p:stCondLst>
                            <p:childTnLst>
                              <p:par>
                                <p:cTn id="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86256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de TP son cautiv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5715000"/>
            <a:ext cx="2666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82320" y="53121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81480" y="5715000"/>
            <a:ext cx="15242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373000" y="53121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92520" y="57520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3886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91160" y="532548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15200" y="4966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Y en el largo plaz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500"/>
                            </p:stCondLst>
                            <p:childTnLst>
                              <p:par>
                                <p:cTn id="4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783360"/>
            <a:ext cx="792468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dicen los da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cuesta de Transporte Público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71% de los usuarios de bus no tiene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24% tiene un auto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4% tiene do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1% tiene 3 o má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perciben el costo margin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048120" y="2666880"/>
            <a:ext cx="3581280" cy="22989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809880" y="26668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3733920"/>
            <a:ext cx="411480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3733920"/>
            <a:ext cx="4114800" cy="1143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51320" y="3534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87960" y="36536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21080" y="410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4191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41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500"/>
                            </p:stCondLst>
                            <p:childTnLst>
                              <p:par>
                                <p:cTn id="5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hay congestión en el sistema de 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3048120"/>
            <a:ext cx="4114800" cy="1549440"/>
          </a:xfrm>
          <a:custGeom>
            <a:avLst/>
            <a:gdLst/>
            <a:ahLst/>
            <a:rect l="l" t="t" r="r" b="b"/>
            <a:pathLst>
              <a:path w="2592" h="976">
                <a:moveTo>
                  <a:pt x="0" y="0"/>
                </a:moveTo>
                <a:cubicBezTo>
                  <a:pt x="504" y="376"/>
                  <a:pt x="1008" y="752"/>
                  <a:pt x="1440" y="864"/>
                </a:cubicBezTo>
                <a:cubicBezTo>
                  <a:pt x="1872" y="976"/>
                  <a:pt x="2232" y="824"/>
                  <a:pt x="2592" y="67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97120" y="241668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52160" y="2492640"/>
            <a:ext cx="45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809880" y="19810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505320" y="2286000"/>
            <a:ext cx="312408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4495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9480" y="743040"/>
            <a:ext cx="79250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exclus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rever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stricción veh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7-10-26T14:28:24Z</dcterms:modified>
  <cp:revision>18</cp:revision>
  <dc:subject/>
  <dc:title>Sin título de diapositiva</dc:title>
</cp:coreProperties>
</file>