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DD2-CF97-4CE4-90F8-397020CB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23D-B980-4F4D-A2B1-A3F9B288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B49-8518-43C5-A02D-A7D30357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72B-4D22-4222-B048-D79AC7B5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6FB-3AE5-40C8-A89D-CCBA3124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303-3FC0-4B23-A7EE-14B29A4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AA6-9DA9-484B-A0C0-0D8849C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16D-A55E-4947-927C-7B143DB1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D63-B473-4CA2-A3ED-46B31F9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905-CE95-4594-A04D-D748A1D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823-2670-494A-95F7-D5355459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40A-0B61-41E7-AC18-3F05D9F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5337-7D3B-465A-8823-996CFD3C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7-10-26T14:28:24Z</dcterms:modified>
  <cp:revision>18</cp:revision>
  <dc:subject/>
  <dc:title>Sin título de diapositiva</dc:title>
</cp:coreProperties>
</file>