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42D-9948-4789-A928-2CB56F2B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1CF-B7A1-4243-ADA7-C4CEE53F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0F2-45F1-449C-AE88-1323F465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B85-1AE0-47A9-A238-D2AB285D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BE3-1014-4756-AEA3-867520ED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682-22CA-4287-98B5-DA5E3C08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37F-FF3B-4DBE-889E-FB9470C0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C3B-B6F9-4413-87BD-E00D552B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024-D139-419B-9DA0-73E4698F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9DD-843B-4073-9E1D-F9B86193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CDE-B755-4A35-BE94-7F25CEBB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F0F-3977-4D89-8083-25344EDF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F27B-D07D-472E-B24C-A93174DE1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8-30T17:34:11Z</dcterms:modified>
  <cp:revision>59</cp:revision>
  <dc:subject/>
  <dc:title>Sin título de diapositiva</dc:title>
</cp:coreProperties>
</file>