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49A-1FD1-4A77-B906-D3B5506E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515-81C3-4D14-9D77-78D124E5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300-E553-42D8-991E-8FC2B8FF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29B-8BFE-4014-9D2A-CCE737A8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6BD-01AA-4FF3-9317-F37F1112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F80-A0A9-4A46-BE56-3BD42B29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F93-C9DF-44D3-A7F0-DF2B9263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164-A4BA-4D2E-9650-9438834A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F36-DF64-4F22-91CA-52D8ACCC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6B3-F5E5-4C94-9E62-504A40DF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43A-B3D0-4EB4-B360-FADD1248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44B-F893-400A-9178-B1A303E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E0B1-E95C-4C80-AF49-D2782BBCA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8-30T17:34:11Z</dcterms:modified>
  <cp:revision>59</cp:revision>
  <dc:subject/>
  <dc:title>Sin título de diapositiva</dc:title>
</cp:coreProperties>
</file>