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FE61-F9FD-4533-A53F-EE273096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FB7-2EB8-430B-9A3E-7CAFA4A61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921B-D7DD-4F49-9337-C6443F0D3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3FD1-F8B1-4916-89BA-D791CC0B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20A2-F10C-4122-A0A2-7BD32F181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3E828-EEC3-4439-A43F-219934BED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C61C-D784-4AEA-AB32-A4D7F3D83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66D4-3BE6-498C-8B64-E743CE8D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CFDC-6435-42CA-825E-25EFBEBD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A55-E7F3-4184-BB45-2E237B792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1232-D544-4F61-A08F-D8DAF122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32DE-C85D-486F-A955-E86C75C71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86C9-03FA-43DC-B710-305525980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1972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962520" y="2971800"/>
            <a:ext cx="419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3434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114800" y="4191120"/>
            <a:ext cx="99072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57200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11480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114300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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 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11430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880" y="2209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1981080"/>
                <a:ext cx="1219320" cy="112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72200" y="990720"/>
                <a:ext cx="2590920" cy="19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15228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457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ación de la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11430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06800" y="1211400"/>
            <a:ext cx="7809840" cy="25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ación desagregada ==&gt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tender al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oría de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e qué depende 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Teoría de elecciones discretas: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685800" y="3886200"/>
                <a:ext cx="8458200" cy="25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max</m:t>
                          </m:r>
                        </m:e>
                        <m:e>
                          <m:r>
                            <m:t xml:space="preserve">U</m:t>
                          </m:r>
                          <m:r>
                            <m:t xml:space="preserve">(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Q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r>
                            <m:t xml:space="preserve">)</m:t>
                          </m:r>
                        </m:e>
                      </m:mr>
                      <m:mr>
                        <m:e>
                          <m:r>
                            <m:t xml:space="preserve">X</m:t>
                          </m:r>
                          <m:r>
                            <m:t xml:space="preserve">,</m:t>
                          </m:r>
                          <m:r>
                            <m:t xml:space="preserve">i</m:t>
                          </m:r>
                        </m:e>
                        <m:e/>
                      </m:mr>
                      <m:mr>
                        <m:e/>
                        <m:e>
                          <m:r>
                            <m:t xml:space="preserve">s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a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 </m:t>
                          </m:r>
                          <m:nary>
                            <m:naryPr>
                              <m:chr m:val="∑"/>
                              <m:supHide m:val="1"/>
                            </m:naryPr>
                            <m:sub>
                              <m:r>
                                <m:t xml:space="preserve">j</m:t>
                              </m:r>
                            </m:sub>
                            <m:sup/>
                            <m:e>
                              <m:sSub>
                                <m:e>
                                  <m:r>
                                    <m:t xml:space="preserve">P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j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≤</m:t>
                              </m:r>
                              <m:r>
                                <m:t xml:space="preserve">I</m:t>
                              </m:r>
                            </m:e>
                          </m:nary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j</m:t>
                              </m:r>
                            </m:sub>
                          </m:sSub>
                          <m:r>
                            <m:t xml:space="preserve">≥</m:t>
                          </m:r>
                          <m:r>
                            <m:t xml:space="preserve">0</m:t>
                          </m:r>
                        </m:e>
                      </m:mr>
                      <m:mr>
                        <m:e/>
                        <m:e>
                          <m:r>
                            <m:t xml:space="preserve">i</m:t>
                          </m:r>
                          <m:r>
                            <m:t xml:space="preserve">∈</m:t>
                          </m:r>
                          <m:r>
                            <m:t xml:space="preserve">A</m:t>
                          </m:r>
                        </m:e>
                      </m:mr>
                    </m:m>
                    <m:m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A</m:t>
                          </m:r>
                          <m:r>
                            <m:t xml:space="preserve">: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junto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e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alternativas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disponibles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1143000"/>
            <a:ext cx="7696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ximización en dos etapas: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3809880"/>
            <a:ext cx="35053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Función de utilidad indirecta condi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V(I-C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,P,Q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1828800"/>
                <a:ext cx="3810240" cy="23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e>
                              <m:e>
                                <m:r>
                                  <m:t xml:space="preserve">U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X</m:t>
                                </m:r>
                              </m:e>
                              <m:e/>
                            </m:mr>
                            <m:mr>
                              <m:e/>
                              <m:e>
                                <m:r>
                                  <m:t xml:space="preserve">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a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t xml:space="preserve"> </m:t>
                                </m:r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</m:sSub>
                                    <m:r>
                                      <m:t xml:space="preserve">≤</m:t>
                                    </m:r>
                                    <m:r>
                                      <m:t xml:space="preserve">I</m:t>
                                    </m:r>
                                  </m:e>
                                </m:nary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≥</m:t>
                                </m:r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5257800" y="2362320"/>
                <a:ext cx="26668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5715000" y="3048120"/>
                <a:ext cx="1981080" cy="66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*,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4495680" y="190512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774720" y="5181480"/>
                <a:ext cx="3860640" cy="22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)</m:t>
                          </m:r>
                        </m:e>
                      </m:mr>
                      <m:mr>
                        <m:e/>
                      </m:mr>
                      <m:mr>
                        <m:e/>
                      </m:mr>
                      <m:mr>
                        <m:e/>
                      </m:mr>
                      <m:mr>
                        <m:e>
                          <m:r>
                            <m:t xml:space="preserve"> </m:t>
                          </m:r>
                          <m:m>
                            <m:m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max</m:t>
                                    </m:r>
                                  </m:e>
                                  <m:lim>
                                    <m:r>
                                      <m:t xml:space="preserve">i</m:t>
                                    </m:r>
                                  </m:lim>
                                </m:limLow>
                              </m:e>
                              <m:e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>
                                <m:sSub>
                                  <m:e>
                                    <m:r>
                                      <m:t xml:space="preserve">U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=</m:t>
                                </m:r>
                                <m:r>
                                  <m:t xml:space="preserve">V</m:t>
                                </m:r>
                                <m:d>
                                  <m:dPr>
                                    <m:begChr m:val="["/>
                                    <m:endChr m:val="]"/>
                                  </m:dPr>
                                  <m:e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c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  <m:mr>
                              <m:e/>
                              <m:e/>
                            </m:mr>
                          </m:m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1143000"/>
            <a:ext cx="373392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modelamos U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U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724280" y="18288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q: individ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i: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299736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657600" y="299736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219320" y="3645000"/>
            <a:ext cx="7391160" cy="27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¿cuáles serán los 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P(i/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 = Pr(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gt;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+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, para todo j en A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 Pr(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- 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jn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depende de la distribución de </a:t>
            </a:r>
            <a:r>
              <a:rPr b="0" lang="es-ES_tradnl" sz="3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Modelación de la Partición Modal: Teoría de elecciones discre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4400" y="1143000"/>
            <a:ext cx="3124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N(0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40384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038480" y="1295280"/>
                <a:ext cx="4572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∞</m:t>
                        </m:r>
                      </m:sub>
                      <m:sup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q</m:t>
                            </m:r>
                          </m:sub>
                        </m:sSub>
                      </m:sup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−</m:t>
                            </m:r>
                            <m:r>
                              <m:t xml:space="preserve">∞</m:t>
                            </m:r>
                          </m:sub>
                          <m:sup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q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nary>
                              <m:naryPr>
                                <m:chr m:val="∫"/>
                              </m:naryPr>
                              <m:sub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,</m:t>
                                </m:r>
                                <m:nary>
                                  <m:naryPr>
                                    <m:chr m:val="∑"/>
                                    <m:subHide m:val="1"/>
                                    <m:supHide m:val="1"/>
                                  </m:naryPr>
                                  <m:sub/>
                                  <m:sup/>
                                  <m:e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dε</m:t>
                                </m:r>
                              </m:e>
                            </m:nary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990720" y="2286000"/>
            <a:ext cx="7848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ES_tradnl" sz="28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~ Gumbel(Weibull, Valor Extremo)  --&gt;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1828800" y="3124080"/>
                <a:ext cx="5835600" cy="93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μ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acc>
                          <m:accPr>
                            <m:chr m:val="⃛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)</m:t>
                        </m:r>
                      </m:sup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μ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⃛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sup>
                        </m:sSup>
                      </m:sup>
                    </m:sSup>
                    <m:r>
                      <m:t xml:space="preserve"> 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905120" y="47242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4343400" y="48006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371600" y="609588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modelo Logit Multinom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86200" y="1447920"/>
            <a:ext cx="4800600" cy="18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pende de los atributos de i y del res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ólo importan las diferencias entre alternativas.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487692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14600" y="3657600"/>
            <a:ext cx="60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 de escala que no se puede estimar (parámetro no identifi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143000" y="3657600"/>
                <a:ext cx="121932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914400" y="1066680"/>
                <a:ext cx="243828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i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μ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q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μ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1752480" y="228600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μ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q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990720" y="5791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066680" y="4876920"/>
                <a:ext cx="192420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 rot="16090200">
            <a:off x="3924360" y="5218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5334120"/>
            <a:ext cx="1218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4876920"/>
            <a:ext cx="2514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--&gt; </a:t>
            </a:r>
            <a:r>
              <a:rPr b="0" lang="es-ES_tradnl" sz="24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=V</a:t>
            </a:r>
            <a:r>
              <a:rPr b="0" lang="es-ES_tradnl" sz="2400" spc="-1" strike="noStrike" baseline="-25000">
                <a:solidFill>
                  <a:srgbClr val="3333cc"/>
                </a:solidFill>
                <a:latin typeface="Comic Sans MS"/>
              </a:rPr>
              <a:t>iq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1522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CI43A Análisis de Sistemas de Transpor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1143000"/>
            <a:ext cx="8001000" cy="56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estima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observamos los atributos (X) y las elecciones (i) de muchos individ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--&gt; buscamos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' tal que las predicciones sean buenas, al menos para la muestra de calib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 sabemos si son buen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Max P(Felipe elija bus, Juan elija metro, Camila elija bu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      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=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F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Metro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J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 P(Bus/(A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,X</a:t>
            </a:r>
            <a:r>
              <a:rPr b="1" lang="es-ES_tradnl" sz="2000" spc="-1" strike="noStrike" baseline="-25000">
                <a:solidFill>
                  <a:srgbClr val="3333cc"/>
                </a:solidFill>
                <a:latin typeface="Comic Sans MS"/>
              </a:rPr>
              <a:t>C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</a:rPr>
              <a:t>)·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Maximizar la probabilidad de que lo predicho sea igual a lo observ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</a:rPr>
              <a:t>--&gt; MÁXIMA VEROSIMILIT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1143000"/>
            <a:ext cx="800100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pasa si todas las alternativas tienen la misma uti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ando se alcanzan los valores límite 0 y 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fecto de la componente aleatoria representada por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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uy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Independencia de alternativas irrelev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(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/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8001000" cy="41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piedades del modelo MNL (Logit Multinom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nstantes modales (específic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j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1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3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2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1905120" y="4191120"/>
            <a:ext cx="38088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51814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pretación de los parámetros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7-08-30T17:34:11Z</dcterms:modified>
  <cp:revision>59</cp:revision>
  <dc:subject/>
  <dc:title>Sin título de diapositiva</dc:title>
</cp:coreProperties>
</file>