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01B-FD2E-4011-B2B1-5935EA62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104-8BF2-4969-9968-2ACFCF42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01F-4F63-40BF-9F98-007C95F3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01B-A4BB-4DB9-B414-6EEBCE8F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07E-13BE-4B75-B0BB-68B07B23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25B-DE21-4ED5-9573-E12D1F42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C3D-C9CC-4603-BA77-C3EF9697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5FC-4F79-4A52-8771-36A7D9B2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9DB-E04D-4800-A395-9B06A719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DA4-18DD-4D60-8A1B-049A6A3A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61C-39CF-44E0-BACE-7402BA12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CCC8-DCF6-4632-9686-F059170B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0B7C-5328-421A-9C1C-049A543E1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8-30T17:34:11Z</dcterms:modified>
  <cp:revision>59</cp:revision>
  <dc:subject/>
  <dc:title>Sin título de diapositiva</dc:title>
</cp:coreProperties>
</file>