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974-32DA-4C3B-8435-6ABD98CB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F7A-00D2-4D12-AF96-D031D696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278-CEA0-45D9-B32F-5479793E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8E2-4A0B-4068-A941-57FD4AED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439-E9F3-475D-93A2-DA7F034F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DEE-565C-4AAA-BAFF-C54F31C1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18D6-81E5-44DB-AC7F-A4146C8A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453-0090-4C3F-82C0-B971CB8B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883-8851-44C4-9E56-A7AE19E4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589-7A7C-4FA2-AEBE-9D5BAEE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E53-DAD7-4959-9404-FBEE7ED5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F76-1A55-4112-BE94-0BFFC4AD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E839-0DA6-42A7-88BA-A64FB8FA2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8-30T17:34:11Z</dcterms:modified>
  <cp:revision>59</cp:revision>
  <dc:subject/>
  <dc:title>Sin título de diapositiva</dc:title>
</cp:coreProperties>
</file>