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429-4F6A-41A8-B4A8-5E1871B6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974-B4B3-4BDC-9522-19DA355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BFD-8813-4E4B-9ECF-2D0FB6E0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854-0FA0-426E-A96F-E158C797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67D-618D-4504-AF93-30C21292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4D5-32DE-4D6F-9D93-E53093E5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096-0D4E-4F76-848C-3C3B794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832-4942-4C28-A697-A06CE0E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719-79FF-4C55-9107-7884C96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DB6-58F1-4139-8FAE-0B53673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D78-5FCB-484D-8DFE-0009722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BE6-61D6-442F-A545-0591153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1AAD-D43A-4243-A389-62640CBAED8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17T14:54:22Z</dcterms:modified>
  <cp:revision>26</cp:revision>
  <dc:subject/>
  <dc:title>Sin título de diapositiva</dc:title>
</cp:coreProperties>
</file>