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6B5-E382-4075-97D7-26676C43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DED-262D-4D94-9ADF-27B44899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96C-EF5B-4A76-BFBD-1B0D3227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E04-88BB-4FD9-A9D1-40D62861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0F7-5ACD-40B8-8E76-3324096C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F62-4F13-4B6C-BF98-D3C364BA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3F5-B6C5-42AF-9C83-2256CB61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02A-D65B-4A04-8DCC-DB0F36F7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1A7-7DD3-44C2-AF8C-EFA6CBD6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6BD-E5EA-4A5E-B682-C6DA6A44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01C-5B4C-4FB7-AC58-07372EB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263-3FF8-4979-AE69-AD6389B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2C4C-4D05-4643-95D2-0C8EA8EFCC1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500"/>
                            </p:stCondLst>
                            <p:childTnLst>
                              <p:par>
                                <p:cTn id="1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7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0" idx="3"/>
            <a:endCxn id="622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31" idx="3"/>
            <a:endCxn id="620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3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29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endCxn id="624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8-17T14:54:22Z</dcterms:modified>
  <cp:revision>26</cp:revision>
  <dc:subject/>
  <dc:title>Sin título de diapositiva</dc:title>
</cp:coreProperties>
</file>