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61BF-5992-47D0-9403-5811ADA6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41DE-789A-465A-A5F6-A9818778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C7F-032A-4BC2-951B-B95FF28C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AC3-5022-413D-853B-1AF2CE15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7E7-28C3-4ACF-B350-8E252C5E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C55-1DC6-4CF2-BE22-45134B6C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7AD-7930-4C3E-BC44-DA1C5B51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737-E39F-4818-B87E-8DC787DA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514-1021-43C9-9EB3-AA5F2918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8DE-6B28-4307-B9C4-85351CE1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8D2-5930-445B-A210-9F255737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6CE-5C01-45FD-A849-1B6FD02B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5EB5-11EF-4C47-BBC3-BA0B6AB4C6E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0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5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762120"/>
            <a:ext cx="91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ización de la Entrop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19810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30481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627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95480" y="42670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5400000">
            <a:off x="1790640" y="15616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2324160" y="27810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198108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09680" y="3048120"/>
            <a:ext cx="76212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95480" y="4267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500"/>
                            </p:stCondLst>
                            <p:childTnLst>
                              <p:par>
                                <p:cTn id="18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500"/>
                            </p:stCondLst>
                            <p:childTnLst>
                              <p:par>
                                <p:cTn id="1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4" dur="indefinite" restart="never" nodeType="tmRoot">
          <p:childTnLst>
            <p:seq>
              <p:cTn id="1895" dur="indefinite" nodeType="mainSeq">
                <p:childTnLst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2" dur="indefinite" restart="never" nodeType="tmRoot">
          <p:childTnLst>
            <p:seq>
              <p:cTn id="1963" dur="indefinite" nodeType="mainSeq">
                <p:childTnLst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"/>
          <p:cNvCxnSpPr>
            <a:stCxn id="627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0" idx="3"/>
            <a:endCxn id="622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31" idx="3"/>
            <a:endCxn id="620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33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29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endCxn id="624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651640" y="1341360"/>
          <a:ext cx="3314520" cy="20955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1341360"/>
                    <a:ext cx="331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43680" y="3936960"/>
          <a:ext cx="3377880" cy="2095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3936960"/>
                    <a:ext cx="3377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8-17T14:54:22Z</dcterms:modified>
  <cp:revision>26</cp:revision>
  <dc:subject/>
  <dc:title>Sin título de diapositiva</dc:title>
</cp:coreProperties>
</file>