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11A-A8A5-485A-9A93-AB41F3CB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9A7-3533-440E-B385-EF4CAEFC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1E3-0CEB-443C-9F51-B124E65A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2D8-DA46-4AEC-BE18-247428D3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563-92B6-4C3B-AB86-CC35B046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644-307D-44D0-A2EF-93D2F978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DF8-8ED1-4CCD-887B-5507343A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208-87DE-4169-A4BD-0DBD94B1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A2F-121F-4AEC-A8A8-F3D1D09B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D29-6945-45A3-988D-928DB4A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DCC-D250-4366-AE28-F5F14676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13E-BF56-402C-ABF0-AAC35373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A265-7B71-44DE-A410-A09408D38AD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0" idx="3"/>
            <a:endCxn id="62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31" idx="3"/>
            <a:endCxn id="62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endCxn id="62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17T14:54:22Z</dcterms:modified>
  <cp:revision>26</cp:revision>
  <dc:subject/>
  <dc:title>Sin título de diapositiva</dc:title>
</cp:coreProperties>
</file>