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210-DAD6-4610-9835-78EE2B8C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A12-5FEB-48F7-9A02-76D5200A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C44-E7F4-4102-95D2-37FA08B3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D7C-1E30-4636-98F7-D345E1E2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F27-C4A6-4F6E-9DA0-D358588F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989-F0EA-4597-9F33-8EA72D63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51B-B635-4F39-9D8B-A98FFAC0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343-7172-493F-8B99-4D2FF697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4B1-D685-452A-B233-F89D3F06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CF7-E5E8-4995-9E24-A6C206C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2C6-8DFB-4886-A81D-F4878A2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998-D7E8-49FD-BE43-4B233EB5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87B8-2BF3-4FAE-8363-15831D70A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6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7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9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500"/>
                            </p:stCondLst>
                            <p:childTnLst>
                              <p:par>
                                <p:cTn id="2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2" dur="indefinite" restart="never" nodeType="tmRoot">
          <p:childTnLst>
            <p:seq>
              <p:cTn id="2143" dur="indefinite" nodeType="mainSeq">
                <p:childTnLst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41:28Z</dcterms:modified>
  <cp:revision>61</cp:revision>
  <dc:subject/>
  <dc:title>Sin título de diapositiva</dc:title>
</cp:coreProperties>
</file>