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DFC-B5BC-4701-BFB6-4FEC8D14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275-EC6C-4148-8352-5F05BF8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57A-8636-4DAB-8E18-F3A30E71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064-CB30-4DE7-B5B0-8D5CED50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DB7-5500-4F32-A1E2-E8A2F77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686-C1F2-4FD6-9B87-1C342DEB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C52-C371-43C3-80DF-A7136E35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8F2-0242-4DE3-84E5-2F9916E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9CA-A072-4EF4-B021-D6E0BCF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C6F-FCA5-4358-9156-5812CF2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1CC-6C0A-4E9A-9D50-AC28EED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B98-0BCA-4A50-8D79-0639DDC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3F8-65B1-401A-8522-6AF811FEB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9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500"/>
                            </p:stCondLst>
                            <p:childTnLst>
                              <p:par>
                                <p:cTn id="2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41:28Z</dcterms:modified>
  <cp:revision>61</cp:revision>
  <dc:subject/>
  <dc:title>Sin título de diapositiva</dc:title>
</cp:coreProperties>
</file>