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D9A-8536-47BE-A2CF-8CDB46C9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DA2-73B5-42C9-8493-BD30C622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BE1-8925-4BF7-A8E2-C2FAA2DC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A19-FF24-431A-99BD-554DA215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8A2-4FF0-4165-9556-74F38E32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824-44FD-441C-B529-9837F3EE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4E9-9B5A-4F60-9C4D-DF7CBA1F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02D-363F-4CBE-94C9-08EA5FB2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51C-48DB-4F68-B5A2-C407F616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555-BF30-4CBB-9630-7C2E3EA2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63E-D2A6-4F9A-B31C-D3C924E7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DE9-8841-42B8-9938-556AB76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3B23-A51D-4464-81AF-7ACCC52BE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6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523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81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5238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51460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80060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5562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5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5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5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6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7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9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500"/>
                            </p:stCondLst>
                            <p:childTnLst>
                              <p:par>
                                <p:cTn id="2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2" dur="indefinite" restart="never" nodeType="tmRoot">
          <p:childTnLst>
            <p:seq>
              <p:cTn id="2143" dur="indefinite" nodeType="mainSeq">
                <p:childTnLst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00"/>
                            </p:stCondLst>
                            <p:childTnLst>
                              <p:par>
                                <p:cTn id="2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97180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2120" y="4786200"/>
              <a:ext cx="36432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495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5638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5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1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6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0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5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41:28Z</dcterms:modified>
  <cp:revision>61</cp:revision>
  <dc:subject/>
  <dc:title>Sin título de diapositiva</dc:title>
</cp:coreProperties>
</file>