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7325-E20B-4BF3-837D-4D116657F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0461-A327-4A38-822F-7BD3CED9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FCBE-E905-4FDD-B978-A9886AE5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8892-9409-4A5D-B2CE-A71109F1A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5FE7-B2F3-4F2A-907B-C1A33067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5C61-0334-4366-97E9-39639DA6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601F-61F7-418E-8A47-899CBB65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D915-EDA6-4C98-AE4E-C788EE14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FA72-E579-4FD5-9BC5-34C518BD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94FC-D464-450B-A214-76EC870D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0E81-CD89-46CD-96B1-CCA724CC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933B-1113-46DE-A927-DE1F663D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9F28-FF0F-4E85-A3AA-B69CB4025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74880" y="234792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2576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26528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114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un mercado por servicios de transporte que puede ser separado y analizado en forma independiente de los demás mercados.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.e. Las relaciones de tipo 1 pueden ser separadas de las de tipo 2 y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5105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2286000"/>
            <a:ext cx="6248520" cy="3660120"/>
            <a:chOff x="0" y="2286000"/>
            <a:chExt cx="6248520" cy="3660120"/>
          </a:xfrm>
        </p:grpSpPr>
        <p:sp>
          <p:nvSpPr>
            <p:cNvPr id="166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2120" y="5562720"/>
              <a:ext cx="510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8600" y="2286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2720" y="5486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6232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146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1440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99072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576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7339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71600" y="358128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38480" y="4343400"/>
              <a:ext cx="762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790560" y="3233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776160" y="467676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29718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2485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624852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248520" y="3581280"/>
            <a:ext cx="190476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0100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48520" y="3124080"/>
            <a:ext cx="2133360" cy="1524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48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5867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Ubicar: Q dada una tarifa de transporte t, Qmax, t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61563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Graficar la curva de demanda por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Agregar una curva de oferta de transporte e identificar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724280" y="24379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428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0" y="2437920"/>
            <a:ext cx="3352680" cy="3584520"/>
            <a:chOff x="0" y="2437920"/>
            <a:chExt cx="3352680" cy="3584520"/>
          </a:xfrm>
        </p:grpSpPr>
        <p:sp>
          <p:nvSpPr>
            <p:cNvPr id="196" name=""/>
            <p:cNvSpPr/>
            <p:nvPr/>
          </p:nvSpPr>
          <p:spPr>
            <a:xfrm flipV="1">
              <a:off x="68580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5800" y="55627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85800" y="3581280"/>
              <a:ext cx="1905120" cy="1067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38280" y="3124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EO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5800" y="3124080"/>
              <a:ext cx="2133720" cy="1524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86000" y="4800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E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27432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19320" y="35053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85800" y="3505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858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8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2120" y="5562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32004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40384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90720" y="3962520"/>
              <a:ext cx="1440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95280" y="5562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Nuevo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5638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iénes ganan y quienes pierd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981080" y="2437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81080" y="5029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27432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-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3200400"/>
            <a:ext cx="2057400" cy="182880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5268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19520" y="2895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=Q(t=0)=ED1(p1=p2)=EO2(p1=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s sub-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ó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ar o enviar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odelo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Modelos de equilibri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657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cis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152388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viajar o n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24382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hacia don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5812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47242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por qué ru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67080" y="1523880"/>
            <a:ext cx="22100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2514600"/>
            <a:ext cx="25146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3657600"/>
            <a:ext cx="27432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4800600"/>
            <a:ext cx="22860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57400" y="55627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o clásic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76520" y="609588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¿Son separables estas deci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500"/>
                            </p:stCondLst>
                            <p:childTnLst>
                              <p:par>
                                <p:cTn id="56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El producto en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971800" y="1828800"/>
                <a:ext cx="24192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685800" y="297180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k: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: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i: 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j: dest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se puede mirar cada viaj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s necesario juntar viajes “parec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Period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Punta mañana, punta tarde, meses del año, fines de semana, feriado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tudiantes, trabajadores, tercera edad, género,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Agregación por propósito de vi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Agregación espa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&gt; Zon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iterios: tamaño y número de zonas, compatibilidad con otras zonificaciones, homogene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533520" y="228600"/>
            <a:ext cx="807696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generados (producidos) o atraídos por cad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origen en la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destino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es O/D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s de los que salen de i van a j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62120" y="4038480"/>
                <a:ext cx="3581280" cy="260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/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/>
                        <m:e>
                          <m:r>
                            <m:t xml:space="preserve">n</m:t>
                          </m:r>
                        </m:e>
                        <m:e/>
                      </m:mr>
                      <m:mr>
                        <m:e>
                          <m:r>
                            <m:t xml:space="preserve">1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r>
                            <m:t xml:space="preserve">n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/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  <m:e>
                          <m:r>
                            <m:t xml:space="preserve">T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762120" y="4419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76920" y="4267080"/>
            <a:ext cx="396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Orige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095880" y="4876920"/>
                <a:ext cx="2210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4952880" y="533412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l elegi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0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5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2000"/>
                            </p:stCondLst>
                            <p:childTnLst>
                              <p:par>
                                <p:cTn id="7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33520" y="228600"/>
            <a:ext cx="80769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990720" y="1676520"/>
                <a:ext cx="14475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2819520" y="1676520"/>
            <a:ext cx="27432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.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38680" y="175248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17524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391520" y="1828800"/>
            <a:ext cx="75960" cy="1143000"/>
          </a:xfrm>
          <a:custGeom>
            <a:avLst/>
            <a:gdLst>
              <a:gd name="textAreaLeft" fmla="*/ 0 w 75960"/>
              <a:gd name="textAreaRight" fmla="*/ 2736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7848720" y="2133720"/>
                <a:ext cx="698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1143000" y="2819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: m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358128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029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 por viajes en auto o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19520" y="525780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6720" y="5257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38680" y="53341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s y tiempos en arcos,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76720" y="5257800"/>
            <a:ext cx="1600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29200" y="55627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1972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ición de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9720" y="3886200"/>
            <a:ext cx="2971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266720" y="441972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00"/>
                            </p:stCondLst>
                            <p:childTnLst>
                              <p:par>
                                <p:cTn id="84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500"/>
                            </p:stCondLst>
                            <p:childTnLst>
                              <p:par>
                                <p:cTn id="8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cemos unidimensionalmente (teniendo claro que no lo es)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: volumen o magnitud de flujo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: características del nivel de servicio experimentado por un cierto flujo de usuarios en T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=S(T,V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servici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=D(A,S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demanda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2500"/>
                            </p:stCondLst>
                            <p:childTnLst>
                              <p:par>
                                <p:cTn id="9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3500"/>
                            </p:stCondLst>
                            <p:childTnLst>
                              <p:par>
                                <p:cTn id="93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6000"/>
                            </p:stCondLst>
                            <p:childTnLst>
                              <p:par>
                                <p:cTn id="9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6500"/>
                            </p:stCondLst>
                            <p:childTnLst>
                              <p:par>
                                <p:cTn id="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7000"/>
                            </p:stCondLst>
                            <p:childTnLst>
                              <p:par>
                                <p:cTn id="95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9500"/>
                            </p:stCondLst>
                            <p:childTnLst>
                              <p:par>
                                <p:cTn id="9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96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13500"/>
                            </p:stCondLst>
                            <p:childTnLst>
                              <p:par>
                                <p:cTn id="9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9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9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5000"/>
                            </p:stCondLst>
                            <p:childTnLst>
                              <p:par>
                                <p:cTn id="9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5500"/>
                            </p:stCondLst>
                            <p:childTnLst>
                              <p:par>
                                <p:cTn id="9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15238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                   Enfoque Manheim      Mercado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8080" y="3809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57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274320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373392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657600" y="373392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657600" y="274320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09680" y="3200400"/>
            <a:ext cx="381240" cy="76320"/>
          </a:xfrm>
          <a:prstGeom prst="lef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09680" y="4191120"/>
            <a:ext cx="381240" cy="75960"/>
          </a:xfrm>
          <a:prstGeom prst="leftArrow">
            <a:avLst>
              <a:gd name="adj1" fmla="val 50000"/>
              <a:gd name="adj2" fmla="val 125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6720" y="41911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76720" y="320040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09680" y="289548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09680" y="388620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388620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289548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2120" y="4876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viajes que tienen como origen o como destino el hogar, dependen de las características y actividades de sus habit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43600" y="243828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gmentar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ra del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6500"/>
                            </p:stCondLst>
                            <p:childTnLst>
                              <p:par>
                                <p:cTn id="1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7500"/>
                            </p:stCondLst>
                            <p:childTnLst>
                              <p:par>
                                <p:cTn id="1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13716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mode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2514600"/>
            <a:ext cx="4327560" cy="2448000"/>
          </a:xfrm>
          <a:custGeom>
            <a:avLst/>
            <a:gdLst/>
            <a:ahLst/>
            <a:rect l="l" t="t" r="r" b="b"/>
            <a:pathLst>
              <a:path w="2726" h="1542">
                <a:moveTo>
                  <a:pt x="612" y="184"/>
                </a:moveTo>
                <a:cubicBezTo>
                  <a:pt x="608" y="251"/>
                  <a:pt x="617" y="328"/>
                  <a:pt x="579" y="387"/>
                </a:cubicBezTo>
                <a:cubicBezTo>
                  <a:pt x="550" y="504"/>
                  <a:pt x="385" y="457"/>
                  <a:pt x="295" y="460"/>
                </a:cubicBezTo>
                <a:cubicBezTo>
                  <a:pt x="168" y="470"/>
                  <a:pt x="145" y="479"/>
                  <a:pt x="68" y="581"/>
                </a:cubicBezTo>
                <a:cubicBezTo>
                  <a:pt x="47" y="708"/>
                  <a:pt x="0" y="903"/>
                  <a:pt x="125" y="987"/>
                </a:cubicBezTo>
                <a:cubicBezTo>
                  <a:pt x="187" y="1029"/>
                  <a:pt x="296" y="1012"/>
                  <a:pt x="368" y="1019"/>
                </a:cubicBezTo>
                <a:cubicBezTo>
                  <a:pt x="558" y="1114"/>
                  <a:pt x="687" y="1197"/>
                  <a:pt x="887" y="1230"/>
                </a:cubicBezTo>
                <a:cubicBezTo>
                  <a:pt x="1154" y="1319"/>
                  <a:pt x="1381" y="1510"/>
                  <a:pt x="1666" y="1538"/>
                </a:cubicBezTo>
                <a:cubicBezTo>
                  <a:pt x="1712" y="1533"/>
                  <a:pt x="1762" y="1542"/>
                  <a:pt x="1804" y="1522"/>
                </a:cubicBezTo>
                <a:cubicBezTo>
                  <a:pt x="1813" y="1518"/>
                  <a:pt x="1827" y="1427"/>
                  <a:pt x="1828" y="1416"/>
                </a:cubicBezTo>
                <a:cubicBezTo>
                  <a:pt x="1834" y="1373"/>
                  <a:pt x="1844" y="1287"/>
                  <a:pt x="1844" y="1287"/>
                </a:cubicBezTo>
                <a:cubicBezTo>
                  <a:pt x="1847" y="1160"/>
                  <a:pt x="1736" y="957"/>
                  <a:pt x="1852" y="906"/>
                </a:cubicBezTo>
                <a:cubicBezTo>
                  <a:pt x="1954" y="861"/>
                  <a:pt x="2456" y="934"/>
                  <a:pt x="2712" y="970"/>
                </a:cubicBezTo>
                <a:cubicBezTo>
                  <a:pt x="2715" y="946"/>
                  <a:pt x="2726" y="921"/>
                  <a:pt x="2720" y="897"/>
                </a:cubicBezTo>
                <a:cubicBezTo>
                  <a:pt x="2712" y="867"/>
                  <a:pt x="2690" y="841"/>
                  <a:pt x="2671" y="816"/>
                </a:cubicBezTo>
                <a:cubicBezTo>
                  <a:pt x="2581" y="697"/>
                  <a:pt x="2502" y="648"/>
                  <a:pt x="2363" y="614"/>
                </a:cubicBezTo>
                <a:cubicBezTo>
                  <a:pt x="2341" y="598"/>
                  <a:pt x="2315" y="586"/>
                  <a:pt x="2298" y="565"/>
                </a:cubicBezTo>
                <a:cubicBezTo>
                  <a:pt x="2287" y="552"/>
                  <a:pt x="2292" y="530"/>
                  <a:pt x="2282" y="516"/>
                </a:cubicBezTo>
                <a:cubicBezTo>
                  <a:pt x="2265" y="493"/>
                  <a:pt x="2239" y="479"/>
                  <a:pt x="2217" y="460"/>
                </a:cubicBezTo>
                <a:cubicBezTo>
                  <a:pt x="2212" y="444"/>
                  <a:pt x="2214" y="422"/>
                  <a:pt x="2201" y="411"/>
                </a:cubicBezTo>
                <a:cubicBezTo>
                  <a:pt x="2189" y="400"/>
                  <a:pt x="2169" y="404"/>
                  <a:pt x="2152" y="403"/>
                </a:cubicBezTo>
                <a:cubicBezTo>
                  <a:pt x="2087" y="399"/>
                  <a:pt x="2023" y="398"/>
                  <a:pt x="1958" y="395"/>
                </a:cubicBezTo>
                <a:cubicBezTo>
                  <a:pt x="1936" y="392"/>
                  <a:pt x="1909" y="402"/>
                  <a:pt x="1893" y="387"/>
                </a:cubicBezTo>
                <a:cubicBezTo>
                  <a:pt x="1879" y="374"/>
                  <a:pt x="1893" y="347"/>
                  <a:pt x="1885" y="330"/>
                </a:cubicBezTo>
                <a:cubicBezTo>
                  <a:pt x="1881" y="321"/>
                  <a:pt x="1867" y="321"/>
                  <a:pt x="1860" y="314"/>
                </a:cubicBezTo>
                <a:cubicBezTo>
                  <a:pt x="1803" y="263"/>
                  <a:pt x="1757" y="224"/>
                  <a:pt x="1682" y="200"/>
                </a:cubicBezTo>
                <a:cubicBezTo>
                  <a:pt x="1553" y="50"/>
                  <a:pt x="1703" y="205"/>
                  <a:pt x="1585" y="127"/>
                </a:cubicBezTo>
                <a:cubicBezTo>
                  <a:pt x="1566" y="114"/>
                  <a:pt x="1556" y="90"/>
                  <a:pt x="1536" y="79"/>
                </a:cubicBezTo>
                <a:cubicBezTo>
                  <a:pt x="1504" y="61"/>
                  <a:pt x="1421" y="57"/>
                  <a:pt x="1390" y="54"/>
                </a:cubicBezTo>
                <a:cubicBezTo>
                  <a:pt x="1291" y="21"/>
                  <a:pt x="1156" y="0"/>
                  <a:pt x="1082" y="79"/>
                </a:cubicBezTo>
                <a:cubicBezTo>
                  <a:pt x="1054" y="246"/>
                  <a:pt x="1074" y="160"/>
                  <a:pt x="774" y="152"/>
                </a:cubicBezTo>
                <a:cubicBezTo>
                  <a:pt x="716" y="130"/>
                  <a:pt x="663" y="158"/>
                  <a:pt x="612" y="18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" y="342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nómeno an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2895480"/>
            <a:ext cx="1905120" cy="45720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86200" y="3276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bstracción de los aspectos má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244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0866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010280" y="3581280"/>
            <a:ext cx="13716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" y="5334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 endógenas 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33920" y="55627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f            (variables exógenas, independientes, explic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514240" y="59436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500"/>
                            </p:stCondLst>
                            <p:childTnLst>
                              <p:par>
                                <p:cTn id="1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500"/>
                            </p:stCondLst>
                            <p:childTnLst>
                              <p:par>
                                <p:cTn id="1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500"/>
                            </p:stCondLst>
                            <p:childTnLst>
                              <p:par>
                                <p:cTn id="12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500"/>
                            </p:stCondLst>
                            <p:childTnLst>
                              <p:par>
                                <p:cTn id="1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35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l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447920" y="1828800"/>
                <a:ext cx="2431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4632480" y="2666880"/>
                <a:ext cx="28908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533520" y="2819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qué depend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480" y="4114800"/>
            <a:ext cx="8077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28600" y="30492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2590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a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50·2,5 + 250·6 = 2.125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609480" y="3276720"/>
                <a:ext cx="19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3352680" y="3352680"/>
            <a:ext cx="3733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·2.125 = 4.250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4572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muy pobre, no se usa mu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520" y="1371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s más sofisticados requieren información para ser calibrados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75560" y="3809880"/>
            <a:ext cx="66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" y="2514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lección d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81480" y="2133720"/>
            <a:ext cx="2895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ser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480" y="4419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form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52680" y="358128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tastral - 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l - enc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rie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952880" y="22096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37339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48006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29400" y="38862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5943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OD: Encuesta Origen-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500"/>
                            </p:stCondLst>
                            <p:childTnLst>
                              <p:par>
                                <p:cTn id="1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500"/>
                            </p:stCondLst>
                            <p:childTnLst>
                              <p:par>
                                <p:cTn id="1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500"/>
                            </p:stCondLst>
                            <p:childTnLst>
                              <p:par>
                                <p:cTn id="1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520" y="13716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vel de agre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dad de análisi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4080" y="1743480"/>
            <a:ext cx="15112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733920" y="18288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9480" y="296604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H: viaje basado en el hogar: aquel que tiene como origen o como destino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BH: viaje no basado en el ho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2" dur="indefinite" restart="never" nodeType="tmRoot">
          <p:childTnLst>
            <p:seq>
              <p:cTn id="1373" dur="indefinite" nodeType="mainSeq">
                <p:childTnLst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500"/>
                            </p:stCondLst>
                            <p:childTnLst>
                              <p:par>
                                <p:cTn id="1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X no son estocásticos, no existe relación lineal entre dos variables independ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4038480" y="53341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3" dur="indefinite" restart="never" nodeType="tmRoot">
          <p:childTnLst>
            <p:seq>
              <p:cTn id="1454" dur="indefinite" nodeType="mainSeq">
                <p:childTnLst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500"/>
                            </p:stCondLst>
                            <p:childTnLst>
                              <p:par>
                                <p:cTn id="14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66880" y="297180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ersonas, 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90920" y="4495680"/>
            <a:ext cx="1904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Accesi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0" dur="indefinite" restart="never" nodeType="tmRoot">
          <p:childTnLst>
            <p:seq>
              <p:cTn id="1491" dur="indefinite" nodeType="mainSeq">
                <p:childTnLst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657600"/>
            <a:ext cx="15238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505320"/>
            <a:ext cx="1676160" cy="119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90720" y="2514600"/>
            <a:ext cx="2666880" cy="1142640"/>
            <a:chOff x="990720" y="2514600"/>
            <a:chExt cx="2666880" cy="1142640"/>
          </a:xfrm>
        </p:grpSpPr>
        <p:sp>
          <p:nvSpPr>
            <p:cNvPr id="52" name=""/>
            <p:cNvSpPr/>
            <p:nvPr/>
          </p:nvSpPr>
          <p:spPr>
            <a:xfrm>
              <a:off x="1981080" y="2514600"/>
              <a:ext cx="1676520" cy="825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ofer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990720" y="2971440"/>
              <a:ext cx="990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90720" y="4114800"/>
            <a:ext cx="2743200" cy="1654920"/>
            <a:chOff x="990720" y="4114800"/>
            <a:chExt cx="2743200" cy="1654920"/>
          </a:xfrm>
        </p:grpSpPr>
        <p:sp>
          <p:nvSpPr>
            <p:cNvPr id="55" name=""/>
            <p:cNvSpPr/>
            <p:nvPr/>
          </p:nvSpPr>
          <p:spPr>
            <a:xfrm>
              <a:off x="2057400" y="4578480"/>
              <a:ext cx="1676520" cy="11912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man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90720" y="4114800"/>
              <a:ext cx="10666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657600" y="2971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733920" y="43430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0" y="2460600"/>
            <a:ext cx="2514600" cy="1557000"/>
            <a:chOff x="4572000" y="2460600"/>
            <a:chExt cx="2514600" cy="1557000"/>
          </a:xfrm>
        </p:grpSpPr>
        <p:sp>
          <p:nvSpPr>
            <p:cNvPr id="60" name=""/>
            <p:cNvSpPr/>
            <p:nvPr/>
          </p:nvSpPr>
          <p:spPr>
            <a:xfrm>
              <a:off x="5257800" y="246060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consumo de recur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572000" y="2895480"/>
              <a:ext cx="685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572000" y="4152960"/>
            <a:ext cx="2548080" cy="1557000"/>
            <a:chOff x="4572000" y="4152960"/>
            <a:chExt cx="2548080" cy="1557000"/>
          </a:xfrm>
        </p:grpSpPr>
        <p:sp>
          <p:nvSpPr>
            <p:cNvPr id="63" name=""/>
            <p:cNvSpPr/>
            <p:nvPr/>
          </p:nvSpPr>
          <p:spPr>
            <a:xfrm>
              <a:off x="5291280" y="415296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splazamiento de activida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0" y="4343400"/>
              <a:ext cx="685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81480" y="2895480"/>
            <a:ext cx="3733920" cy="1981080"/>
            <a:chOff x="5181480" y="2895480"/>
            <a:chExt cx="3733920" cy="1981080"/>
          </a:xfrm>
        </p:grpSpPr>
        <p:sp>
          <p:nvSpPr>
            <p:cNvPr id="66" name=""/>
            <p:cNvSpPr/>
            <p:nvPr/>
          </p:nvSpPr>
          <p:spPr>
            <a:xfrm>
              <a:off x="7238880" y="3648240"/>
              <a:ext cx="1676520" cy="4597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Impac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86600" y="289548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7162920" y="4114440"/>
              <a:ext cx="7617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81480" y="38862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3733560" y="5257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657240" y="2590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" y="1371600"/>
            <a:ext cx="84582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: socioeconómicas de los hogares de la zona o de uso de suelo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e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3200400" y="144792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457200" y="22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a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3349800" y="2362320"/>
                <a:ext cx="4424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685800" y="2971800"/>
                <a:ext cx="444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45720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Son análog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76720" y="4343400"/>
            <a:ext cx="5486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&lt;==&gt;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H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8" dur="indefinite" restart="never" nodeType="tmRoot">
          <p:childTnLst>
            <p:seq>
              <p:cTn id="1609" dur="indefinite" nodeType="mainSeq">
                <p:childTnLst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380880" y="3505320"/>
                <a:ext cx="8534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4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2362320" y="1981080"/>
                <a:ext cx="4495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1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6" dur="indefinite" restart="never" nodeType="tmRoot">
          <p:childTnLst>
            <p:seq>
              <p:cTn id="1697" dur="indefinite" nodeType="mainSeq">
                <p:childTnLst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8" dur="indefinite" restart="never" nodeType="tmRoot">
          <p:childTnLst>
            <p:seq>
              <p:cTn id="1729" dur="indefinite" nodeType="mainSeq">
                <p:childTnLst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, que proviene de un paradigma diferente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" y="4114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 que cambia es la distribución de esos tipos de hogares en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4" dur="indefinite" restart="never" nodeType="tmRoot">
          <p:childTnLst>
            <p:seq>
              <p:cTn id="1755" dur="indefinite" nodeType="mainSeq">
                <p:childTnLst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: tipo de hog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h): promedio de viajes con un propósito dado, y a la hora en cuestión, realizados por miembros de hogares tipo h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: número de hogares tipo h en la zona 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" y="4724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3520" y="5334120"/>
            <a:ext cx="80769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arar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odelados con los obser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: simular a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722600" y="4495680"/>
                <a:ext cx="2803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4" dur="indefinite" restart="never" nodeType="tmRoot">
          <p:childTnLst>
            <p:seq>
              <p:cTn id="1775" dur="indefinite" nodeType="mainSeq">
                <p:childTnLst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500"/>
                            </p:stCondLst>
                            <p:childTnLst>
                              <p:par>
                                <p:cTn id="17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905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4920" y="5486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19320" y="50292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úmero de categorías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úmero de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maño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09480" y="3124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9480" y="3809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33520" y="44956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ructura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6095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5867280"/>
            <a:ext cx="7010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 variables, 3 niveles c/u ==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1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5" dur="indefinite" restart="never" nodeType="tmRoot">
          <p:childTnLst>
            <p:seq>
              <p:cTn id="1806" dur="indefinite" nodeType="mainSeq">
                <p:childTnLst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9" fill="hold">
                            <p:stCondLst>
                              <p:cond delay="500"/>
                            </p:stCondLst>
                            <p:childTnLst>
                              <p:par>
                                <p:cTn id="18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905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 numé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hogar 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62120" y="3505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1)= 6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3808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250·6+250·2,5=2.125 viajes/dí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500·6=3.000 viajes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33920" y="2590920"/>
            <a:ext cx="21333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098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: Co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77120" y="2590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5530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: Si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648320" y="3505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2)= 2,5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9" dur="indefinite" restart="never" nodeType="tmRoot">
          <p:childTnLst>
            <p:seq>
              <p:cTn id="1930" dur="indefinite" nodeType="mainSeq">
                <p:childTnLst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9" fill="hold">
                            <p:stCondLst>
                              <p:cond delay="500"/>
                            </p:stCondLst>
                            <p:childTnLst>
                              <p:par>
                                <p:cTn id="19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fill="hold">
                            <p:stCondLst>
                              <p:cond delay="500"/>
                            </p:stCondLst>
                            <p:childTnLst>
                              <p:par>
                                <p:cTn id="19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6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" y="1828800"/>
            <a:ext cx="8305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podemos saber si el supuest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varianza de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ibra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calcular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estimar distribución de 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I,TM,EH)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3" dur="indefinite" restart="never" nodeType="tmRoot">
          <p:childTnLst>
            <p:seq>
              <p:cTn id="1984" dur="indefinite" nodeType="mainSeq">
                <p:childTnLst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conceptual que nos permitirá entender la generación de viajes.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Bibliografía: generación y efectos de mercados de transporte Jara-Gálvez (1975). También en: Apuntes de análisis de sistemas de transporte Martínez y Tudela (199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ongamos la existencia de dos mercados, inicialmente aislados, donde se produce y consume un mismo bi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sucede si se conec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: model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C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nálisis de Categorías o 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259092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epto muy sencillo e intui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e postulan relaciones mate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r tasa generación es triv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386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876920" y="2590920"/>
            <a:ext cx="4038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uede saber la significancia de las variables esco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ecir la distribución de los hogares según tipo es muy difí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952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nta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7" dur="indefinite" restart="never" nodeType="tmRoot">
          <p:childTnLst>
            <p:seq>
              <p:cTn id="2028" dur="indefinite" nodeType="mainSeq">
                <p:childTnLst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5" fill="hold">
                            <p:stCondLst>
                              <p:cond delay="500"/>
                            </p:stCondLst>
                            <p:childTnLst>
                              <p:par>
                                <p:cTn id="20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4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7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2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3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89548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33520" y="167652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mos vi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factor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regresión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análisis por categ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76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 f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0880" y="426708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324480" y="4495680"/>
            <a:ext cx="25909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200400" y="4572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352680" y="4419720"/>
            <a:ext cx="1828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666880" y="5029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86400" y="5029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lasticidad al costo de trans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0" dur="indefinite" restart="never" nodeType="tmRoot">
          <p:childTnLst>
            <p:seq>
              <p:cTn id="2071" dur="indefinite" nodeType="mainSeq">
                <p:childTnLst>
                  <p:par>
                    <p:cTn id="2072" fill="hold">
                      <p:stCondLst>
                        <p:cond delay="indefinite"/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6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2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4" fill="hold">
                      <p:stCondLst>
                        <p:cond delay="indefinite"/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8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4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fill="hold">
                      <p:stCondLst>
                        <p:cond delay="indefinite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500"/>
                            </p:stCondLst>
                            <p:childTnLst>
                              <p:par>
                                <p:cTn id="2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45720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GENE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VIA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udad de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Puerto Mont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tos de 1998, obtenidos de una Encuesta Origen - Destino realizada al 5% de los hogares durante un día laboral típico. Nivel de agregación: 54 zonas. 2 periodos. 10 propósitos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1371600" y="2411280"/>
          <a:ext cx="662940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11280"/>
                    <a:ext cx="66294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2193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Producciones de Viaje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iajes Gen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Basados en 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1717560" y="2592360"/>
          <a:ext cx="57088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592360"/>
                    <a:ext cx="57088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1676520" y="4602240"/>
          <a:ext cx="6553080" cy="2255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02240"/>
                    <a:ext cx="6553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2" name=""/>
          <p:cNvGraphicFramePr/>
          <p:nvPr/>
        </p:nvGraphicFramePr>
        <p:xfrm>
          <a:off x="1676520" y="609480"/>
          <a:ext cx="5708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708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1676520" y="4314960"/>
          <a:ext cx="5708520" cy="25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14960"/>
                    <a:ext cx="570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6" name=""/>
          <p:cNvGraphicFramePr/>
          <p:nvPr/>
        </p:nvGraphicFramePr>
        <p:xfrm>
          <a:off x="1717560" y="544680"/>
          <a:ext cx="570888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544680"/>
                    <a:ext cx="57088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"/>
          <p:cNvGraphicFramePr/>
          <p:nvPr/>
        </p:nvGraphicFramePr>
        <p:xfrm>
          <a:off x="1717560" y="2011320"/>
          <a:ext cx="570888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011320"/>
                    <a:ext cx="57088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6477120" y="3505320"/>
                <a:ext cx="1530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82" name=""/>
          <p:cNvSpPr/>
          <p:nvPr/>
        </p:nvSpPr>
        <p:spPr>
          <a:xfrm>
            <a:off x="518148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828800" y="49528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334120" y="4648320"/>
                <a:ext cx="1055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5" name=""/>
          <p:cNvSpPr/>
          <p:nvPr/>
        </p:nvSpPr>
        <p:spPr>
          <a:xfrm>
            <a:off x="838080" y="1905120"/>
            <a:ext cx="7772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y se obtiene valores disti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correg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le creemos más 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2" dur="indefinite" restart="never" nodeType="tmRoot">
          <p:childTnLst>
            <p:seq>
              <p:cTn id="2143" dur="indefinite" nodeType="mainSeq">
                <p:childTnLst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8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fill="hold">
                      <p:stCondLst>
                        <p:cond delay="indefinite"/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4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0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8" fill="hold">
                            <p:stCondLst>
                              <p:cond delay="500"/>
                            </p:stCondLst>
                            <p:childTnLst>
                              <p:par>
                                <p:cTn id="2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fill="hold">
                            <p:stCondLst>
                              <p:cond delay="500"/>
                            </p:stCondLst>
                            <p:childTnLst>
                              <p:par>
                                <p:cTn id="2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tapa siguiente: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38080" y="3048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86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8620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8620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86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172200" y="1905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88620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6483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722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41008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17220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172200" y="1905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172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495680" y="2590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4" dur="indefinite" restart="never" nodeType="tmRoot">
          <p:childTnLst>
            <p:seq>
              <p:cTn id="2185" dur="indefinite" nodeType="mainSeq">
                <p:childTnLst>
                  <p:par>
                    <p:cTn id="2186" fill="hold">
                      <p:stCondLst>
                        <p:cond delay="indefinite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2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9" fill="hold">
                      <p:stCondLst>
                        <p:cond delay="indefinite"/>
                      </p:stCondLst>
                      <p:childTnLst>
                        <p:par>
                          <p:cTn id="2260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6" fill="hold">
                            <p:stCondLst>
                              <p:cond delay="3500"/>
                            </p:stCondLst>
                            <p:childTnLst>
                              <p:par>
                                <p:cTn id="2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4500"/>
                            </p:stCondLst>
                            <p:childTnLst>
                              <p:par>
                                <p:cTn id="2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6" fill="hold">
                            <p:stCondLst>
                              <p:cond delay="5500"/>
                            </p:stCondLst>
                            <p:childTnLst>
                              <p:par>
                                <p:cTn id="2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15238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t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600200"/>
            <a:ext cx="167616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rca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78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5562720" y="243828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O1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: Oferta. Cantidad del bien </a:t>
            </a:r>
            <a:r>
              <a:rPr b="0" i="1" lang="en-US" sz="2000" spc="-1" strike="noStrike">
                <a:solidFill>
                  <a:srgbClr val="ff3300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 que está dispuesta a ofrecer la(s) empresa(s) a un precio p. O1=O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886200"/>
            <a:ext cx="327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D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: Demanda. Cantidad del bien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que están dispuestos a adquirir los consumidores a un precio p. D1=D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62120" y="3276720"/>
            <a:ext cx="3886200" cy="2286000"/>
            <a:chOff x="762120" y="3276720"/>
            <a:chExt cx="3886200" cy="2286000"/>
          </a:xfrm>
        </p:grpSpPr>
        <p:sp>
          <p:nvSpPr>
            <p:cNvPr id="85" name=""/>
            <p:cNvSpPr/>
            <p:nvPr/>
          </p:nvSpPr>
          <p:spPr>
            <a:xfrm>
              <a:off x="762120" y="3505320"/>
              <a:ext cx="3047760" cy="20574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62520" y="3276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838080" y="2895480"/>
            <a:ext cx="4114800" cy="2364840"/>
            <a:chOff x="838080" y="2895480"/>
            <a:chExt cx="4114800" cy="2364840"/>
          </a:xfrm>
        </p:grpSpPr>
        <p:sp>
          <p:nvSpPr>
            <p:cNvPr id="88" name=""/>
            <p:cNvSpPr/>
            <p:nvPr/>
          </p:nvSpPr>
          <p:spPr>
            <a:xfrm>
              <a:off x="838080" y="2895480"/>
              <a:ext cx="3429000" cy="213372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6708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 el espacio p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93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562720" y="24382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1*,q1*: equilibrio ais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32004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n el mercado 2 la situación es anál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590920"/>
            <a:ext cx="2895480" cy="2971800"/>
          </a:xfrm>
          <a:custGeom>
            <a:avLst/>
            <a:gdLst/>
            <a:ahLst/>
            <a:rect l="l" t="t" r="r" b="b"/>
            <a:pathLst>
              <a:path w="2208" h="1392">
                <a:moveTo>
                  <a:pt x="0" y="1392"/>
                </a:moveTo>
                <a:cubicBezTo>
                  <a:pt x="268" y="1044"/>
                  <a:pt x="536" y="696"/>
                  <a:pt x="864" y="480"/>
                </a:cubicBezTo>
                <a:cubicBezTo>
                  <a:pt x="1192" y="264"/>
                  <a:pt x="1744" y="176"/>
                  <a:pt x="1968" y="96"/>
                </a:cubicBezTo>
                <a:cubicBezTo>
                  <a:pt x="2192" y="16"/>
                  <a:pt x="2200" y="8"/>
                  <a:pt x="2208" y="0"/>
                </a:cubicBezTo>
              </a:path>
            </a:pathLst>
          </a:cu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286000"/>
            <a:ext cx="3429000" cy="2133720"/>
          </a:xfrm>
          <a:custGeom>
            <a:avLst/>
            <a:gdLst/>
            <a:ahLst/>
            <a:rect l="l" t="t" r="r" b="b"/>
            <a:pathLst>
              <a:path w="2160" h="1344">
                <a:moveTo>
                  <a:pt x="0" y="0"/>
                </a:moveTo>
                <a:cubicBezTo>
                  <a:pt x="180" y="392"/>
                  <a:pt x="360" y="784"/>
                  <a:pt x="720" y="1008"/>
                </a:cubicBezTo>
                <a:cubicBezTo>
                  <a:pt x="1080" y="1232"/>
                  <a:pt x="1620" y="1288"/>
                  <a:pt x="2160" y="134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752480" y="3733920"/>
            <a:ext cx="144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61760" y="3733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638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rcad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2437920"/>
            <a:ext cx="7924680" cy="3813120"/>
            <a:chOff x="0" y="2437920"/>
            <a:chExt cx="7924680" cy="3813120"/>
          </a:xfrm>
        </p:grpSpPr>
        <p:sp>
          <p:nvSpPr>
            <p:cNvPr id="111" name=""/>
            <p:cNvSpPr/>
            <p:nvPr/>
          </p:nvSpPr>
          <p:spPr>
            <a:xfrm flipH="1">
              <a:off x="4419360" y="4800600"/>
              <a:ext cx="1404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91520" y="5791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15000" y="33526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95480" y="2971800"/>
              <a:ext cx="3429000" cy="213372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77120" y="48006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762120" y="4786200"/>
              <a:ext cx="3643200" cy="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0" y="44956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2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38480" y="56386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2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66880" y="3657600"/>
              <a:ext cx="2971800" cy="152388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28600" y="2437920"/>
            <a:ext cx="7696080" cy="3813120"/>
            <a:chOff x="228600" y="2437920"/>
            <a:chExt cx="7696080" cy="3813120"/>
          </a:xfrm>
        </p:grpSpPr>
        <p:sp>
          <p:nvSpPr>
            <p:cNvPr id="125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91520" y="5791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343400" y="3352680"/>
            <a:ext cx="3352680" cy="1907640"/>
            <a:chOff x="4343400" y="3352680"/>
            <a:chExt cx="3352680" cy="1907640"/>
          </a:xfrm>
        </p:grpSpPr>
        <p:sp>
          <p:nvSpPr>
            <p:cNvPr id="131" name=""/>
            <p:cNvSpPr/>
            <p:nvPr/>
          </p:nvSpPr>
          <p:spPr>
            <a:xfrm>
              <a:off x="5715000" y="33526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3809880"/>
              <a:ext cx="1752480" cy="129564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77120" y="48006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43400" y="3886200"/>
              <a:ext cx="1295280" cy="137160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523880" y="2286000"/>
            <a:ext cx="2286000" cy="1602720"/>
            <a:chOff x="1523880" y="2286000"/>
            <a:chExt cx="2286000" cy="1602720"/>
          </a:xfrm>
        </p:grpSpPr>
        <p:sp>
          <p:nvSpPr>
            <p:cNvPr id="136" name=""/>
            <p:cNvSpPr/>
            <p:nvPr/>
          </p:nvSpPr>
          <p:spPr>
            <a:xfrm>
              <a:off x="1676520" y="2743200"/>
              <a:ext cx="1218960" cy="11430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90920" y="2362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3880" y="2286000"/>
              <a:ext cx="1600200" cy="114300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95480" y="3429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85800" y="57913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é va a suceder con los productores y consumidores de ambo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28600" y="2437920"/>
            <a:ext cx="7848720" cy="3279600"/>
            <a:chOff x="228600" y="2437920"/>
            <a:chExt cx="7848720" cy="3279600"/>
          </a:xfrm>
        </p:grpSpPr>
        <p:sp>
          <p:nvSpPr>
            <p:cNvPr id="143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43800" y="5257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809880" y="160020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n M1 se genera exceso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5867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scribir las ecuaciones de exceso de oferta y exceso de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¿nueva condición de equilibr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523880" y="2438280"/>
            <a:ext cx="2514600" cy="1679040"/>
            <a:chOff x="1523880" y="2438280"/>
            <a:chExt cx="2514600" cy="1679040"/>
          </a:xfrm>
        </p:grpSpPr>
        <p:sp>
          <p:nvSpPr>
            <p:cNvPr id="150" name=""/>
            <p:cNvSpPr/>
            <p:nvPr/>
          </p:nvSpPr>
          <p:spPr>
            <a:xfrm>
              <a:off x="297180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240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2388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60020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029200" y="3733920"/>
            <a:ext cx="2666880" cy="1831320"/>
            <a:chOff x="5029200" y="3733920"/>
            <a:chExt cx="2666880" cy="1831320"/>
          </a:xfrm>
        </p:grpSpPr>
        <p:sp>
          <p:nvSpPr>
            <p:cNvPr id="155" name=""/>
            <p:cNvSpPr/>
            <p:nvPr/>
          </p:nvSpPr>
          <p:spPr>
            <a:xfrm>
              <a:off x="59436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77120" y="51055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292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51055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019920" y="28195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M2 se genera exceso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81080" y="3581280"/>
            <a:ext cx="762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10080" y="43434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arcela Munizaga</cp:lastModifiedBy>
  <dcterms:modified xsi:type="dcterms:W3CDTF">2007-07-30T15:41:28Z</dcterms:modified>
  <cp:revision>61</cp:revision>
  <dc:subject/>
  <dc:title>Sin título de diapositiva</dc:title>
</cp:coreProperties>
</file>