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E499-B6D8-4D0B-A738-D95D1B5DD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A2A8-AE79-4F91-9A54-059B2FC6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2FA1-8A44-4465-993E-A4D2E3148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1B17-C12B-4BC3-9C4F-8791DFD04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08C0-E981-4E84-82A2-3A37A256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5DF6-B82B-431C-8FE1-962B610A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95D4-B217-43E9-84AA-53848380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9EAF-F9C0-44C3-AFB5-636EAB64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EC63-1849-4744-9903-5F54FBDB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977E-6605-47F1-911F-65174898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3767-1BC4-4605-806D-E76B196C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0AA8-39A9-4295-AD44-711041CE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FE79-6017-484F-8A95-CC0D3F147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obligatorio de la Licenciatura en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Civi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 la Serie de Concentración Tecnológica en Transporte par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 Civil Industri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l paquete de electivos en Transporte par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Civil Matemátic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 nivelación para el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agíster en Ciencias de la Ingeniería mención Transpor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   :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híc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  : Sistema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blación, ingreso, empleo, producción, loc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 : Estructura de Flujos en 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en - destino - ruta - volumen de pasajeros y carga - 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990720"/>
            <a:ext cx="7617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28954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42670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77120" y="42670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traslad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ntre un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orige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un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dest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de un cierto tipo d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persona o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con un cierto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propósit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ugar en que s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inici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l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t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ugar en qu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termin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l via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encia d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arc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tilizados para llegar desde un origen a u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agrega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 los viajes de personas o carga, agregados en base a algún criterio (multidimension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acterísticas del servicio experimentado por los usuarios de  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ac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vi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od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gur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fi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62720" y="52578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es un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4792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nfoque Manhe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1828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1905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32767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3352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9880" y="24382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625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57400" y="2209680"/>
            <a:ext cx="1803240" cy="723960"/>
          </a:xfrm>
          <a:custGeom>
            <a:avLst/>
            <a:gdLst/>
            <a:ahLst/>
            <a:rect l="l" t="t" r="r" b="b"/>
            <a:pathLst>
              <a:path w="1136" h="456">
                <a:moveTo>
                  <a:pt x="0" y="0"/>
                </a:moveTo>
                <a:cubicBezTo>
                  <a:pt x="60" y="156"/>
                  <a:pt x="120" y="312"/>
                  <a:pt x="288" y="384"/>
                </a:cubicBezTo>
                <a:cubicBezTo>
                  <a:pt x="456" y="456"/>
                  <a:pt x="880" y="424"/>
                  <a:pt x="1008" y="432"/>
                </a:cubicBezTo>
                <a:cubicBezTo>
                  <a:pt x="1136" y="440"/>
                  <a:pt x="1096" y="436"/>
                  <a:pt x="1056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2895480"/>
            <a:ext cx="1752480" cy="685800"/>
          </a:xfrm>
          <a:custGeom>
            <a:avLst/>
            <a:gdLst/>
            <a:ahLst/>
            <a:rect l="l" t="t" r="r" b="b"/>
            <a:pathLst>
              <a:path w="1104" h="432">
                <a:moveTo>
                  <a:pt x="0" y="432"/>
                </a:moveTo>
                <a:cubicBezTo>
                  <a:pt x="28" y="300"/>
                  <a:pt x="56" y="168"/>
                  <a:pt x="240" y="96"/>
                </a:cubicBezTo>
                <a:cubicBezTo>
                  <a:pt x="424" y="24"/>
                  <a:pt x="764" y="12"/>
                  <a:pt x="11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905120"/>
            <a:ext cx="190476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1200" y="336"/>
                </a:moveTo>
                <a:cubicBezTo>
                  <a:pt x="1060" y="216"/>
                  <a:pt x="920" y="96"/>
                  <a:pt x="720" y="48"/>
                </a:cubicBezTo>
                <a:cubicBezTo>
                  <a:pt x="520" y="0"/>
                  <a:pt x="120" y="48"/>
                  <a:pt x="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57400" y="3048120"/>
            <a:ext cx="2057400" cy="723960"/>
          </a:xfrm>
          <a:custGeom>
            <a:avLst/>
            <a:gdLst/>
            <a:ahLst/>
            <a:rect l="l" t="t" r="r" b="b"/>
            <a:pathLst>
              <a:path w="1296" h="456">
                <a:moveTo>
                  <a:pt x="1296" y="0"/>
                </a:moveTo>
                <a:cubicBezTo>
                  <a:pt x="1140" y="156"/>
                  <a:pt x="984" y="312"/>
                  <a:pt x="768" y="384"/>
                </a:cubicBezTo>
                <a:cubicBezTo>
                  <a:pt x="552" y="456"/>
                  <a:pt x="276" y="444"/>
                  <a:pt x="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7180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4320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7672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15238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: El patrón de viajes está determinado por A y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4120" y="312408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: La estructura de flujos provoca cambios en A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4120" y="4572000"/>
            <a:ext cx="3429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: La estructura de flujos provoca cambios en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ómo se puede influir en el sistema?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e consecuencias producirá un determinado camb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=&gt;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valu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Quienes toman decisio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bi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580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3352680"/>
            <a:ext cx="28954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B.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05480" y="911160"/>
            <a:ext cx="7354080" cy="61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bre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cnológicas, topológicas, de política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br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 corto plazo: ¿viajar o 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 largo plazo: localización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mpacto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a sociedad en su conju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4880" y="198108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2209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286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17600" y="376200"/>
            <a:ext cx="83595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¿Qué pasa si no se interviene el sistema?: Círculo vicioso del transporte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4040" y="1587600"/>
            <a:ext cx="3011400" cy="47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1120" y="236052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o terr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560600"/>
            <a:ext cx="777240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32400" y="1536840"/>
            <a:ext cx="312732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08720" y="154944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ing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85680" y="233028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a moto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6480" y="3219480"/>
            <a:ext cx="34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ción perif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2400" y="3914640"/>
            <a:ext cx="33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ficiencia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1800" y="482904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ficit en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9280" y="5599080"/>
            <a:ext cx="34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rido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04480" y="3219480"/>
            <a:ext cx="18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29320" y="395280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rios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39320" y="4803840"/>
            <a:ext cx="180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ifas T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61840" y="6400800"/>
            <a:ext cx="34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adación del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51040" y="214164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51040" y="277164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1040" y="36082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51040" y="4651200"/>
            <a:ext cx="0" cy="2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51040" y="524340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25480" y="604044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45320" y="2101680"/>
            <a:ext cx="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57920" y="2746440"/>
            <a:ext cx="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26360" y="2617920"/>
            <a:ext cx="39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637480" y="2617920"/>
            <a:ext cx="0" cy="151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7762680" y="4135320"/>
            <a:ext cx="87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591240" y="444492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73560" y="6657840"/>
            <a:ext cx="44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8766000" y="4301640"/>
            <a:ext cx="0" cy="23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722720" y="4329000"/>
            <a:ext cx="10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35440" y="5075280"/>
            <a:ext cx="151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809880" y="4276800"/>
            <a:ext cx="171288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32440" y="4148280"/>
            <a:ext cx="135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106880" y="3492360"/>
            <a:ext cx="147960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887640" y="2693880"/>
            <a:ext cx="1570320" cy="73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23960" y="26766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m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Objetivos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: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cc0099"/>
                </a:solidFill>
                <a:uFillTx/>
                <a:latin typeface="Comic Sans MS"/>
                <a:ea typeface="Times New Roman"/>
              </a:rPr>
              <a:t>Generales:</a:t>
            </a:r>
            <a:r>
              <a:rPr b="0" lang="es-ES" sz="3200" spc="-1" strike="noStrike" u="sng">
                <a:solidFill>
                  <a:srgbClr val="cc0099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cc0099"/>
                </a:solidFill>
                <a:latin typeface="Comic Sans MS"/>
                <a:ea typeface="Times New Roman"/>
              </a:rPr>
              <a:t>Entregar los fundamentos teóricos para el análisis de sistemas de transp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cc33"/>
                </a:solidFill>
                <a:uFillTx/>
                <a:latin typeface="Comic Sans MS"/>
                <a:ea typeface="Times New Roman"/>
              </a:rPr>
              <a:t>Específicos:</a:t>
            </a:r>
            <a:r>
              <a:rPr b="0" lang="es-ES" sz="18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 Capacitar al alumno para empezar a entender los procesos de transporte y su modelación, desde la generación de la necesidad de movimiento hasta el funcionamiento de sistemas y redes.</a:t>
            </a:r>
            <a:r>
              <a:rPr b="0" lang="es-ES_tradnl" sz="18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peracionale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Al finalizar el curso los alumnos deberán ser capaces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a)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correctamente los efectos derivados de cambios en sistemas de transporte id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b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plicar los supuestos fundamentales subyacentes a los modelos de transporte tratados en cl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c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poner con claridad argumentos técnicos que apoyen o rechacen proposiciones de modificación a sistemas de transporte r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d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unciar y describir analíticamente los elementos y relaciones componentes de un sistema de transporte d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ontenido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:</a:t>
            </a: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dentificación del á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ecesidade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elos de Ofer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quilib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odología de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es de cáted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lle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es auxiliares (una antes de cada contr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valuació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ormes de talleres (30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roles y examen (70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ción de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Hasta ahora han visto elementos individuales (Ej: hidráulica, estructuras) aquí verán el 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Sistema de Transporte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Glo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Qué creen ustedes que son los elementos del Sistema de Transpor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-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lgunas definiciones “de diccionario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encia mediante la cual las propiedades de la materia y las fuentes de energía son transformadas en beneficio de la humanida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ranspor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sladar de un lugar a ot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encia mediante la cual las propiedades de la materia y las fuentes de energía son transformadas, para permitir el traslado de personas y mercancías de un lugar a otro de forma que le sea útil a la socieda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isión tradicional de la Ingeniería de Transport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qui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isión moder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ociendo aspectos fundamentales d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e preocupa básicamente de las interrelaciones y del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nálisi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iseñ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l Sistema de Transporte en su conju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rge como profesión reconocida en los 7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aracterísticas de la Ingeniería de Transport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 una especialidad de Ingeniería Civ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templa elementos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conomía, física, probabilidades, comportamiento, optimiz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campo ocupacional de la I de T 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distintos medios de transpor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sectori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gobierno, industria, usuarios, operador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facétic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políticas nacionales e internacionales, planificación, localización, operación, contr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disciplina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ingeniería, economía, urbanismo, aministración, sociologí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gran desafío de la Ingeniería de transporte es intervenir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licad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liberadamen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n la sociedad y su entorno, con el objeto d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usar su sistema de transporte en forma efectiv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coordinadamente con otras acciones públicas y privadas, a fin de alcanzar las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eta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 dich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ocieda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Alumnos: mencionar ejemplos de tales intervenciones y analizarlas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Comic Sans MS"/>
              </a:rPr>
              <a:t>El gran desafío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(Manheim, 197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04:04:44Z</dcterms:created>
  <dc:creator>Marcela Munizaga</dc:creator>
  <dc:description/>
  <dc:language>en-US</dc:language>
  <cp:lastModifiedBy>Marcela Munizaga</cp:lastModifiedBy>
  <dcterms:modified xsi:type="dcterms:W3CDTF">2007-07-23T14:32:21Z</dcterms:modified>
  <cp:revision>26</cp:revision>
  <dc:subject/>
  <dc:title>Definiciones y conceptos básicos</dc:title>
</cp:coreProperties>
</file>