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0AB-9387-4090-8BD8-BF82EC64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04E-EAB8-45D2-9ABB-4E889B04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5D8-E0AD-4192-B7C0-EB0813C1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3EB7-0A1B-4BA3-B022-EB9C6FC3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C42-5DFB-4368-B3B7-82F57565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0D3-3B41-40FE-9A14-1E0A025F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E33-9C92-4488-BF8A-BC68AF98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80E-259A-4B86-BB27-42A29449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1F2-CF1E-49B8-8A28-8A2E4476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F59-7A37-406A-BFF2-614C4255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7DF-DA7A-4D48-9888-9371840A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F8D-F368-49CE-BF47-BA77E44D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246A-2A27-466C-8F72-7D09CB5A7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dentificación del á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ecesidade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Of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odología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es de cáted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es auxiliares (una antes de cada contr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valuació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es de talleres (3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es y examen (7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7-07-23T14:32:21Z</dcterms:modified>
  <cp:revision>26</cp:revision>
  <dc:subject/>
  <dc:title>Definiciones y conceptos básicos</dc:title>
</cp:coreProperties>
</file>