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024-D08B-4AC7-81C1-CCCE04DB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956-1FFA-4BD3-AF67-41FD3472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794-8409-4B7C-AF79-D886183C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9C6-00C5-47EC-9F23-B3987B1E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EA4-D085-437E-A3EA-CF9B71B7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BE1-5809-4845-9227-74A0277B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9F3-38CD-48FF-BAB4-4E3B8FE9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900-5784-4634-A533-79BC0C7A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9475-0726-4CF8-AB56-8E561390A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4F2-FA6D-40CC-8E0B-78236E49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7C5-CD8E-4AE3-8298-F9B514F2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445-D4DC-4084-A83E-C54053E3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159E-B7E2-4DFE-92C9-50448288E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dentificación del á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cesidade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odología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de cát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auxiliares (una antes de cada contr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ció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es de talleres (3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es y examen (7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7-07-23T14:32:21Z</dcterms:modified>
  <cp:revision>26</cp:revision>
  <dc:subject/>
  <dc:title>Definiciones y conceptos básicos</dc:title>
</cp:coreProperties>
</file>