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5A6-8A08-438D-95C5-9CA8F228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B1C-87CE-4B75-840D-524E8F9E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7FE-DDC2-48EB-8090-4D6B97D8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C27-48BF-4191-AD31-301F778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998-A0E0-4BDB-8B43-54258A23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A140-8DC6-49C0-88A1-996C24A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16C3-371D-4FF8-BCDE-2834EF1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25FB-C23C-4FAA-ACA6-967575AB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26E9-56D9-4A5C-AC32-BDB214C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98B-E0F6-4E5E-B3FC-F5D1509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33C0-D924-42B4-A487-B9E8091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48-291E-41EB-A90C-897D8F5F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E99-CCED-4A34-826E-52DFEA3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58BE-2914-4CD0-89CB-BF885F0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5632-2EFB-4132-9282-F556988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93F2-0E89-4E8D-8CFB-BEBB8F30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639B-E329-4879-9E4A-4D124870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C0C-1B18-4328-93B4-655B301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831-C4CB-4E2A-80BB-4C7C32E9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06F-DA69-4846-9A33-A251101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36A-F76E-4CAF-ADC5-AAF3B6E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87B-E220-4873-808F-E75E2D6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28F-5392-4506-86AE-5B9B919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8C7-4A3E-437D-8F10-A7DA1937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FBF-56E0-4C04-A290-29CC43585B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BC7-7FA9-4AE1-84C0-C92E6D8775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90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5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7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44480" y="3657600"/>
                <a:ext cx="3643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116000" y="5445000"/>
            <a:ext cx="510552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mb=1hPa=100Pa     1 atm=1013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24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2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academico</cp:lastModifiedBy>
  <dcterms:modified xsi:type="dcterms:W3CDTF">2007-03-28T15:26:53Z</dcterms:modified>
  <cp:revision>44</cp:revision>
  <dc:subject/>
  <dc:title>Presentación de PowerPoint</dc:title>
</cp:coreProperties>
</file>