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66D-F0F9-4F1D-87C8-7359F1E8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2F7-C471-47CC-B673-027DE198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CFD-2E40-4BA8-AC9F-B8524FFE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026-9562-4DE5-8DD0-65E17C39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1C33-B9EF-4310-BA80-F4ACB7E7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0875-36F5-46EB-833B-BEFB5815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430B-FE7B-4709-8215-620475A7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4578-7E6E-443E-AA19-015BF28F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BADF-D3AE-4D81-8429-08055575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706E-5DF3-4A19-A6C8-1F74B77D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5703-20D1-483A-B2DE-CB2B8E5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BCA-70B2-4C06-920F-A67AE4DB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9DED-A997-4C77-90B7-A75C11D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7049-92E5-400F-8D72-64F3140D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D6DC-5A8D-4F1F-A953-174598AC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A983-9EC3-4016-B3BE-3C10AB21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1388-0556-4F1F-AA89-A36ADF89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762-50F6-482A-BC0F-53C98B09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6AE-24FA-42EB-B927-55FCA5F7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CB5-4F26-4744-B355-BD30F365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D3B-392F-467F-8BBD-EEAB6E7C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F34-496C-4833-82B2-B48C99A6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1F2-1204-4B8B-AD9F-F8BF9825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34A-0615-40AE-A8CE-1BD713CD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C579-27D4-4FC8-BC4A-EC69D2AF34D1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5541-2E2A-4F67-839A-D31D949FFBEE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0"/>
                            </p:stCondLst>
                            <p:childTnLst>
                              <p:par>
                                <p:cTn id="19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0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0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Sala</cp:lastModifiedBy>
  <dcterms:modified xsi:type="dcterms:W3CDTF">2007-11-07T11:35:07Z</dcterms:modified>
  <cp:revision>25</cp:revision>
  <dc:subject/>
  <dc:title>TEMARIO DEL TRABAJO DE TÍTULO </dc:title>
</cp:coreProperties>
</file>