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B37-6F78-43EE-BFE3-D84F5A07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1F1-2400-455A-8035-00B50BE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B62-0B55-43F2-AB4F-B57A1185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06-6FD4-438F-A778-BD4AD898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733-E9E7-4AFF-9F97-FFA7898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7FE-F9D7-4325-B48D-8EB25F0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7BD2-AEF9-4E4B-B261-5B12CDE3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0576-AD4C-4A81-898E-FACAAC20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E4C8-1638-4388-A06C-EB33B68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597-5AE5-4051-AA0F-D93DCD16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CDB-C241-4C2A-B82C-2719CBB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2E6-F7B1-4E1C-B84E-70AF2B4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E4C8-AC53-4A8D-A4F7-37B22FC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C334-8C67-4F55-A7A4-0877AE4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976E-7323-451B-B734-F3E5E92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5FE1-AA6E-4CE6-BF3E-C2787A3D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88B0-B340-4886-8126-6BE83346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D60-A9FE-4115-A4DE-33B3B104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F44-EBF8-4A0E-9BB2-1A29F01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45C-F7A9-4687-B2D7-2237E83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ED6-7C16-4055-83BA-99B8B81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55C-2CDE-4A29-9189-35FB136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E1A-3D5F-4901-B3E5-FE391A5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5D7-1290-4299-A381-FDAC496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FD5-0B1D-410B-82DD-398B9E3C2B04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987-0FDC-4BC9-ABDD-4E4C5494B727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Sala</cp:lastModifiedBy>
  <dcterms:modified xsi:type="dcterms:W3CDTF">2007-11-07T11:35:07Z</dcterms:modified>
  <cp:revision>25</cp:revision>
  <dc:subject/>
  <dc:title>TEMARIO DEL TRABAJO DE TÍTULO </dc:title>
</cp:coreProperties>
</file>