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E37-7CC8-4B10-A891-F6E93A22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21C-FAAF-4A73-9251-C89B7AFC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966-A294-45C2-92E3-36E67D92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C9A-2BEB-4545-971F-005375A0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009-97ED-44D5-93EA-48E4D85E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AD7-98ED-4CCF-AB61-9B0995A4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CE6-35BA-47E7-BF7F-A545D365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7AA-71B3-46BF-85FE-BA48A271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EEF-2A9D-4EA7-AB7C-B39F222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B12-4BDB-465B-96EF-1452ADE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436-D50D-4FF4-AF11-6C16B2D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4B8-F989-4563-B73B-6EECD7F2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5200-17BD-41F1-981F-E00467E0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academico</cp:lastModifiedBy>
  <dcterms:modified xsi:type="dcterms:W3CDTF">2006-06-16T15:35:05Z</dcterms:modified>
  <cp:revision>13</cp:revision>
  <dc:subject/>
  <dc:title>CAPITULO 8</dc:title>
</cp:coreProperties>
</file>