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ungle%20Restore%20Up.wav" ContentType="audio/x-wav"/>
  <Override PartName="/ppt/media/image5.jpeg" ContentType="image/jpeg"/>
  <Override PartName="/ppt/media/image9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9D16-5D0E-4368-BA9F-681CC91B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584-9EEA-416B-BC54-20F149C8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47D-CBA0-4328-8C82-0C62AFF8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89A-579F-4F19-B594-27AF18F5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501-7010-4873-9C53-3D0913F8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DF7-27B6-4FDB-87F3-848D1AE0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B44-D527-4405-9000-1100DC39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E9B-10AC-47F2-B3A3-9EC8362E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C3B-4A28-47A8-9012-1E72B38E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906-60BF-47D3-B589-0627D666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290-BA3A-4CB4-B726-1B329684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FC8B-2F91-4EFE-AF0B-56FA5A8B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D609-E112-4C30-B8A3-60872B073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ungle%20Restore%20Up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7430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cc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ESTUDIO DE CRE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ANALISIS DE FRECUENCIAS REG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Restore%20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075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610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696000" cy="20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6905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05360" cy="39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82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0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762120"/>
            <a:ext cx="73915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HOMOGENEA Dp (PLUVIAL-GUMBEL-EXORRE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FRECUENCIA REGIONAL QMD MAX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T)/Q(10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ñ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SUP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0.5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0.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2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28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4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6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7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619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jemplo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80880"/>
            <a:ext cx="41911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uenca en R. Met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=9 Km;  Lg=4 K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ota Salida=800 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 =0,47    PMA=5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24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10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9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1800" y="1531800"/>
            <a:ext cx="1801800" cy="1711440"/>
            <a:chOff x="631800" y="1531800"/>
            <a:chExt cx="1801800" cy="1711440"/>
          </a:xfrm>
        </p:grpSpPr>
        <p:sp>
          <p:nvSpPr>
            <p:cNvPr id="55" name=""/>
            <p:cNvSpPr/>
            <p:nvPr/>
          </p:nvSpPr>
          <p:spPr>
            <a:xfrm>
              <a:off x="631800" y="1531800"/>
              <a:ext cx="1801800" cy="1711440"/>
            </a:xfrm>
            <a:custGeom>
              <a:avLst/>
              <a:gdLst/>
              <a:ahLst/>
              <a:rect l="l" t="t" r="r" b="b"/>
              <a:pathLst>
                <a:path w="1135" h="1078">
                  <a:moveTo>
                    <a:pt x="16" y="932"/>
                  </a:moveTo>
                  <a:cubicBezTo>
                    <a:pt x="52" y="920"/>
                    <a:pt x="49" y="906"/>
                    <a:pt x="64" y="875"/>
                  </a:cubicBezTo>
                  <a:cubicBezTo>
                    <a:pt x="85" y="832"/>
                    <a:pt x="73" y="867"/>
                    <a:pt x="97" y="835"/>
                  </a:cubicBezTo>
                  <a:cubicBezTo>
                    <a:pt x="130" y="792"/>
                    <a:pt x="147" y="739"/>
                    <a:pt x="202" y="721"/>
                  </a:cubicBezTo>
                  <a:cubicBezTo>
                    <a:pt x="226" y="649"/>
                    <a:pt x="216" y="569"/>
                    <a:pt x="234" y="494"/>
                  </a:cubicBezTo>
                  <a:cubicBezTo>
                    <a:pt x="228" y="408"/>
                    <a:pt x="214" y="340"/>
                    <a:pt x="194" y="259"/>
                  </a:cubicBezTo>
                  <a:cubicBezTo>
                    <a:pt x="201" y="183"/>
                    <a:pt x="192" y="140"/>
                    <a:pt x="251" y="97"/>
                  </a:cubicBezTo>
                  <a:cubicBezTo>
                    <a:pt x="280" y="54"/>
                    <a:pt x="330" y="17"/>
                    <a:pt x="380" y="0"/>
                  </a:cubicBezTo>
                  <a:cubicBezTo>
                    <a:pt x="426" y="3"/>
                    <a:pt x="473" y="0"/>
                    <a:pt x="518" y="8"/>
                  </a:cubicBezTo>
                  <a:cubicBezTo>
                    <a:pt x="555" y="15"/>
                    <a:pt x="588" y="36"/>
                    <a:pt x="624" y="48"/>
                  </a:cubicBezTo>
                  <a:cubicBezTo>
                    <a:pt x="680" y="87"/>
                    <a:pt x="610" y="43"/>
                    <a:pt x="689" y="73"/>
                  </a:cubicBezTo>
                  <a:cubicBezTo>
                    <a:pt x="723" y="86"/>
                    <a:pt x="773" y="113"/>
                    <a:pt x="802" y="138"/>
                  </a:cubicBezTo>
                  <a:cubicBezTo>
                    <a:pt x="840" y="172"/>
                    <a:pt x="872" y="199"/>
                    <a:pt x="916" y="227"/>
                  </a:cubicBezTo>
                  <a:cubicBezTo>
                    <a:pt x="962" y="257"/>
                    <a:pt x="984" y="310"/>
                    <a:pt x="1029" y="340"/>
                  </a:cubicBezTo>
                  <a:cubicBezTo>
                    <a:pt x="1048" y="370"/>
                    <a:pt x="1061" y="396"/>
                    <a:pt x="1086" y="421"/>
                  </a:cubicBezTo>
                  <a:cubicBezTo>
                    <a:pt x="1097" y="468"/>
                    <a:pt x="1122" y="511"/>
                    <a:pt x="1135" y="559"/>
                  </a:cubicBezTo>
                  <a:cubicBezTo>
                    <a:pt x="1125" y="693"/>
                    <a:pt x="1132" y="716"/>
                    <a:pt x="1053" y="811"/>
                  </a:cubicBezTo>
                  <a:cubicBezTo>
                    <a:pt x="1030" y="838"/>
                    <a:pt x="1014" y="865"/>
                    <a:pt x="981" y="884"/>
                  </a:cubicBezTo>
                  <a:cubicBezTo>
                    <a:pt x="939" y="909"/>
                    <a:pt x="874" y="902"/>
                    <a:pt x="826" y="916"/>
                  </a:cubicBezTo>
                  <a:cubicBezTo>
                    <a:pt x="810" y="921"/>
                    <a:pt x="794" y="927"/>
                    <a:pt x="778" y="932"/>
                  </a:cubicBezTo>
                  <a:cubicBezTo>
                    <a:pt x="770" y="935"/>
                    <a:pt x="753" y="940"/>
                    <a:pt x="753" y="940"/>
                  </a:cubicBezTo>
                  <a:cubicBezTo>
                    <a:pt x="741" y="953"/>
                    <a:pt x="733" y="969"/>
                    <a:pt x="721" y="981"/>
                  </a:cubicBezTo>
                  <a:cubicBezTo>
                    <a:pt x="703" y="999"/>
                    <a:pt x="676" y="1013"/>
                    <a:pt x="656" y="1029"/>
                  </a:cubicBezTo>
                  <a:cubicBezTo>
                    <a:pt x="650" y="1034"/>
                    <a:pt x="647" y="1042"/>
                    <a:pt x="640" y="1046"/>
                  </a:cubicBezTo>
                  <a:cubicBezTo>
                    <a:pt x="617" y="1058"/>
                    <a:pt x="591" y="1062"/>
                    <a:pt x="567" y="1070"/>
                  </a:cubicBezTo>
                  <a:cubicBezTo>
                    <a:pt x="559" y="1073"/>
                    <a:pt x="543" y="1078"/>
                    <a:pt x="543" y="1078"/>
                  </a:cubicBezTo>
                  <a:cubicBezTo>
                    <a:pt x="491" y="1068"/>
                    <a:pt x="446" y="1047"/>
                    <a:pt x="397" y="1029"/>
                  </a:cubicBezTo>
                  <a:cubicBezTo>
                    <a:pt x="345" y="981"/>
                    <a:pt x="239" y="1010"/>
                    <a:pt x="186" y="1013"/>
                  </a:cubicBezTo>
                  <a:cubicBezTo>
                    <a:pt x="175" y="1046"/>
                    <a:pt x="161" y="1051"/>
                    <a:pt x="129" y="1062"/>
                  </a:cubicBezTo>
                  <a:cubicBezTo>
                    <a:pt x="100" y="1052"/>
                    <a:pt x="40" y="1038"/>
                    <a:pt x="40" y="1038"/>
                  </a:cubicBezTo>
                  <a:cubicBezTo>
                    <a:pt x="37" y="1016"/>
                    <a:pt x="41" y="993"/>
                    <a:pt x="32" y="973"/>
                  </a:cubicBezTo>
                  <a:cubicBezTo>
                    <a:pt x="28" y="965"/>
                    <a:pt x="11" y="973"/>
                    <a:pt x="7" y="965"/>
                  </a:cubicBezTo>
                  <a:cubicBezTo>
                    <a:pt x="0" y="951"/>
                    <a:pt x="32" y="926"/>
                    <a:pt x="32" y="916"/>
                  </a:cubicBezTo>
                  <a:cubicBezTo>
                    <a:pt x="32" y="908"/>
                    <a:pt x="21" y="927"/>
                    <a:pt x="16" y="932"/>
                  </a:cubicBez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2960" y="2478240"/>
              <a:ext cx="1428840" cy="558720"/>
            </a:xfrm>
            <a:custGeom>
              <a:avLst/>
              <a:gdLst/>
              <a:ahLst/>
              <a:rect l="l" t="t" r="r" b="b"/>
              <a:pathLst>
                <a:path w="900" h="352">
                  <a:moveTo>
                    <a:pt x="0" y="352"/>
                  </a:moveTo>
                  <a:cubicBezTo>
                    <a:pt x="35" y="349"/>
                    <a:pt x="71" y="350"/>
                    <a:pt x="106" y="344"/>
                  </a:cubicBezTo>
                  <a:cubicBezTo>
                    <a:pt x="115" y="342"/>
                    <a:pt x="121" y="332"/>
                    <a:pt x="130" y="328"/>
                  </a:cubicBezTo>
                  <a:cubicBezTo>
                    <a:pt x="153" y="318"/>
                    <a:pt x="179" y="312"/>
                    <a:pt x="203" y="304"/>
                  </a:cubicBezTo>
                  <a:cubicBezTo>
                    <a:pt x="211" y="301"/>
                    <a:pt x="227" y="296"/>
                    <a:pt x="227" y="296"/>
                  </a:cubicBezTo>
                  <a:cubicBezTo>
                    <a:pt x="256" y="267"/>
                    <a:pt x="237" y="281"/>
                    <a:pt x="292" y="263"/>
                  </a:cubicBezTo>
                  <a:cubicBezTo>
                    <a:pt x="300" y="260"/>
                    <a:pt x="317" y="255"/>
                    <a:pt x="317" y="255"/>
                  </a:cubicBezTo>
                  <a:cubicBezTo>
                    <a:pt x="383" y="260"/>
                    <a:pt x="428" y="266"/>
                    <a:pt x="487" y="288"/>
                  </a:cubicBezTo>
                  <a:cubicBezTo>
                    <a:pt x="518" y="279"/>
                    <a:pt x="539" y="267"/>
                    <a:pt x="568" y="255"/>
                  </a:cubicBezTo>
                  <a:cubicBezTo>
                    <a:pt x="599" y="242"/>
                    <a:pt x="617" y="252"/>
                    <a:pt x="649" y="231"/>
                  </a:cubicBezTo>
                  <a:cubicBezTo>
                    <a:pt x="694" y="201"/>
                    <a:pt x="734" y="164"/>
                    <a:pt x="771" y="125"/>
                  </a:cubicBezTo>
                  <a:cubicBezTo>
                    <a:pt x="781" y="95"/>
                    <a:pt x="797" y="51"/>
                    <a:pt x="828" y="36"/>
                  </a:cubicBezTo>
                  <a:cubicBezTo>
                    <a:pt x="900" y="0"/>
                    <a:pt x="856" y="40"/>
                    <a:pt x="892" y="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74760" y="1892160"/>
              <a:ext cx="299880" cy="1003320"/>
            </a:xfrm>
            <a:custGeom>
              <a:avLst/>
              <a:gdLst/>
              <a:ahLst/>
              <a:rect l="l" t="t" r="r" b="b"/>
              <a:pathLst>
                <a:path w="189" h="632">
                  <a:moveTo>
                    <a:pt x="0" y="632"/>
                  </a:moveTo>
                  <a:cubicBezTo>
                    <a:pt x="34" y="609"/>
                    <a:pt x="47" y="574"/>
                    <a:pt x="81" y="551"/>
                  </a:cubicBezTo>
                  <a:cubicBezTo>
                    <a:pt x="92" y="535"/>
                    <a:pt x="99" y="515"/>
                    <a:pt x="113" y="502"/>
                  </a:cubicBezTo>
                  <a:cubicBezTo>
                    <a:pt x="119" y="497"/>
                    <a:pt x="125" y="492"/>
                    <a:pt x="130" y="486"/>
                  </a:cubicBezTo>
                  <a:cubicBezTo>
                    <a:pt x="142" y="471"/>
                    <a:pt x="151" y="454"/>
                    <a:pt x="162" y="438"/>
                  </a:cubicBezTo>
                  <a:cubicBezTo>
                    <a:pt x="167" y="430"/>
                    <a:pt x="178" y="413"/>
                    <a:pt x="178" y="413"/>
                  </a:cubicBezTo>
                  <a:cubicBezTo>
                    <a:pt x="189" y="369"/>
                    <a:pt x="179" y="338"/>
                    <a:pt x="154" y="300"/>
                  </a:cubicBezTo>
                  <a:cubicBezTo>
                    <a:pt x="144" y="270"/>
                    <a:pt x="140" y="245"/>
                    <a:pt x="121" y="219"/>
                  </a:cubicBezTo>
                  <a:cubicBezTo>
                    <a:pt x="111" y="168"/>
                    <a:pt x="102" y="117"/>
                    <a:pt x="73" y="73"/>
                  </a:cubicBezTo>
                  <a:cubicBezTo>
                    <a:pt x="64" y="45"/>
                    <a:pt x="45" y="21"/>
                    <a:pt x="2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362320" y="3429000"/>
            <a:ext cx="601956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 Aportante Pluvial según Línea de nie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titud 33,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N en 2000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=19 K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 y H =12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0,7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441972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1,72 hrs  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91,52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s/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0,313 hrs 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00200" y="457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= 0,39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3716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debe corregir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Zona Homogénea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3526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V-K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7,4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9718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=1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42670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F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8,9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1055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HU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45,3  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6172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I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A-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7,8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8006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.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5562720"/>
            <a:ext cx="3200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d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10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4,1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457200"/>
          <a:ext cx="37432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57200"/>
                    <a:ext cx="3743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6:29:54Z</dcterms:created>
  <dc:creator>Ximena Vargas</dc:creator>
  <dc:description/>
  <dc:language>en-US</dc:language>
  <cp:lastModifiedBy>academico</cp:lastModifiedBy>
  <dcterms:modified xsi:type="dcterms:W3CDTF">2006-06-16T15:35:05Z</dcterms:modified>
  <cp:revision>13</cp:revision>
  <dc:subject/>
  <dc:title>CAPITULO 8</dc:title>
</cp:coreProperties>
</file>