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LATIGO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45F-2D9B-48BB-859C-97E13510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583-EC7F-4B1B-900D-C676003F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088-BAB8-4703-8674-D4E1F9DC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894-6635-4A47-9551-E099282E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0BD-2EE7-4498-AA0C-5445F85F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261-1265-4E81-A5FE-8CE0937E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46D-F286-402E-846F-85CD7D17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39C-B3F1-4E92-B207-9A926F80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B60-9A6E-4383-9FE8-A42B1CF5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33A-8AE1-469F-B0B1-45C13EFF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864-B94D-4F48-86EA-BC2315D9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3E1-BDB8-46DA-AF56-A0D1167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5B07-5A7F-43B8-B48B-FEB55B764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XIMENA/Configuraci&#243;n%20local/Archivos%20temporales%20de%20Internet/OLK6DD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500"/>
                            </p:stCondLst>
                            <p:childTnLst>
                              <p:par>
                                <p:cTn id="7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8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9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9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 Verni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 y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39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5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6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09-12T18:46:55Z</dcterms:modified>
  <cp:revision>30</cp:revision>
  <dc:subject/>
  <dc:title>CAPITULO 8</dc:title>
</cp:coreProperties>
</file>