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28A-E0D6-4EA0-8BA2-60CEF503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975-FFA2-4074-AA65-D71E3311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913-5CA9-4A69-896F-5A6D95C6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77E-6BA1-4502-B41F-5BC58034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ED5-5349-4E35-BC3E-C105EA4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516-5A71-4856-B75E-F2CCE023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5AD-3C7E-4949-A76B-2C958857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DD0-6A71-42BB-8CC3-8D6F1C8D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7BB-1921-4E46-A62F-A422660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D35-549E-48D3-91E2-B78D6827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2CE-6D10-474D-94F2-DFA4E28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DB8-C412-43A1-8DEB-4A07F2D3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46B-2455-428F-9C84-DC93543E1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39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5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09-12T18:46:55Z</dcterms:modified>
  <cp:revision>30</cp:revision>
  <dc:subject/>
  <dc:title>CAPITULO 8</dc:title>
</cp:coreProperties>
</file>