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LATIGO.WAV" ContentType="audio/x-wav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9298-092F-4D84-91AE-434C3111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D02-12C3-4468-B971-DEA4A9F5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545D-9EC6-487F-8EFF-3902EE61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CBD-2EC9-4FF1-8E97-03D2FF2A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81E9-7D43-45C6-A194-168507DD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CC6F-2479-4020-9A0D-EBC145C2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862-EF2B-4653-A2F1-D31DCA6E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677-D2D4-471C-BC97-63A8A8AE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E5C-6D8F-49FA-BA2E-EFD7727E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A2F5-5BDC-4D2F-A55C-2C409412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1B93-4FE2-4473-99F6-727D6C31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EA4-BFDA-491D-BC7B-935DB857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031D-2344-4863-AFE6-B24FFB073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../XIMENA/Configuraci&#243;n%20local/Archivos%20temporales%20de%20Internet/OLK6DD/CAP8-4.ppt#Slide 1" TargetMode="Externa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8002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228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étodo Matr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914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lluvia efectiva P (selección de método de infiltración: Horton, índice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CN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133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escorrentía directa (separación de componentes de hidrograma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048120"/>
            <a:ext cx="1828800" cy="7617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c755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962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 ecuaciones en términos de N-M+1 valores de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4197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  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3341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-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86728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0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.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640080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N=0+0+......................................+0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N-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8080" y="30492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stema Sobredeterminado se resuelve matricialmente teniendo en consideración que no puede tener U&lt;0 y que Volumen debe ser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09680" y="2209680"/>
                <a:ext cx="38037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3352680"/>
                <a:ext cx="501660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≡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133720" y="4952880"/>
                <a:ext cx="4647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3124080"/>
            <a:ext cx="6400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Verificar que Volumen es unitario, si no lo es corregir proporcion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60020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i demasiadas  irregularidades, ajustar curva su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28600"/>
            <a:ext cx="822960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Análisis de sensibilidad por Pefectiva que puede estar mal determ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380880"/>
            <a:ext cx="81532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Hidrograma Unitario Sintético HUS (</a:t>
            </a:r>
            <a:r>
              <a:rPr b="1" lang="es-ES_tradnl" sz="1800" spc="-1" strike="noStrike">
                <a:solidFill>
                  <a:srgbClr val="993366"/>
                </a:solidFill>
                <a:latin typeface="Bookman Old Style"/>
              </a:rPr>
              <a:t>Snyder, Lins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295280"/>
            <a:ext cx="85345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Definido a base de características geomorfológicas tales como: Longitud de cauce principal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C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longitud hasta el centro de gravedad de la cuenca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G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pendiente media de la cuenca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90520" y="3124080"/>
                <a:ext cx="24210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S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V="1">
            <a:off x="5334120" y="3276720"/>
            <a:ext cx="0" cy="31240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632448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4151160"/>
            <a:ext cx="3728880" cy="2173320"/>
          </a:xfrm>
          <a:custGeom>
            <a:avLst/>
            <a:gdLst/>
            <a:ahLst/>
            <a:rect l="l" t="t" r="r" b="b"/>
            <a:pathLst>
              <a:path w="2349" h="1369">
                <a:moveTo>
                  <a:pt x="0" y="1369"/>
                </a:moveTo>
                <a:cubicBezTo>
                  <a:pt x="100" y="1337"/>
                  <a:pt x="200" y="1305"/>
                  <a:pt x="288" y="1225"/>
                </a:cubicBezTo>
                <a:cubicBezTo>
                  <a:pt x="376" y="1145"/>
                  <a:pt x="456" y="1041"/>
                  <a:pt x="528" y="889"/>
                </a:cubicBezTo>
                <a:cubicBezTo>
                  <a:pt x="600" y="737"/>
                  <a:pt x="669" y="444"/>
                  <a:pt x="720" y="313"/>
                </a:cubicBezTo>
                <a:cubicBezTo>
                  <a:pt x="771" y="182"/>
                  <a:pt x="769" y="143"/>
                  <a:pt x="832" y="101"/>
                </a:cubicBezTo>
                <a:cubicBezTo>
                  <a:pt x="895" y="59"/>
                  <a:pt x="1004" y="0"/>
                  <a:pt x="1100" y="61"/>
                </a:cubicBezTo>
                <a:cubicBezTo>
                  <a:pt x="1196" y="122"/>
                  <a:pt x="1276" y="304"/>
                  <a:pt x="1408" y="466"/>
                </a:cubicBezTo>
                <a:cubicBezTo>
                  <a:pt x="1540" y="628"/>
                  <a:pt x="1780" y="911"/>
                  <a:pt x="1895" y="1033"/>
                </a:cubicBezTo>
                <a:cubicBezTo>
                  <a:pt x="2010" y="1155"/>
                  <a:pt x="2021" y="1145"/>
                  <a:pt x="2097" y="1196"/>
                </a:cubicBezTo>
                <a:cubicBezTo>
                  <a:pt x="2173" y="1247"/>
                  <a:pt x="2297" y="1312"/>
                  <a:pt x="2349" y="1342"/>
                </a:cubicBezTo>
              </a:path>
            </a:pathLst>
          </a:custGeom>
          <a:noFill/>
          <a:ln w="93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3505320"/>
            <a:ext cx="685800" cy="53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30481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343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15000" y="464832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464832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33760" y="4191120"/>
            <a:ext cx="160020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038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64771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6477120"/>
            <a:ext cx="38098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(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6483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/s/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525780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5861160"/>
                <a:ext cx="11430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5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5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0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500"/>
                            </p:stCondLst>
                            <p:childTnLst>
                              <p:par>
                                <p:cTn id="75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500"/>
                            </p:stCondLst>
                            <p:childTnLst>
                              <p:par>
                                <p:cTn id="7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6000"/>
                            </p:stCondLst>
                            <p:childTnLst>
                              <p:par>
                                <p:cTn id="7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7816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Benítez, D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685800"/>
          <a:ext cx="7748640" cy="39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74864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62120" y="50292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1: Regiones III a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2: VII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3: Regiones VIII a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105520"/>
            <a:ext cx="3124440" cy="11912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S calculada con fórmula de Mocior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0"/>
                            </p:stCondLst>
                            <p:childTnLst>
                              <p:par>
                                <p:cTn id="8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500"/>
                            </p:stCondLst>
                            <p:childTnLst>
                              <p:par>
                                <p:cTn id="8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6000"/>
                            </p:stCondLst>
                            <p:childTnLst>
                              <p:par>
                                <p:cTn id="8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Hidrograma Unitario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1371600"/>
            <a:ext cx="2819160" cy="4799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         q/q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7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8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7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380880"/>
            <a:ext cx="7696080" cy="1241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(duración de la lluvia) no es igual 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se deben corregir los parámetros y  siempre hay que verificar el volumen unitario del H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124080" y="2133720"/>
                <a:ext cx="2508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143000" y="3581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Si la diferencia es mayor que 25%, usar HS para transfor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CS Hidrograma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057400" y="1142640"/>
            <a:ext cx="0" cy="39625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5105520"/>
            <a:ext cx="48769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9907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/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4952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133720"/>
            <a:ext cx="8380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2120760"/>
            <a:ext cx="3657600" cy="2984760"/>
          </a:xfrm>
          <a:custGeom>
            <a:avLst/>
            <a:gdLst/>
            <a:ahLst/>
            <a:rect l="l" t="t" r="r" b="b"/>
            <a:pathLst>
              <a:path w="2304" h="1880">
                <a:moveTo>
                  <a:pt x="0" y="1880"/>
                </a:moveTo>
                <a:cubicBezTo>
                  <a:pt x="12" y="1866"/>
                  <a:pt x="44" y="1854"/>
                  <a:pt x="74" y="1794"/>
                </a:cubicBezTo>
                <a:cubicBezTo>
                  <a:pt x="104" y="1734"/>
                  <a:pt x="129" y="1726"/>
                  <a:pt x="180" y="1518"/>
                </a:cubicBezTo>
                <a:cubicBezTo>
                  <a:pt x="231" y="1310"/>
                  <a:pt x="325" y="797"/>
                  <a:pt x="383" y="545"/>
                </a:cubicBezTo>
                <a:cubicBezTo>
                  <a:pt x="441" y="293"/>
                  <a:pt x="466" y="16"/>
                  <a:pt x="528" y="8"/>
                </a:cubicBezTo>
                <a:cubicBezTo>
                  <a:pt x="590" y="0"/>
                  <a:pt x="686" y="363"/>
                  <a:pt x="756" y="496"/>
                </a:cubicBezTo>
                <a:cubicBezTo>
                  <a:pt x="826" y="629"/>
                  <a:pt x="849" y="669"/>
                  <a:pt x="950" y="804"/>
                </a:cubicBezTo>
                <a:cubicBezTo>
                  <a:pt x="1051" y="939"/>
                  <a:pt x="1218" y="1152"/>
                  <a:pt x="1364" y="1307"/>
                </a:cubicBezTo>
                <a:cubicBezTo>
                  <a:pt x="1510" y="1462"/>
                  <a:pt x="1667" y="1641"/>
                  <a:pt x="1824" y="1736"/>
                </a:cubicBezTo>
                <a:cubicBezTo>
                  <a:pt x="1981" y="1831"/>
                  <a:pt x="2224" y="1856"/>
                  <a:pt x="2304" y="18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95480" y="2133360"/>
            <a:ext cx="0" cy="297180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525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6019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y 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timados en base a hidrograma tri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5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0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50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45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0"/>
                            </p:stCondLst>
                            <p:childTnLst>
                              <p:par>
                                <p:cTn id="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5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6000"/>
                            </p:stCondLst>
                            <p:childTnLst>
                              <p:par>
                                <p:cTn id="9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6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70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7500"/>
                            </p:stCondLst>
                            <p:childTnLst>
                              <p:par>
                                <p:cTn id="9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85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9000"/>
                            </p:stCondLst>
                            <p:childTnLst>
                              <p:par>
                                <p:cTn id="9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9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flipV="1">
            <a:off x="1523880" y="380880"/>
            <a:ext cx="0" cy="32767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657600"/>
            <a:ext cx="586764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523880" y="2362320"/>
            <a:ext cx="14479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362320"/>
            <a:ext cx="30481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39625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0384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,67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3886200"/>
            <a:ext cx="14479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886200"/>
            <a:ext cx="30481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685800"/>
            <a:ext cx="609840" cy="914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533520"/>
            <a:ext cx="60984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981080"/>
            <a:ext cx="10666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1523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1066680"/>
                <a:ext cx="1733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553080" y="2127240"/>
                <a:ext cx="17528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,6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8077320" y="2666880"/>
            <a:ext cx="152280" cy="1067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3733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1a3c2"/>
                </a:solidFill>
                <a:latin typeface="Bookman Old Style"/>
              </a:rPr>
              <a:t>Tiempo de 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5018040"/>
                <a:ext cx="190476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581280" y="5361120"/>
                <a:ext cx="99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486400" y="4952880"/>
            <a:ext cx="2514600" cy="1622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=2,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A en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429000" y="3048120"/>
            <a:ext cx="3962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1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 (mayor proporción de P en primer 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562720" cy="2238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590920" y="152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Lluvia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914400"/>
            <a:ext cx="54100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Espíldora y Echavarría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666880"/>
            <a:ext cx="25909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Varas (198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1447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Analizan lluvias de Quinta Normal para distintas duraciones y obtienen 3 distribuciones tipo (adelantada, centrada y atras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Hidrograma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Fórmula de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5" action="ppaction://hlinksldjump"/>
              </a:rPr>
              <a:t> Verni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6" action="ppaction://hlinksldjump"/>
              </a:rPr>
              <a:t> y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7" action="ppaction://hlinksldjump"/>
              </a:rPr>
              <a:t>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6880" y="533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3505320"/>
            <a:ext cx="3810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3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(mayor proporción de P en 3</a:t>
            </a:r>
            <a:r>
              <a:rPr b="1" lang="es-ES_tradnl" sz="1600" spc="-1" strike="noStrike" baseline="30000">
                <a:solidFill>
                  <a:srgbClr val="e1a3c2"/>
                </a:solidFill>
                <a:latin typeface="Bookman Old Style"/>
              </a:rPr>
              <a:t>er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5911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57200" y="380880"/>
            <a:ext cx="67057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cedimiento General para 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8560" y="1498680"/>
            <a:ext cx="3603600" cy="3436920"/>
            <a:chOff x="628560" y="1498680"/>
            <a:chExt cx="3603600" cy="3436920"/>
          </a:xfrm>
        </p:grpSpPr>
        <p:sp>
          <p:nvSpPr>
            <p:cNvPr id="239" name=""/>
            <p:cNvSpPr/>
            <p:nvPr/>
          </p:nvSpPr>
          <p:spPr>
            <a:xfrm>
              <a:off x="641160" y="1498680"/>
              <a:ext cx="3591000" cy="3436920"/>
            </a:xfrm>
            <a:custGeom>
              <a:avLst/>
              <a:gdLst/>
              <a:ahLst/>
              <a:rect l="l" t="t" r="r" b="b"/>
              <a:pathLst>
                <a:path w="2262" h="2165">
                  <a:moveTo>
                    <a:pt x="0" y="1938"/>
                  </a:moveTo>
                  <a:cubicBezTo>
                    <a:pt x="12" y="1925"/>
                    <a:pt x="19" y="1908"/>
                    <a:pt x="32" y="1897"/>
                  </a:cubicBezTo>
                  <a:cubicBezTo>
                    <a:pt x="106" y="1836"/>
                    <a:pt x="23" y="1931"/>
                    <a:pt x="97" y="1856"/>
                  </a:cubicBezTo>
                  <a:cubicBezTo>
                    <a:pt x="104" y="1849"/>
                    <a:pt x="107" y="1839"/>
                    <a:pt x="113" y="1832"/>
                  </a:cubicBezTo>
                  <a:cubicBezTo>
                    <a:pt x="118" y="1826"/>
                    <a:pt x="124" y="1821"/>
                    <a:pt x="130" y="1816"/>
                  </a:cubicBezTo>
                  <a:cubicBezTo>
                    <a:pt x="149" y="1757"/>
                    <a:pt x="142" y="1784"/>
                    <a:pt x="154" y="1735"/>
                  </a:cubicBezTo>
                  <a:cubicBezTo>
                    <a:pt x="162" y="1669"/>
                    <a:pt x="154" y="1577"/>
                    <a:pt x="186" y="1516"/>
                  </a:cubicBezTo>
                  <a:cubicBezTo>
                    <a:pt x="195" y="1499"/>
                    <a:pt x="216" y="1491"/>
                    <a:pt x="227" y="1475"/>
                  </a:cubicBezTo>
                  <a:cubicBezTo>
                    <a:pt x="238" y="1459"/>
                    <a:pt x="253" y="1418"/>
                    <a:pt x="259" y="1402"/>
                  </a:cubicBezTo>
                  <a:cubicBezTo>
                    <a:pt x="280" y="1255"/>
                    <a:pt x="231" y="1100"/>
                    <a:pt x="316" y="973"/>
                  </a:cubicBezTo>
                  <a:cubicBezTo>
                    <a:pt x="322" y="953"/>
                    <a:pt x="339" y="937"/>
                    <a:pt x="340" y="916"/>
                  </a:cubicBezTo>
                  <a:cubicBezTo>
                    <a:pt x="345" y="806"/>
                    <a:pt x="316" y="732"/>
                    <a:pt x="292" y="632"/>
                  </a:cubicBezTo>
                  <a:cubicBezTo>
                    <a:pt x="295" y="592"/>
                    <a:pt x="296" y="551"/>
                    <a:pt x="300" y="511"/>
                  </a:cubicBezTo>
                  <a:cubicBezTo>
                    <a:pt x="311" y="409"/>
                    <a:pt x="430" y="418"/>
                    <a:pt x="503" y="413"/>
                  </a:cubicBezTo>
                  <a:cubicBezTo>
                    <a:pt x="561" y="394"/>
                    <a:pt x="601" y="343"/>
                    <a:pt x="657" y="316"/>
                  </a:cubicBezTo>
                  <a:cubicBezTo>
                    <a:pt x="682" y="278"/>
                    <a:pt x="669" y="295"/>
                    <a:pt x="713" y="251"/>
                  </a:cubicBezTo>
                  <a:cubicBezTo>
                    <a:pt x="719" y="245"/>
                    <a:pt x="730" y="235"/>
                    <a:pt x="730" y="235"/>
                  </a:cubicBezTo>
                  <a:cubicBezTo>
                    <a:pt x="751" y="192"/>
                    <a:pt x="751" y="143"/>
                    <a:pt x="770" y="105"/>
                  </a:cubicBezTo>
                  <a:cubicBezTo>
                    <a:pt x="779" y="88"/>
                    <a:pt x="792" y="73"/>
                    <a:pt x="803" y="57"/>
                  </a:cubicBezTo>
                  <a:cubicBezTo>
                    <a:pt x="823" y="28"/>
                    <a:pt x="892" y="0"/>
                    <a:pt x="892" y="0"/>
                  </a:cubicBezTo>
                  <a:cubicBezTo>
                    <a:pt x="968" y="3"/>
                    <a:pt x="1043" y="3"/>
                    <a:pt x="1119" y="8"/>
                  </a:cubicBezTo>
                  <a:cubicBezTo>
                    <a:pt x="1172" y="11"/>
                    <a:pt x="1145" y="70"/>
                    <a:pt x="1168" y="97"/>
                  </a:cubicBezTo>
                  <a:cubicBezTo>
                    <a:pt x="1179" y="110"/>
                    <a:pt x="1217" y="117"/>
                    <a:pt x="1232" y="121"/>
                  </a:cubicBezTo>
                  <a:cubicBezTo>
                    <a:pt x="1254" y="132"/>
                    <a:pt x="1281" y="148"/>
                    <a:pt x="1305" y="154"/>
                  </a:cubicBezTo>
                  <a:cubicBezTo>
                    <a:pt x="1332" y="161"/>
                    <a:pt x="1386" y="170"/>
                    <a:pt x="1386" y="170"/>
                  </a:cubicBezTo>
                  <a:cubicBezTo>
                    <a:pt x="1408" y="181"/>
                    <a:pt x="1434" y="186"/>
                    <a:pt x="1451" y="203"/>
                  </a:cubicBezTo>
                  <a:cubicBezTo>
                    <a:pt x="1498" y="249"/>
                    <a:pt x="1474" y="237"/>
                    <a:pt x="1516" y="251"/>
                  </a:cubicBezTo>
                  <a:cubicBezTo>
                    <a:pt x="1527" y="259"/>
                    <a:pt x="1538" y="268"/>
                    <a:pt x="1549" y="275"/>
                  </a:cubicBezTo>
                  <a:cubicBezTo>
                    <a:pt x="1576" y="292"/>
                    <a:pt x="1630" y="324"/>
                    <a:pt x="1630" y="324"/>
                  </a:cubicBezTo>
                  <a:cubicBezTo>
                    <a:pt x="1660" y="363"/>
                    <a:pt x="1685" y="411"/>
                    <a:pt x="1719" y="446"/>
                  </a:cubicBezTo>
                  <a:cubicBezTo>
                    <a:pt x="1740" y="467"/>
                    <a:pt x="1767" y="480"/>
                    <a:pt x="1792" y="494"/>
                  </a:cubicBezTo>
                  <a:cubicBezTo>
                    <a:pt x="1861" y="532"/>
                    <a:pt x="1929" y="574"/>
                    <a:pt x="1995" y="616"/>
                  </a:cubicBezTo>
                  <a:cubicBezTo>
                    <a:pt x="2028" y="660"/>
                    <a:pt x="2052" y="679"/>
                    <a:pt x="2084" y="730"/>
                  </a:cubicBezTo>
                  <a:cubicBezTo>
                    <a:pt x="2187" y="894"/>
                    <a:pt x="2224" y="1109"/>
                    <a:pt x="2262" y="1297"/>
                  </a:cubicBezTo>
                  <a:cubicBezTo>
                    <a:pt x="2250" y="1383"/>
                    <a:pt x="2257" y="1345"/>
                    <a:pt x="2189" y="1378"/>
                  </a:cubicBezTo>
                  <a:cubicBezTo>
                    <a:pt x="2123" y="1444"/>
                    <a:pt x="2153" y="1419"/>
                    <a:pt x="2100" y="1459"/>
                  </a:cubicBezTo>
                  <a:cubicBezTo>
                    <a:pt x="2095" y="1467"/>
                    <a:pt x="2088" y="1475"/>
                    <a:pt x="2084" y="1484"/>
                  </a:cubicBezTo>
                  <a:cubicBezTo>
                    <a:pt x="2080" y="1494"/>
                    <a:pt x="2081" y="1506"/>
                    <a:pt x="2076" y="1516"/>
                  </a:cubicBezTo>
                  <a:cubicBezTo>
                    <a:pt x="2066" y="1536"/>
                    <a:pt x="2040" y="1554"/>
                    <a:pt x="2027" y="1573"/>
                  </a:cubicBezTo>
                  <a:cubicBezTo>
                    <a:pt x="2020" y="1584"/>
                    <a:pt x="2007" y="1619"/>
                    <a:pt x="1995" y="1629"/>
                  </a:cubicBezTo>
                  <a:cubicBezTo>
                    <a:pt x="1956" y="1662"/>
                    <a:pt x="1899" y="1656"/>
                    <a:pt x="1857" y="1686"/>
                  </a:cubicBezTo>
                  <a:cubicBezTo>
                    <a:pt x="1798" y="1729"/>
                    <a:pt x="1761" y="1783"/>
                    <a:pt x="1695" y="1816"/>
                  </a:cubicBezTo>
                  <a:cubicBezTo>
                    <a:pt x="1611" y="1810"/>
                    <a:pt x="1569" y="1799"/>
                    <a:pt x="1492" y="1808"/>
                  </a:cubicBezTo>
                  <a:cubicBezTo>
                    <a:pt x="1458" y="1842"/>
                    <a:pt x="1438" y="1881"/>
                    <a:pt x="1411" y="1921"/>
                  </a:cubicBezTo>
                  <a:cubicBezTo>
                    <a:pt x="1384" y="2031"/>
                    <a:pt x="1351" y="2061"/>
                    <a:pt x="1240" y="2083"/>
                  </a:cubicBezTo>
                  <a:cubicBezTo>
                    <a:pt x="1213" y="2080"/>
                    <a:pt x="1185" y="2081"/>
                    <a:pt x="1159" y="2075"/>
                  </a:cubicBezTo>
                  <a:cubicBezTo>
                    <a:pt x="1150" y="2073"/>
                    <a:pt x="1144" y="2063"/>
                    <a:pt x="1135" y="2059"/>
                  </a:cubicBezTo>
                  <a:cubicBezTo>
                    <a:pt x="1119" y="2052"/>
                    <a:pt x="1086" y="2043"/>
                    <a:pt x="1086" y="2043"/>
                  </a:cubicBezTo>
                  <a:cubicBezTo>
                    <a:pt x="1056" y="2046"/>
                    <a:pt x="1026" y="2043"/>
                    <a:pt x="997" y="2051"/>
                  </a:cubicBezTo>
                  <a:cubicBezTo>
                    <a:pt x="986" y="2054"/>
                    <a:pt x="982" y="2068"/>
                    <a:pt x="973" y="2075"/>
                  </a:cubicBezTo>
                  <a:cubicBezTo>
                    <a:pt x="949" y="2094"/>
                    <a:pt x="926" y="2115"/>
                    <a:pt x="900" y="2132"/>
                  </a:cubicBezTo>
                  <a:cubicBezTo>
                    <a:pt x="871" y="2151"/>
                    <a:pt x="811" y="2158"/>
                    <a:pt x="778" y="2165"/>
                  </a:cubicBezTo>
                  <a:cubicBezTo>
                    <a:pt x="768" y="2163"/>
                    <a:pt x="715" y="2158"/>
                    <a:pt x="697" y="2148"/>
                  </a:cubicBezTo>
                  <a:cubicBezTo>
                    <a:pt x="613" y="2102"/>
                    <a:pt x="680" y="2126"/>
                    <a:pt x="624" y="2108"/>
                  </a:cubicBezTo>
                  <a:cubicBezTo>
                    <a:pt x="575" y="2032"/>
                    <a:pt x="491" y="1997"/>
                    <a:pt x="405" y="1986"/>
                  </a:cubicBezTo>
                  <a:cubicBezTo>
                    <a:pt x="310" y="1990"/>
                    <a:pt x="200" y="2008"/>
                    <a:pt x="105" y="1978"/>
                  </a:cubicBezTo>
                  <a:cubicBezTo>
                    <a:pt x="72" y="1956"/>
                    <a:pt x="38" y="1947"/>
                    <a:pt x="0" y="193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8560" y="2065680"/>
              <a:ext cx="1569960" cy="2495520"/>
            </a:xfrm>
            <a:custGeom>
              <a:avLst/>
              <a:gdLst/>
              <a:ahLst/>
              <a:rect l="l" t="t" r="r" b="b"/>
              <a:pathLst>
                <a:path w="989" h="1572">
                  <a:moveTo>
                    <a:pt x="0" y="1572"/>
                  </a:moveTo>
                  <a:cubicBezTo>
                    <a:pt x="40" y="1569"/>
                    <a:pt x="81" y="1568"/>
                    <a:pt x="121" y="1564"/>
                  </a:cubicBezTo>
                  <a:cubicBezTo>
                    <a:pt x="159" y="1560"/>
                    <a:pt x="188" y="1524"/>
                    <a:pt x="219" y="1508"/>
                  </a:cubicBezTo>
                  <a:cubicBezTo>
                    <a:pt x="229" y="1503"/>
                    <a:pt x="241" y="1503"/>
                    <a:pt x="251" y="1499"/>
                  </a:cubicBezTo>
                  <a:cubicBezTo>
                    <a:pt x="330" y="1466"/>
                    <a:pt x="404" y="1419"/>
                    <a:pt x="478" y="1378"/>
                  </a:cubicBezTo>
                  <a:cubicBezTo>
                    <a:pt x="537" y="1345"/>
                    <a:pt x="583" y="1280"/>
                    <a:pt x="648" y="1264"/>
                  </a:cubicBezTo>
                  <a:cubicBezTo>
                    <a:pt x="672" y="1230"/>
                    <a:pt x="700" y="1196"/>
                    <a:pt x="730" y="1167"/>
                  </a:cubicBezTo>
                  <a:cubicBezTo>
                    <a:pt x="748" y="1112"/>
                    <a:pt x="723" y="1179"/>
                    <a:pt x="762" y="1110"/>
                  </a:cubicBezTo>
                  <a:cubicBezTo>
                    <a:pt x="767" y="1101"/>
                    <a:pt x="776" y="1061"/>
                    <a:pt x="778" y="1054"/>
                  </a:cubicBezTo>
                  <a:cubicBezTo>
                    <a:pt x="775" y="995"/>
                    <a:pt x="741" y="821"/>
                    <a:pt x="794" y="770"/>
                  </a:cubicBezTo>
                  <a:cubicBezTo>
                    <a:pt x="820" y="745"/>
                    <a:pt x="857" y="730"/>
                    <a:pt x="884" y="705"/>
                  </a:cubicBezTo>
                  <a:cubicBezTo>
                    <a:pt x="899" y="616"/>
                    <a:pt x="921" y="531"/>
                    <a:pt x="948" y="445"/>
                  </a:cubicBezTo>
                  <a:cubicBezTo>
                    <a:pt x="940" y="335"/>
                    <a:pt x="931" y="227"/>
                    <a:pt x="965" y="121"/>
                  </a:cubicBezTo>
                  <a:cubicBezTo>
                    <a:pt x="968" y="97"/>
                    <a:pt x="968" y="72"/>
                    <a:pt x="973" y="48"/>
                  </a:cubicBezTo>
                  <a:cubicBezTo>
                    <a:pt x="976" y="31"/>
                    <a:pt x="989" y="0"/>
                    <a:pt x="989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71520" y="3623040"/>
              <a:ext cx="2562120" cy="733320"/>
            </a:xfrm>
            <a:custGeom>
              <a:avLst/>
              <a:gdLst/>
              <a:ahLst/>
              <a:rect l="l" t="t" r="r" b="b"/>
              <a:pathLst>
                <a:path w="1614" h="462">
                  <a:moveTo>
                    <a:pt x="0" y="462"/>
                  </a:moveTo>
                  <a:cubicBezTo>
                    <a:pt x="38" y="437"/>
                    <a:pt x="79" y="419"/>
                    <a:pt x="122" y="405"/>
                  </a:cubicBezTo>
                  <a:cubicBezTo>
                    <a:pt x="138" y="400"/>
                    <a:pt x="154" y="394"/>
                    <a:pt x="170" y="389"/>
                  </a:cubicBezTo>
                  <a:cubicBezTo>
                    <a:pt x="178" y="386"/>
                    <a:pt x="195" y="381"/>
                    <a:pt x="195" y="381"/>
                  </a:cubicBezTo>
                  <a:cubicBezTo>
                    <a:pt x="284" y="399"/>
                    <a:pt x="372" y="408"/>
                    <a:pt x="462" y="421"/>
                  </a:cubicBezTo>
                  <a:cubicBezTo>
                    <a:pt x="507" y="435"/>
                    <a:pt x="553" y="440"/>
                    <a:pt x="600" y="446"/>
                  </a:cubicBezTo>
                  <a:cubicBezTo>
                    <a:pt x="641" y="442"/>
                    <a:pt x="687" y="450"/>
                    <a:pt x="722" y="429"/>
                  </a:cubicBezTo>
                  <a:cubicBezTo>
                    <a:pt x="742" y="417"/>
                    <a:pt x="779" y="389"/>
                    <a:pt x="779" y="389"/>
                  </a:cubicBezTo>
                  <a:cubicBezTo>
                    <a:pt x="796" y="355"/>
                    <a:pt x="827" y="279"/>
                    <a:pt x="876" y="275"/>
                  </a:cubicBezTo>
                  <a:cubicBezTo>
                    <a:pt x="906" y="272"/>
                    <a:pt x="935" y="270"/>
                    <a:pt x="965" y="267"/>
                  </a:cubicBezTo>
                  <a:cubicBezTo>
                    <a:pt x="1052" y="250"/>
                    <a:pt x="1069" y="181"/>
                    <a:pt x="1152" y="154"/>
                  </a:cubicBezTo>
                  <a:cubicBezTo>
                    <a:pt x="1192" y="125"/>
                    <a:pt x="1200" y="113"/>
                    <a:pt x="1217" y="64"/>
                  </a:cubicBezTo>
                  <a:cubicBezTo>
                    <a:pt x="1226" y="39"/>
                    <a:pt x="1264" y="40"/>
                    <a:pt x="1289" y="32"/>
                  </a:cubicBezTo>
                  <a:cubicBezTo>
                    <a:pt x="1356" y="10"/>
                    <a:pt x="1430" y="27"/>
                    <a:pt x="1500" y="24"/>
                  </a:cubicBezTo>
                  <a:cubicBezTo>
                    <a:pt x="1544" y="18"/>
                    <a:pt x="1552" y="19"/>
                    <a:pt x="1590" y="8"/>
                  </a:cubicBezTo>
                  <a:cubicBezTo>
                    <a:pt x="1598" y="6"/>
                    <a:pt x="1614" y="0"/>
                    <a:pt x="1614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97040" y="3275280"/>
              <a:ext cx="193680" cy="824040"/>
            </a:xfrm>
            <a:custGeom>
              <a:avLst/>
              <a:gdLst/>
              <a:ahLst/>
              <a:rect l="l" t="t" r="r" b="b"/>
              <a:pathLst>
                <a:path w="122" h="519">
                  <a:moveTo>
                    <a:pt x="0" y="519"/>
                  </a:moveTo>
                  <a:cubicBezTo>
                    <a:pt x="24" y="472"/>
                    <a:pt x="49" y="428"/>
                    <a:pt x="73" y="381"/>
                  </a:cubicBezTo>
                  <a:cubicBezTo>
                    <a:pt x="80" y="368"/>
                    <a:pt x="83" y="353"/>
                    <a:pt x="90" y="340"/>
                  </a:cubicBezTo>
                  <a:cubicBezTo>
                    <a:pt x="99" y="323"/>
                    <a:pt x="122" y="292"/>
                    <a:pt x="122" y="292"/>
                  </a:cubicBezTo>
                  <a:cubicBezTo>
                    <a:pt x="112" y="219"/>
                    <a:pt x="96" y="151"/>
                    <a:pt x="73" y="81"/>
                  </a:cubicBezTo>
                  <a:cubicBezTo>
                    <a:pt x="76" y="62"/>
                    <a:pt x="75" y="42"/>
                    <a:pt x="81" y="24"/>
                  </a:cubicBezTo>
                  <a:cubicBezTo>
                    <a:pt x="84" y="15"/>
                    <a:pt x="98" y="0"/>
                    <a:pt x="98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44440" y="2646720"/>
              <a:ext cx="1084320" cy="525240"/>
            </a:xfrm>
            <a:custGeom>
              <a:avLst/>
              <a:gdLst/>
              <a:ahLst/>
              <a:rect l="l" t="t" r="r" b="b"/>
              <a:pathLst>
                <a:path w="683" h="331">
                  <a:moveTo>
                    <a:pt x="0" y="331"/>
                  </a:moveTo>
                  <a:cubicBezTo>
                    <a:pt x="57" y="312"/>
                    <a:pt x="75" y="222"/>
                    <a:pt x="138" y="217"/>
                  </a:cubicBezTo>
                  <a:cubicBezTo>
                    <a:pt x="197" y="212"/>
                    <a:pt x="257" y="212"/>
                    <a:pt x="316" y="209"/>
                  </a:cubicBezTo>
                  <a:cubicBezTo>
                    <a:pt x="355" y="199"/>
                    <a:pt x="390" y="182"/>
                    <a:pt x="429" y="169"/>
                  </a:cubicBezTo>
                  <a:cubicBezTo>
                    <a:pt x="475" y="154"/>
                    <a:pt x="526" y="164"/>
                    <a:pt x="575" y="161"/>
                  </a:cubicBezTo>
                  <a:cubicBezTo>
                    <a:pt x="610" y="126"/>
                    <a:pt x="630" y="80"/>
                    <a:pt x="657" y="39"/>
                  </a:cubicBezTo>
                  <a:cubicBezTo>
                    <a:pt x="683" y="0"/>
                    <a:pt x="681" y="39"/>
                    <a:pt x="681" y="15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143000" y="2362320"/>
            <a:ext cx="2562120" cy="1531800"/>
            <a:chOff x="1143000" y="2362320"/>
            <a:chExt cx="2562120" cy="1531800"/>
          </a:xfrm>
        </p:grpSpPr>
        <p:grpSp>
          <p:nvGrpSpPr>
            <p:cNvPr id="245" name=""/>
            <p:cNvGrpSpPr/>
            <p:nvPr/>
          </p:nvGrpSpPr>
          <p:grpSpPr>
            <a:xfrm>
              <a:off x="1143000" y="2438280"/>
              <a:ext cx="2562120" cy="1455840"/>
              <a:chOff x="1143000" y="2438280"/>
              <a:chExt cx="2562120" cy="1455840"/>
            </a:xfrm>
          </p:grpSpPr>
          <p:sp>
            <p:nvSpPr>
              <p:cNvPr id="246" name=""/>
              <p:cNvSpPr/>
              <p:nvPr/>
            </p:nvSpPr>
            <p:spPr>
              <a:xfrm>
                <a:off x="1771560" y="3817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3000" y="2604960"/>
                <a:ext cx="685800" cy="1249200"/>
              </a:xfrm>
              <a:custGeom>
                <a:avLst/>
                <a:gdLst/>
                <a:ahLst/>
                <a:rect l="l" t="t" r="r" b="b"/>
                <a:pathLst>
                  <a:path w="432" h="787">
                    <a:moveTo>
                      <a:pt x="414" y="787"/>
                    </a:moveTo>
                    <a:cubicBezTo>
                      <a:pt x="432" y="731"/>
                      <a:pt x="352" y="735"/>
                      <a:pt x="349" y="641"/>
                    </a:cubicBezTo>
                    <a:cubicBezTo>
                      <a:pt x="348" y="597"/>
                      <a:pt x="301" y="538"/>
                      <a:pt x="292" y="495"/>
                    </a:cubicBezTo>
                    <a:cubicBezTo>
                      <a:pt x="285" y="463"/>
                      <a:pt x="363" y="468"/>
                      <a:pt x="341" y="454"/>
                    </a:cubicBezTo>
                    <a:cubicBezTo>
                      <a:pt x="304" y="430"/>
                      <a:pt x="283" y="395"/>
                      <a:pt x="251" y="365"/>
                    </a:cubicBezTo>
                    <a:cubicBezTo>
                      <a:pt x="240" y="333"/>
                      <a:pt x="221" y="287"/>
                      <a:pt x="203" y="260"/>
                    </a:cubicBezTo>
                    <a:cubicBezTo>
                      <a:pt x="194" y="233"/>
                      <a:pt x="162" y="187"/>
                      <a:pt x="162" y="187"/>
                    </a:cubicBezTo>
                    <a:cubicBezTo>
                      <a:pt x="159" y="179"/>
                      <a:pt x="155" y="171"/>
                      <a:pt x="154" y="162"/>
                    </a:cubicBezTo>
                    <a:cubicBezTo>
                      <a:pt x="150" y="130"/>
                      <a:pt x="155" y="96"/>
                      <a:pt x="146" y="65"/>
                    </a:cubicBezTo>
                    <a:cubicBezTo>
                      <a:pt x="144" y="57"/>
                      <a:pt x="130" y="61"/>
                      <a:pt x="122" y="57"/>
                    </a:cubicBezTo>
                    <a:cubicBezTo>
                      <a:pt x="88" y="40"/>
                      <a:pt x="13" y="25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25560" y="2438280"/>
                <a:ext cx="1879560" cy="1441440"/>
              </a:xfrm>
              <a:custGeom>
                <a:avLst/>
                <a:gdLst/>
                <a:ahLst/>
                <a:rect l="l" t="t" r="r" b="b"/>
                <a:pathLst>
                  <a:path w="1184" h="908">
                    <a:moveTo>
                      <a:pt x="0" y="908"/>
                    </a:moveTo>
                    <a:cubicBezTo>
                      <a:pt x="16" y="905"/>
                      <a:pt x="34" y="906"/>
                      <a:pt x="49" y="900"/>
                    </a:cubicBezTo>
                    <a:cubicBezTo>
                      <a:pt x="67" y="892"/>
                      <a:pt x="97" y="867"/>
                      <a:pt x="97" y="867"/>
                    </a:cubicBezTo>
                    <a:cubicBezTo>
                      <a:pt x="128" y="820"/>
                      <a:pt x="176" y="790"/>
                      <a:pt x="211" y="746"/>
                    </a:cubicBezTo>
                    <a:cubicBezTo>
                      <a:pt x="228" y="725"/>
                      <a:pt x="276" y="697"/>
                      <a:pt x="276" y="697"/>
                    </a:cubicBezTo>
                    <a:cubicBezTo>
                      <a:pt x="290" y="656"/>
                      <a:pt x="308" y="632"/>
                      <a:pt x="324" y="592"/>
                    </a:cubicBezTo>
                    <a:cubicBezTo>
                      <a:pt x="340" y="551"/>
                      <a:pt x="343" y="533"/>
                      <a:pt x="373" y="502"/>
                    </a:cubicBezTo>
                    <a:cubicBezTo>
                      <a:pt x="404" y="470"/>
                      <a:pt x="401" y="500"/>
                      <a:pt x="446" y="470"/>
                    </a:cubicBezTo>
                    <a:cubicBezTo>
                      <a:pt x="470" y="454"/>
                      <a:pt x="472" y="449"/>
                      <a:pt x="503" y="446"/>
                    </a:cubicBezTo>
                    <a:cubicBezTo>
                      <a:pt x="560" y="441"/>
                      <a:pt x="616" y="440"/>
                      <a:pt x="673" y="437"/>
                    </a:cubicBezTo>
                    <a:cubicBezTo>
                      <a:pt x="718" y="430"/>
                      <a:pt x="745" y="421"/>
                      <a:pt x="786" y="405"/>
                    </a:cubicBezTo>
                    <a:cubicBezTo>
                      <a:pt x="802" y="399"/>
                      <a:pt x="835" y="389"/>
                      <a:pt x="835" y="389"/>
                    </a:cubicBezTo>
                    <a:cubicBezTo>
                      <a:pt x="858" y="366"/>
                      <a:pt x="873" y="342"/>
                      <a:pt x="900" y="324"/>
                    </a:cubicBezTo>
                    <a:cubicBezTo>
                      <a:pt x="914" y="303"/>
                      <a:pt x="929" y="282"/>
                      <a:pt x="949" y="267"/>
                    </a:cubicBezTo>
                    <a:cubicBezTo>
                      <a:pt x="964" y="256"/>
                      <a:pt x="997" y="235"/>
                      <a:pt x="997" y="235"/>
                    </a:cubicBezTo>
                    <a:cubicBezTo>
                      <a:pt x="1035" y="178"/>
                      <a:pt x="1019" y="202"/>
                      <a:pt x="1046" y="162"/>
                    </a:cubicBezTo>
                    <a:cubicBezTo>
                      <a:pt x="1067" y="130"/>
                      <a:pt x="1106" y="113"/>
                      <a:pt x="1127" y="81"/>
                    </a:cubicBezTo>
                    <a:cubicBezTo>
                      <a:pt x="1138" y="64"/>
                      <a:pt x="1163" y="10"/>
                      <a:pt x="118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1828800" y="2362320"/>
              <a:ext cx="763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581280" y="1066680"/>
            <a:ext cx="5562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Usualmente se tiene estación pluviomé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isoyetas de P diaria </a:t>
            </a: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(D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2590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Verificar P de periodo de retorno 10 años en la es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4114800"/>
            <a:ext cx="5334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lcular tiempo de concentración y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media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ara esa duración para el T des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5410080"/>
            <a:ext cx="8991720" cy="12416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Discretizar en t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obtener para un grupo la probabilidad mas desfavorable de Qmax. Luego ver los otros grupos y seleccionar el hidrograma de 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8686800" y="609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24680" y="0"/>
            <a:ext cx="1219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P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229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tienen varios Hidrogramas de escorrentía directa provenientes de lluvias efectivas de duración T similar (± 25%) con intensidades I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˜ constantes en ese tiempo y con igual distribución espa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133720"/>
            <a:ext cx="218916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ef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3581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U(T,t)= H(t)/(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314880"/>
            <a:ext cx="5638680" cy="3357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4267080"/>
            <a:ext cx="4737240" cy="2403720"/>
          </a:xfrm>
          <a:custGeom>
            <a:avLst/>
            <a:gdLst/>
            <a:ahLst/>
            <a:rect l="l" t="t" r="r" b="b"/>
            <a:pathLst>
              <a:path w="2208" h="928">
                <a:moveTo>
                  <a:pt x="0" y="928"/>
                </a:moveTo>
                <a:cubicBezTo>
                  <a:pt x="68" y="920"/>
                  <a:pt x="136" y="912"/>
                  <a:pt x="192" y="880"/>
                </a:cubicBezTo>
                <a:cubicBezTo>
                  <a:pt x="248" y="848"/>
                  <a:pt x="280" y="816"/>
                  <a:pt x="336" y="736"/>
                </a:cubicBezTo>
                <a:cubicBezTo>
                  <a:pt x="392" y="656"/>
                  <a:pt x="464" y="512"/>
                  <a:pt x="528" y="400"/>
                </a:cubicBezTo>
                <a:cubicBezTo>
                  <a:pt x="592" y="288"/>
                  <a:pt x="664" y="128"/>
                  <a:pt x="720" y="64"/>
                </a:cubicBezTo>
                <a:cubicBezTo>
                  <a:pt x="776" y="0"/>
                  <a:pt x="824" y="8"/>
                  <a:pt x="864" y="16"/>
                </a:cubicBezTo>
                <a:cubicBezTo>
                  <a:pt x="904" y="24"/>
                  <a:pt x="928" y="64"/>
                  <a:pt x="960" y="112"/>
                </a:cubicBezTo>
                <a:cubicBezTo>
                  <a:pt x="992" y="160"/>
                  <a:pt x="1016" y="240"/>
                  <a:pt x="1056" y="304"/>
                </a:cubicBezTo>
                <a:cubicBezTo>
                  <a:pt x="1096" y="368"/>
                  <a:pt x="1144" y="432"/>
                  <a:pt x="1200" y="496"/>
                </a:cubicBezTo>
                <a:cubicBezTo>
                  <a:pt x="1256" y="560"/>
                  <a:pt x="1328" y="640"/>
                  <a:pt x="1392" y="688"/>
                </a:cubicBezTo>
                <a:cubicBezTo>
                  <a:pt x="1456" y="736"/>
                  <a:pt x="1504" y="752"/>
                  <a:pt x="1584" y="784"/>
                </a:cubicBezTo>
                <a:cubicBezTo>
                  <a:pt x="1664" y="816"/>
                  <a:pt x="1768" y="856"/>
                  <a:pt x="1872" y="880"/>
                </a:cubicBezTo>
                <a:cubicBezTo>
                  <a:pt x="1976" y="904"/>
                  <a:pt x="2152" y="920"/>
                  <a:pt x="2208" y="928"/>
                </a:cubicBezTo>
              </a:path>
            </a:pathLst>
          </a:custGeom>
          <a:solidFill>
            <a:srgbClr val="c7558e"/>
          </a:solidFill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5410080"/>
            <a:ext cx="4726080" cy="127188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324480" y="2743200"/>
            <a:ext cx="30492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10080" y="281916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352680"/>
            <a:ext cx="411120" cy="7462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4191120"/>
            <a:ext cx="353880" cy="144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352680"/>
            <a:ext cx="1440" cy="11192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411480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3886200"/>
            <a:ext cx="411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733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ara Tormenta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4724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5105520"/>
            <a:ext cx="914400" cy="30456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576" y="0"/>
                </a:moveTo>
                <a:cubicBezTo>
                  <a:pt x="568" y="36"/>
                  <a:pt x="560" y="72"/>
                  <a:pt x="528" y="96"/>
                </a:cubicBezTo>
                <a:cubicBezTo>
                  <a:pt x="496" y="120"/>
                  <a:pt x="472" y="128"/>
                  <a:pt x="384" y="144"/>
                </a:cubicBezTo>
                <a:cubicBezTo>
                  <a:pt x="296" y="160"/>
                  <a:pt x="64" y="184"/>
                  <a:pt x="0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267080"/>
            <a:ext cx="2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1295280"/>
            <a:ext cx="6553080" cy="4496040"/>
          </a:xfrm>
          <a:prstGeom prst="rect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71560" y="3348000"/>
            <a:ext cx="5570640" cy="170352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7320" y="3454560"/>
            <a:ext cx="5622840" cy="1557000"/>
          </a:xfrm>
          <a:custGeom>
            <a:avLst/>
            <a:gdLst/>
            <a:ahLst/>
            <a:rect l="l" t="t" r="r" b="b"/>
            <a:pathLst>
              <a:path w="2224" h="449">
                <a:moveTo>
                  <a:pt x="21" y="449"/>
                </a:moveTo>
                <a:cubicBezTo>
                  <a:pt x="23" y="447"/>
                  <a:pt x="0" y="446"/>
                  <a:pt x="31" y="438"/>
                </a:cubicBezTo>
                <a:cubicBezTo>
                  <a:pt x="62" y="430"/>
                  <a:pt x="151" y="419"/>
                  <a:pt x="208" y="400"/>
                </a:cubicBezTo>
                <a:cubicBezTo>
                  <a:pt x="265" y="381"/>
                  <a:pt x="314" y="366"/>
                  <a:pt x="371" y="324"/>
                </a:cubicBezTo>
                <a:cubicBezTo>
                  <a:pt x="428" y="282"/>
                  <a:pt x="492" y="201"/>
                  <a:pt x="549" y="151"/>
                </a:cubicBezTo>
                <a:cubicBezTo>
                  <a:pt x="606" y="101"/>
                  <a:pt x="670" y="48"/>
                  <a:pt x="712" y="25"/>
                </a:cubicBezTo>
                <a:cubicBezTo>
                  <a:pt x="754" y="2"/>
                  <a:pt x="771" y="0"/>
                  <a:pt x="803" y="11"/>
                </a:cubicBezTo>
                <a:cubicBezTo>
                  <a:pt x="835" y="22"/>
                  <a:pt x="874" y="63"/>
                  <a:pt x="904" y="88"/>
                </a:cubicBezTo>
                <a:cubicBezTo>
                  <a:pt x="934" y="113"/>
                  <a:pt x="951" y="139"/>
                  <a:pt x="986" y="164"/>
                </a:cubicBezTo>
                <a:cubicBezTo>
                  <a:pt x="1021" y="189"/>
                  <a:pt x="1074" y="218"/>
                  <a:pt x="1115" y="241"/>
                </a:cubicBezTo>
                <a:cubicBezTo>
                  <a:pt x="1156" y="264"/>
                  <a:pt x="1185" y="285"/>
                  <a:pt x="1235" y="304"/>
                </a:cubicBezTo>
                <a:cubicBezTo>
                  <a:pt x="1285" y="323"/>
                  <a:pt x="1359" y="338"/>
                  <a:pt x="1418" y="353"/>
                </a:cubicBezTo>
                <a:cubicBezTo>
                  <a:pt x="1477" y="368"/>
                  <a:pt x="1512" y="382"/>
                  <a:pt x="1591" y="396"/>
                </a:cubicBezTo>
                <a:cubicBezTo>
                  <a:pt x="1670" y="410"/>
                  <a:pt x="1787" y="427"/>
                  <a:pt x="1893" y="435"/>
                </a:cubicBezTo>
                <a:cubicBezTo>
                  <a:pt x="1999" y="443"/>
                  <a:pt x="2155" y="442"/>
                  <a:pt x="2224" y="444"/>
                </a:cubicBezTo>
              </a:path>
            </a:pathLst>
          </a:custGeom>
          <a:noFill/>
          <a:ln w="38160">
            <a:solidFill>
              <a:srgbClr val="e1a3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609480"/>
            <a:ext cx="4038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Varias Tor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24200" y="3368520"/>
            <a:ext cx="5570280" cy="1675080"/>
          </a:xfrm>
          <a:custGeom>
            <a:avLst/>
            <a:gdLst/>
            <a:ahLst/>
            <a:rect l="l" t="t" r="r" b="b"/>
            <a:pathLst>
              <a:path w="2203" h="483">
                <a:moveTo>
                  <a:pt x="0" y="483"/>
                </a:moveTo>
                <a:cubicBezTo>
                  <a:pt x="30" y="476"/>
                  <a:pt x="120" y="462"/>
                  <a:pt x="178" y="438"/>
                </a:cubicBezTo>
                <a:cubicBezTo>
                  <a:pt x="236" y="414"/>
                  <a:pt x="292" y="383"/>
                  <a:pt x="350" y="338"/>
                </a:cubicBezTo>
                <a:cubicBezTo>
                  <a:pt x="408" y="293"/>
                  <a:pt x="473" y="218"/>
                  <a:pt x="523" y="170"/>
                </a:cubicBezTo>
                <a:cubicBezTo>
                  <a:pt x="573" y="122"/>
                  <a:pt x="614" y="76"/>
                  <a:pt x="648" y="50"/>
                </a:cubicBezTo>
                <a:cubicBezTo>
                  <a:pt x="682" y="24"/>
                  <a:pt x="692" y="0"/>
                  <a:pt x="730" y="11"/>
                </a:cubicBezTo>
                <a:cubicBezTo>
                  <a:pt x="768" y="22"/>
                  <a:pt x="838" y="86"/>
                  <a:pt x="878" y="117"/>
                </a:cubicBezTo>
                <a:cubicBezTo>
                  <a:pt x="918" y="148"/>
                  <a:pt x="934" y="169"/>
                  <a:pt x="970" y="194"/>
                </a:cubicBezTo>
                <a:cubicBezTo>
                  <a:pt x="1006" y="219"/>
                  <a:pt x="1053" y="245"/>
                  <a:pt x="1094" y="270"/>
                </a:cubicBezTo>
                <a:cubicBezTo>
                  <a:pt x="1135" y="295"/>
                  <a:pt x="1167" y="320"/>
                  <a:pt x="1219" y="342"/>
                </a:cubicBezTo>
                <a:cubicBezTo>
                  <a:pt x="1271" y="364"/>
                  <a:pt x="1348" y="386"/>
                  <a:pt x="1406" y="400"/>
                </a:cubicBezTo>
                <a:cubicBezTo>
                  <a:pt x="1464" y="414"/>
                  <a:pt x="1517" y="420"/>
                  <a:pt x="1570" y="429"/>
                </a:cubicBezTo>
                <a:cubicBezTo>
                  <a:pt x="1623" y="438"/>
                  <a:pt x="1673" y="446"/>
                  <a:pt x="1723" y="453"/>
                </a:cubicBezTo>
                <a:cubicBezTo>
                  <a:pt x="1773" y="460"/>
                  <a:pt x="1792" y="465"/>
                  <a:pt x="1872" y="469"/>
                </a:cubicBezTo>
                <a:cubicBezTo>
                  <a:pt x="1952" y="473"/>
                  <a:pt x="2134" y="476"/>
                  <a:pt x="2203" y="478"/>
                </a:cubicBezTo>
              </a:path>
            </a:pathLst>
          </a:custGeom>
          <a:solidFill>
            <a:srgbClr val="c7558e">
              <a:alpha val="50000"/>
            </a:srgbClr>
          </a:solidFill>
          <a:ln w="2844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7480" y="2992320"/>
            <a:ext cx="1335240" cy="1749600"/>
          </a:xfrm>
          <a:custGeom>
            <a:avLst/>
            <a:gdLst/>
            <a:ahLst/>
            <a:rect l="l" t="t" r="r" b="b"/>
            <a:pathLst>
              <a:path w="528" h="504">
                <a:moveTo>
                  <a:pt x="528" y="24"/>
                </a:moveTo>
                <a:cubicBezTo>
                  <a:pt x="524" y="12"/>
                  <a:pt x="520" y="0"/>
                  <a:pt x="480" y="24"/>
                </a:cubicBezTo>
                <a:cubicBezTo>
                  <a:pt x="440" y="48"/>
                  <a:pt x="368" y="88"/>
                  <a:pt x="288" y="168"/>
                </a:cubicBezTo>
                <a:cubicBezTo>
                  <a:pt x="208" y="248"/>
                  <a:pt x="104" y="376"/>
                  <a:pt x="0" y="50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68520" y="2206800"/>
            <a:ext cx="2209320" cy="785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HU de la Cue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Volumen Uni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32320" y="3531960"/>
            <a:ext cx="8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4025520"/>
            <a:ext cx="96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505320"/>
            <a:ext cx="728640" cy="387360"/>
          </a:xfrm>
          <a:custGeom>
            <a:avLst/>
            <a:gdLst/>
            <a:ahLst/>
            <a:rect l="l" t="t" r="r" b="b"/>
            <a:pathLst>
              <a:path w="288" h="112">
                <a:moveTo>
                  <a:pt x="0" y="16"/>
                </a:moveTo>
                <a:cubicBezTo>
                  <a:pt x="96" y="8"/>
                  <a:pt x="192" y="0"/>
                  <a:pt x="240" y="16"/>
                </a:cubicBezTo>
                <a:cubicBezTo>
                  <a:pt x="288" y="32"/>
                  <a:pt x="288" y="72"/>
                  <a:pt x="288" y="1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3962520"/>
            <a:ext cx="484200" cy="38736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192" y="16"/>
                </a:moveTo>
                <a:cubicBezTo>
                  <a:pt x="160" y="8"/>
                  <a:pt x="128" y="0"/>
                  <a:pt x="96" y="16"/>
                </a:cubicBezTo>
                <a:cubicBezTo>
                  <a:pt x="64" y="32"/>
                  <a:pt x="32" y="72"/>
                  <a:pt x="0" y="112"/>
                </a:cubicBezTo>
              </a:path>
            </a:pathLst>
          </a:custGeom>
          <a:noFill/>
          <a:ln w="284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380880"/>
            <a:ext cx="746784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Obtención de HU(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) conocido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1295280"/>
            <a:ext cx="541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 múltiplo de T por ejemplo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2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3276720"/>
            <a:ext cx="0" cy="243828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5715000"/>
            <a:ext cx="48006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458784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181480" y="5029200"/>
            <a:ext cx="609840" cy="3808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352680"/>
            <a:ext cx="53352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20040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3352680"/>
            <a:ext cx="53316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457200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05520" y="4800600"/>
            <a:ext cx="380880" cy="228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79132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3238560"/>
            <a:ext cx="3921120" cy="2479680"/>
          </a:xfrm>
          <a:custGeom>
            <a:avLst/>
            <a:gdLst/>
            <a:ahLst/>
            <a:rect l="l" t="t" r="r" b="b"/>
            <a:pathLst>
              <a:path w="2470" h="1562">
                <a:moveTo>
                  <a:pt x="0" y="1560"/>
                </a:moveTo>
                <a:cubicBezTo>
                  <a:pt x="18" y="1557"/>
                  <a:pt x="67" y="1562"/>
                  <a:pt x="110" y="1544"/>
                </a:cubicBezTo>
                <a:cubicBezTo>
                  <a:pt x="153" y="1526"/>
                  <a:pt x="211" y="1486"/>
                  <a:pt x="256" y="1454"/>
                </a:cubicBezTo>
                <a:cubicBezTo>
                  <a:pt x="301" y="1422"/>
                  <a:pt x="333" y="1419"/>
                  <a:pt x="378" y="1349"/>
                </a:cubicBezTo>
                <a:cubicBezTo>
                  <a:pt x="423" y="1279"/>
                  <a:pt x="471" y="1173"/>
                  <a:pt x="528" y="1032"/>
                </a:cubicBezTo>
                <a:cubicBezTo>
                  <a:pt x="585" y="891"/>
                  <a:pt x="656" y="664"/>
                  <a:pt x="720" y="504"/>
                </a:cubicBezTo>
                <a:cubicBezTo>
                  <a:pt x="784" y="344"/>
                  <a:pt x="824" y="144"/>
                  <a:pt x="912" y="72"/>
                </a:cubicBezTo>
                <a:cubicBezTo>
                  <a:pt x="1000" y="0"/>
                  <a:pt x="1160" y="8"/>
                  <a:pt x="1248" y="72"/>
                </a:cubicBezTo>
                <a:cubicBezTo>
                  <a:pt x="1336" y="136"/>
                  <a:pt x="1360" y="304"/>
                  <a:pt x="1440" y="456"/>
                </a:cubicBezTo>
                <a:cubicBezTo>
                  <a:pt x="1520" y="608"/>
                  <a:pt x="1617" y="833"/>
                  <a:pt x="1728" y="984"/>
                </a:cubicBezTo>
                <a:cubicBezTo>
                  <a:pt x="1839" y="1135"/>
                  <a:pt x="2017" y="1287"/>
                  <a:pt x="2105" y="1365"/>
                </a:cubicBezTo>
                <a:cubicBezTo>
                  <a:pt x="2193" y="1443"/>
                  <a:pt x="2198" y="1424"/>
                  <a:pt x="2259" y="1454"/>
                </a:cubicBezTo>
                <a:cubicBezTo>
                  <a:pt x="2320" y="1484"/>
                  <a:pt x="2426" y="1525"/>
                  <a:pt x="2470" y="154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26668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 de lluvia de Pef=2mm y de Duración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4280" y="3276720"/>
            <a:ext cx="609840" cy="685800"/>
          </a:xfrm>
          <a:prstGeom prst="line">
            <a:avLst/>
          </a:prstGeom>
          <a:ln w="93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3962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e debe dividir por 2 para que se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3280" y="327672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406760"/>
            <a:ext cx="3733560" cy="1308240"/>
          </a:xfrm>
          <a:custGeom>
            <a:avLst/>
            <a:gdLst/>
            <a:ahLst/>
            <a:rect l="l" t="t" r="r" b="b"/>
            <a:pathLst>
              <a:path w="2352" h="824">
                <a:moveTo>
                  <a:pt x="0" y="824"/>
                </a:moveTo>
                <a:cubicBezTo>
                  <a:pt x="100" y="804"/>
                  <a:pt x="200" y="784"/>
                  <a:pt x="288" y="728"/>
                </a:cubicBezTo>
                <a:cubicBezTo>
                  <a:pt x="376" y="672"/>
                  <a:pt x="464" y="560"/>
                  <a:pt x="528" y="488"/>
                </a:cubicBezTo>
                <a:cubicBezTo>
                  <a:pt x="592" y="416"/>
                  <a:pt x="624" y="368"/>
                  <a:pt x="672" y="296"/>
                </a:cubicBezTo>
                <a:cubicBezTo>
                  <a:pt x="720" y="224"/>
                  <a:pt x="760" y="104"/>
                  <a:pt x="816" y="56"/>
                </a:cubicBezTo>
                <a:cubicBezTo>
                  <a:pt x="872" y="8"/>
                  <a:pt x="952" y="0"/>
                  <a:pt x="1008" y="8"/>
                </a:cubicBezTo>
                <a:cubicBezTo>
                  <a:pt x="1064" y="16"/>
                  <a:pt x="1088" y="48"/>
                  <a:pt x="1152" y="104"/>
                </a:cubicBezTo>
                <a:cubicBezTo>
                  <a:pt x="1216" y="160"/>
                  <a:pt x="1312" y="272"/>
                  <a:pt x="1392" y="344"/>
                </a:cubicBezTo>
                <a:cubicBezTo>
                  <a:pt x="1472" y="416"/>
                  <a:pt x="1504" y="464"/>
                  <a:pt x="1632" y="536"/>
                </a:cubicBezTo>
                <a:cubicBezTo>
                  <a:pt x="1760" y="608"/>
                  <a:pt x="2040" y="728"/>
                  <a:pt x="2160" y="776"/>
                </a:cubicBezTo>
                <a:cubicBezTo>
                  <a:pt x="2280" y="824"/>
                  <a:pt x="2316" y="824"/>
                  <a:pt x="2352" y="824"/>
                </a:cubicBezTo>
              </a:path>
            </a:pathLst>
          </a:custGeom>
          <a:solidFill>
            <a:srgbClr val="e1a3c2"/>
          </a:solidFill>
          <a:ln w="93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495680" y="5409720"/>
            <a:ext cx="1828800" cy="1143000"/>
          </a:xfrm>
          <a:prstGeom prst="line">
            <a:avLst/>
          </a:prstGeom>
          <a:ln w="381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624852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HU(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609480"/>
            <a:ext cx="8686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no es múltiplo de T se debe usar el Hidrograma en S el que no depende del tiempo (es el HED para lluvia de intensidad unitaria de duración infinita) y es, entonces, único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43000" y="2514600"/>
            <a:ext cx="5638680" cy="3279240"/>
            <a:chOff x="1143000" y="251460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1143000" y="281952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3000" y="518184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8960" y="2514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523880" y="314964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312408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S obtenido co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038480"/>
            <a:ext cx="354672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334120"/>
            <a:ext cx="4572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79132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58672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63244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62485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2860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Suma se debe dividir por 1/T para que sea HS (lluvia de intensidad unita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380880"/>
            <a:ext cx="7315200" cy="12920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La diferencia de ambos HS desfasados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, corresponde al HED de lluvia de intensidad unitaria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1905120"/>
            <a:ext cx="6095880" cy="22096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0033"/>
              </a:gs>
              <a:gs pos="50000">
                <a:srgbClr val="2f0017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que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ef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90920" y="4572000"/>
                <a:ext cx="3403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3049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so Particular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795760" y="1258920"/>
                <a:ext cx="3112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U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143000" y="2743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I es la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657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UI es la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04812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piedades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295280"/>
            <a:ext cx="63248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valor máximo&gt;0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182880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                  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5120" y="2362320"/>
            <a:ext cx="6476760" cy="459720"/>
            <a:chOff x="1905120" y="2362320"/>
            <a:chExt cx="6476760" cy="459720"/>
          </a:xfrm>
        </p:grpSpPr>
        <p:sp>
          <p:nvSpPr>
            <p:cNvPr id="136" name=""/>
            <p:cNvSpPr/>
            <p:nvPr/>
          </p:nvSpPr>
          <p:spPr>
            <a:xfrm>
              <a:off x="1905120" y="2362320"/>
              <a:ext cx="6476760" cy="459720"/>
            </a:xfrm>
            <a:prstGeom prst="rect">
              <a:avLst/>
            </a:prstGeom>
            <a:solidFill>
              <a:srgbClr val="e1a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    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u(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)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Wingdings"/>
                  <a:ea typeface="Wingdings"/>
                </a:rPr>
                <a:t>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0                                si 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Wingdings"/>
                  <a:ea typeface="Wingdings"/>
                </a:rPr>
                <a:t>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7480" y="2514600"/>
              <a:ext cx="378000" cy="93600"/>
            </a:xfrm>
            <a:custGeom>
              <a:avLst/>
              <a:gdLst/>
              <a:ahLst/>
              <a:rect l="l" t="t" r="r" b="b"/>
              <a:pathLst>
                <a:path w="238" h="59">
                  <a:moveTo>
                    <a:pt x="108" y="0"/>
                  </a:moveTo>
                  <a:cubicBezTo>
                    <a:pt x="95" y="14"/>
                    <a:pt x="82" y="27"/>
                    <a:pt x="68" y="41"/>
                  </a:cubicBezTo>
                  <a:cubicBezTo>
                    <a:pt x="62" y="47"/>
                    <a:pt x="51" y="57"/>
                    <a:pt x="51" y="57"/>
                  </a:cubicBezTo>
                  <a:cubicBezTo>
                    <a:pt x="40" y="54"/>
                    <a:pt x="24" y="59"/>
                    <a:pt x="19" y="49"/>
                  </a:cubicBezTo>
                  <a:cubicBezTo>
                    <a:pt x="0" y="11"/>
                    <a:pt x="32" y="7"/>
                    <a:pt x="51" y="0"/>
                  </a:cubicBezTo>
                  <a:cubicBezTo>
                    <a:pt x="85" y="12"/>
                    <a:pt x="119" y="30"/>
                    <a:pt x="149" y="49"/>
                  </a:cubicBezTo>
                  <a:cubicBezTo>
                    <a:pt x="165" y="46"/>
                    <a:pt x="183" y="49"/>
                    <a:pt x="197" y="41"/>
                  </a:cubicBezTo>
                  <a:cubicBezTo>
                    <a:pt x="238" y="17"/>
                    <a:pt x="165" y="3"/>
                    <a:pt x="157" y="0"/>
                  </a:cubicBezTo>
                  <a:cubicBezTo>
                    <a:pt x="117" y="14"/>
                    <a:pt x="108" y="50"/>
                    <a:pt x="108" y="0"/>
                  </a:cubicBezTo>
                  <a:close/>
                </a:path>
              </a:pathLst>
            </a:custGeom>
            <a:noFill/>
            <a:ln w="3816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09680" y="2971800"/>
                <a:ext cx="18288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562720" y="3048120"/>
                <a:ext cx="1904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486400"/>
            <a:ext cx="1066680" cy="11912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Deter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4419720"/>
            <a:ext cx="7086600" cy="2288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Por pendiente de HS; por inversión matemática (funciones ortogonales: series de Fourier, funciones de Laguerre; transformación de integrales: Laplace, Fourier); por modelación matemática usando geomorf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364200">
            <a:off x="838080" y="4571640"/>
            <a:ext cx="838440" cy="838080"/>
          </a:xfrm>
          <a:custGeom>
            <a:avLst/>
            <a:gdLst>
              <a:gd name="textAreaLeft" fmla="*/ 0 w 838440"/>
              <a:gd name="textAreaRight" fmla="*/ 838800 w 8384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0"/>
                            </p:stCondLst>
                            <p:childTnLst>
                              <p:par>
                                <p:cTn id="58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academico</cp:lastModifiedBy>
  <dcterms:modified xsi:type="dcterms:W3CDTF">2007-09-12T18:46:55Z</dcterms:modified>
  <cp:revision>30</cp:revision>
  <dc:subject/>
  <dc:title>CAPITULO 8</dc:title>
</cp:coreProperties>
</file>