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10B-BD8C-4B57-8B6B-F30079F9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DCF7-88F0-4692-BE08-9A64E82E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6599-2CE0-4DE2-AF47-EC766A42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F79E-D104-41C9-84E1-143EEB38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BBE7-92D1-4DA9-BE41-AD12D5E2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3F5F-89D6-4DA4-9583-F6F3C800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D332-BAF0-4BB9-9583-9987BCD9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0531-9F84-4823-AC11-F3AC147C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8420-6612-4A7A-82F0-37B2810B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591F-0B49-4CF7-8B27-846423FE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8C32-FAEA-4DDB-A626-B8C8C1E9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5F6B-4DA0-41F9-9E96-7E877685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0C48-3B3B-415F-8BB2-CD6FA307D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533520"/>
            <a:ext cx="624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Reemplazando en 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85800" y="1981080"/>
                <a:ext cx="74674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≡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1981080" y="4572000"/>
            <a:ext cx="28195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N(D) Q=M(D)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257800" y="4800600"/>
                <a:ext cx="3124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676520" y="6324480"/>
            <a:ext cx="4572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Función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019920"/>
            <a:ext cx="914400" cy="685800"/>
          </a:xfrm>
          <a:custGeom>
            <a:avLst/>
            <a:gdLst>
              <a:gd name="textAreaLeft" fmla="*/ 304920 w 914400"/>
              <a:gd name="textAreaRight" fmla="*/ 783360 w 9144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stemas Lineales en Tiempos Dis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ecipitación: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138560" y="1295280"/>
                <a:ext cx="2052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m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85800" y="2362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udal: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=1,2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=Q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581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El efecto que en t=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tiene el pulso de entrada de duración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que ocurrió en 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724280"/>
            <a:ext cx="8077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h(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-m+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971800" y="54864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53341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581280" y="0"/>
            <a:ext cx="2990880" cy="1371600"/>
            <a:chOff x="3581280" y="0"/>
            <a:chExt cx="2990880" cy="13716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4521240" y="0"/>
                  <a:ext cx="2050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Δt</m:t>
                          </m:r>
                        </m:sub>
                        <m:sup>
                          <m:r>
                            <m:t xml:space="preserve">mΔt</m:t>
                          </m:r>
                        </m:sup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 flipH="1">
              <a:off x="3581280" y="990720"/>
              <a:ext cx="914400" cy="380880"/>
            </a:xfrm>
            <a:prstGeom prst="line">
              <a:avLst/>
            </a:prstGeom>
            <a:ln w="381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248520" y="1752480"/>
            <a:ext cx="26668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M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2895480"/>
            <a:ext cx="2133720" cy="0"/>
          </a:xfrm>
          <a:prstGeom prst="line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00400" y="2895480"/>
            <a:ext cx="5638680" cy="2759760"/>
            <a:chOff x="3200400" y="2895480"/>
            <a:chExt cx="5638680" cy="2759760"/>
          </a:xfrm>
        </p:grpSpPr>
        <p:sp>
          <p:nvSpPr>
            <p:cNvPr id="192" name=""/>
            <p:cNvSpPr/>
            <p:nvPr/>
          </p:nvSpPr>
          <p:spPr>
            <a:xfrm>
              <a:off x="3200400" y="3151080"/>
              <a:ext cx="1440" cy="197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400" y="5127480"/>
              <a:ext cx="54100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6720" y="2895480"/>
              <a:ext cx="1066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>
                  <a:solidFill>
                    <a:srgbClr val="e1a3c2"/>
                  </a:solidFill>
                  <a:latin typeface="Bookman Old Style"/>
                </a:rPr>
                <a:t>u</a:t>
              </a: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 baseline="-25000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080" y="52563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200400" y="3505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533412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4267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4876920"/>
            <a:ext cx="2590920" cy="11912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e discretiza la integral en n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429000" y="5665680"/>
                <a:ext cx="3124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n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Δ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86104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066680" y="228600"/>
                <a:ext cx="64897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14800" y="2438280"/>
                <a:ext cx="39117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33520" y="4572000"/>
            <a:ext cx="80010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181480" y="5791320"/>
                <a:ext cx="2289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914400" y="5943600"/>
            <a:ext cx="32767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-m+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flipV="1">
            <a:off x="1219320" y="837720"/>
            <a:ext cx="0" cy="4496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5334120"/>
            <a:ext cx="6095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3797280"/>
            <a:ext cx="3962520" cy="15368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809880"/>
            <a:ext cx="289584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409720" y="4267080"/>
            <a:ext cx="1295640" cy="762120"/>
          </a:xfrm>
          <a:prstGeom prst="line">
            <a:avLst/>
          </a:prstGeom>
          <a:ln w="5724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4495680"/>
            <a:ext cx="3962160" cy="8510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6019920"/>
            <a:ext cx="19051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743200" y="5028840"/>
            <a:ext cx="152280" cy="106668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784080"/>
            <a:ext cx="6553080" cy="4550040"/>
          </a:xfrm>
          <a:custGeom>
            <a:avLst/>
            <a:gdLst/>
            <a:ahLst/>
            <a:rect l="l" t="t" r="r" b="b"/>
            <a:pathLst>
              <a:path w="4128" h="2866">
                <a:moveTo>
                  <a:pt x="0" y="2866"/>
                </a:moveTo>
                <a:cubicBezTo>
                  <a:pt x="33" y="2860"/>
                  <a:pt x="135" y="2847"/>
                  <a:pt x="197" y="2830"/>
                </a:cubicBezTo>
                <a:cubicBezTo>
                  <a:pt x="259" y="2813"/>
                  <a:pt x="306" y="2811"/>
                  <a:pt x="375" y="2765"/>
                </a:cubicBezTo>
                <a:cubicBezTo>
                  <a:pt x="444" y="2719"/>
                  <a:pt x="537" y="2665"/>
                  <a:pt x="611" y="2554"/>
                </a:cubicBezTo>
                <a:cubicBezTo>
                  <a:pt x="685" y="2443"/>
                  <a:pt x="718" y="2342"/>
                  <a:pt x="816" y="2098"/>
                </a:cubicBezTo>
                <a:cubicBezTo>
                  <a:pt x="914" y="1854"/>
                  <a:pt x="1087" y="1388"/>
                  <a:pt x="1200" y="1090"/>
                </a:cubicBezTo>
                <a:cubicBezTo>
                  <a:pt x="1313" y="792"/>
                  <a:pt x="1387" y="488"/>
                  <a:pt x="1494" y="309"/>
                </a:cubicBezTo>
                <a:cubicBezTo>
                  <a:pt x="1601" y="130"/>
                  <a:pt x="1744" y="0"/>
                  <a:pt x="1843" y="17"/>
                </a:cubicBezTo>
                <a:cubicBezTo>
                  <a:pt x="1942" y="34"/>
                  <a:pt x="2001" y="227"/>
                  <a:pt x="2086" y="414"/>
                </a:cubicBezTo>
                <a:cubicBezTo>
                  <a:pt x="2171" y="601"/>
                  <a:pt x="2228" y="865"/>
                  <a:pt x="2352" y="1138"/>
                </a:cubicBezTo>
                <a:cubicBezTo>
                  <a:pt x="2476" y="1411"/>
                  <a:pt x="2632" y="1794"/>
                  <a:pt x="2832" y="2050"/>
                </a:cubicBezTo>
                <a:cubicBezTo>
                  <a:pt x="3032" y="2306"/>
                  <a:pt x="3336" y="2546"/>
                  <a:pt x="3552" y="2674"/>
                </a:cubicBezTo>
                <a:cubicBezTo>
                  <a:pt x="3768" y="2802"/>
                  <a:pt x="3948" y="2810"/>
                  <a:pt x="4128" y="2818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9528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548640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05740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1066680"/>
            <a:ext cx="15264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762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39625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752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5181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094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30280" y="304920"/>
            <a:ext cx="7775640" cy="3287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09480" y="3124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457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btenció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914400"/>
            <a:ext cx="1905120" cy="8892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0"/>
                </a:moveTo>
                <a:cubicBezTo>
                  <a:pt x="108" y="44"/>
                  <a:pt x="216" y="88"/>
                  <a:pt x="384" y="96"/>
                </a:cubicBezTo>
                <a:cubicBezTo>
                  <a:pt x="552" y="104"/>
                  <a:pt x="904" y="56"/>
                  <a:pt x="1008" y="48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uración de la lluvia efectiva 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600200"/>
            <a:ext cx="8686800" cy="50695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Hidrogramas simples de lluvias intensas de corta duración de distribución espacial y temporal lo mas uniforme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eterminar pluviograma medio (espacialmente)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 base de índices o curvas de infiltración se determina lluvia efectiva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efectúa separación de las componentes del hidrograma (F. Base y Escorrentía Direc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determina Volumen de 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 Pef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.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      P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6172200"/>
            <a:ext cx="295200" cy="431640"/>
          </a:xfrm>
          <a:custGeom>
            <a:avLst/>
            <a:gdLst>
              <a:gd name="textAreaLeft" fmla="*/ 36720 w 295200"/>
              <a:gd name="textAreaRight" fmla="*/ 258480 w 2952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36920" y="4332240"/>
            <a:ext cx="4732200" cy="2077920"/>
          </a:xfrm>
          <a:custGeom>
            <a:avLst/>
            <a:gdLst/>
            <a:ahLst/>
            <a:rect l="l" t="t" r="r" b="b"/>
            <a:pathLst>
              <a:path w="2981" h="1309">
                <a:moveTo>
                  <a:pt x="0" y="1309"/>
                </a:moveTo>
                <a:cubicBezTo>
                  <a:pt x="361" y="1291"/>
                  <a:pt x="1689" y="1294"/>
                  <a:pt x="2165" y="1203"/>
                </a:cubicBezTo>
                <a:cubicBezTo>
                  <a:pt x="2641" y="1112"/>
                  <a:pt x="2782" y="945"/>
                  <a:pt x="2854" y="765"/>
                </a:cubicBezTo>
                <a:cubicBezTo>
                  <a:pt x="2926" y="585"/>
                  <a:pt x="2981" y="244"/>
                  <a:pt x="2600" y="122"/>
                </a:cubicBezTo>
                <a:cubicBezTo>
                  <a:pt x="2219" y="0"/>
                  <a:pt x="1407" y="31"/>
                  <a:pt x="571" y="31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457200"/>
            <a:ext cx="388620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mbalse Lineal a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572000" y="1219320"/>
                <a:ext cx="21718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685800" y="2819520"/>
            <a:ext cx="7696080" cy="369216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 sistemas Lin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una solución f(Q) es multiplicada por c, al función resultante cf(Q), es también solución (principio de proporcion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2 soluciones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y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se suman, la función resultante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+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es también solución (superposi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971800" y="2514600"/>
            <a:ext cx="914400" cy="1447560"/>
            <a:chOff x="2971800" y="2514600"/>
            <a:chExt cx="914400" cy="1447560"/>
          </a:xfrm>
        </p:grpSpPr>
        <p:sp>
          <p:nvSpPr>
            <p:cNvPr id="54" name=""/>
            <p:cNvSpPr/>
            <p:nvPr/>
          </p:nvSpPr>
          <p:spPr>
            <a:xfrm>
              <a:off x="3809880" y="2566080"/>
              <a:ext cx="76320" cy="139608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7180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29000" y="1752480"/>
            <a:ext cx="5638680" cy="2820240"/>
            <a:chOff x="3429000" y="1752480"/>
            <a:chExt cx="5638680" cy="2820240"/>
          </a:xfrm>
        </p:grpSpPr>
        <p:sp>
          <p:nvSpPr>
            <p:cNvPr id="57" name=""/>
            <p:cNvSpPr/>
            <p:nvPr/>
          </p:nvSpPr>
          <p:spPr>
            <a:xfrm>
              <a:off x="3429000" y="2007720"/>
              <a:ext cx="1440" cy="197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29000" y="39855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496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41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862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u(t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5520" y="2819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371600"/>
            <a:ext cx="304560" cy="1371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3716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5800" y="4140000"/>
            <a:ext cx="0" cy="2361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50232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368960"/>
            <a:ext cx="75960" cy="2133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4368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419720"/>
            <a:ext cx="3657600" cy="2057400"/>
          </a:xfrm>
          <a:custGeom>
            <a:avLst/>
            <a:gdLst/>
            <a:ahLst/>
            <a:rect l="l" t="t" r="r" b="b"/>
            <a:pathLst>
              <a:path w="2304" h="1296">
                <a:moveTo>
                  <a:pt x="0" y="1296"/>
                </a:moveTo>
                <a:cubicBezTo>
                  <a:pt x="24" y="1254"/>
                  <a:pt x="98" y="1134"/>
                  <a:pt x="143" y="1043"/>
                </a:cubicBezTo>
                <a:cubicBezTo>
                  <a:pt x="188" y="952"/>
                  <a:pt x="226" y="859"/>
                  <a:pt x="273" y="751"/>
                </a:cubicBezTo>
                <a:cubicBezTo>
                  <a:pt x="320" y="643"/>
                  <a:pt x="374" y="502"/>
                  <a:pt x="427" y="395"/>
                </a:cubicBezTo>
                <a:cubicBezTo>
                  <a:pt x="480" y="288"/>
                  <a:pt x="534" y="176"/>
                  <a:pt x="589" y="111"/>
                </a:cubicBezTo>
                <a:cubicBezTo>
                  <a:pt x="644" y="46"/>
                  <a:pt x="694" y="0"/>
                  <a:pt x="759" y="5"/>
                </a:cubicBezTo>
                <a:cubicBezTo>
                  <a:pt x="824" y="10"/>
                  <a:pt x="908" y="75"/>
                  <a:pt x="978" y="143"/>
                </a:cubicBezTo>
                <a:cubicBezTo>
                  <a:pt x="1048" y="211"/>
                  <a:pt x="1105" y="324"/>
                  <a:pt x="1181" y="411"/>
                </a:cubicBezTo>
                <a:cubicBezTo>
                  <a:pt x="1257" y="498"/>
                  <a:pt x="1341" y="582"/>
                  <a:pt x="1432" y="662"/>
                </a:cubicBezTo>
                <a:cubicBezTo>
                  <a:pt x="1523" y="742"/>
                  <a:pt x="1625" y="813"/>
                  <a:pt x="1724" y="889"/>
                </a:cubicBezTo>
                <a:cubicBezTo>
                  <a:pt x="1823" y="965"/>
                  <a:pt x="1927" y="1048"/>
                  <a:pt x="2024" y="1116"/>
                </a:cubicBezTo>
                <a:cubicBezTo>
                  <a:pt x="2121" y="1184"/>
                  <a:pt x="2246" y="1258"/>
                  <a:pt x="2304" y="1296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054760"/>
            <a:ext cx="76320" cy="144756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13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66800" y="4743360"/>
            <a:ext cx="3895920" cy="1758960"/>
          </a:xfrm>
          <a:custGeom>
            <a:avLst/>
            <a:gdLst/>
            <a:ahLst/>
            <a:rect l="l" t="t" r="r" b="b"/>
            <a:pathLst>
              <a:path w="2454" h="1108">
                <a:moveTo>
                  <a:pt x="0" y="1091"/>
                </a:moveTo>
                <a:cubicBezTo>
                  <a:pt x="26" y="1072"/>
                  <a:pt x="98" y="1026"/>
                  <a:pt x="145" y="976"/>
                </a:cubicBezTo>
                <a:cubicBezTo>
                  <a:pt x="192" y="926"/>
                  <a:pt x="237" y="883"/>
                  <a:pt x="283" y="790"/>
                </a:cubicBezTo>
                <a:cubicBezTo>
                  <a:pt x="329" y="697"/>
                  <a:pt x="376" y="527"/>
                  <a:pt x="422" y="418"/>
                </a:cubicBezTo>
                <a:cubicBezTo>
                  <a:pt x="468" y="310"/>
                  <a:pt x="502" y="207"/>
                  <a:pt x="560" y="139"/>
                </a:cubicBezTo>
                <a:cubicBezTo>
                  <a:pt x="618" y="71"/>
                  <a:pt x="709" y="24"/>
                  <a:pt x="770" y="12"/>
                </a:cubicBezTo>
                <a:cubicBezTo>
                  <a:pt x="831" y="0"/>
                  <a:pt x="868" y="38"/>
                  <a:pt x="924" y="69"/>
                </a:cubicBezTo>
                <a:cubicBezTo>
                  <a:pt x="980" y="100"/>
                  <a:pt x="1002" y="118"/>
                  <a:pt x="1103" y="199"/>
                </a:cubicBezTo>
                <a:cubicBezTo>
                  <a:pt x="1204" y="280"/>
                  <a:pt x="1390" y="452"/>
                  <a:pt x="1530" y="558"/>
                </a:cubicBezTo>
                <a:cubicBezTo>
                  <a:pt x="1670" y="664"/>
                  <a:pt x="1807" y="752"/>
                  <a:pt x="1946" y="837"/>
                </a:cubicBezTo>
                <a:cubicBezTo>
                  <a:pt x="2084" y="922"/>
                  <a:pt x="2277" y="1031"/>
                  <a:pt x="2362" y="1069"/>
                </a:cubicBezTo>
                <a:cubicBezTo>
                  <a:pt x="2446" y="1108"/>
                  <a:pt x="2439" y="1069"/>
                  <a:pt x="2454" y="1069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627280"/>
            <a:ext cx="4495680" cy="3875040"/>
          </a:xfrm>
          <a:custGeom>
            <a:avLst/>
            <a:gdLst/>
            <a:ahLst/>
            <a:rect l="l" t="t" r="r" b="b"/>
            <a:pathLst>
              <a:path w="2832" h="2441">
                <a:moveTo>
                  <a:pt x="0" y="2441"/>
                </a:moveTo>
                <a:cubicBezTo>
                  <a:pt x="28" y="2429"/>
                  <a:pt x="55" y="2414"/>
                  <a:pt x="96" y="2345"/>
                </a:cubicBezTo>
                <a:cubicBezTo>
                  <a:pt x="137" y="2276"/>
                  <a:pt x="198" y="2140"/>
                  <a:pt x="248" y="2026"/>
                </a:cubicBezTo>
                <a:cubicBezTo>
                  <a:pt x="298" y="1912"/>
                  <a:pt x="355" y="1784"/>
                  <a:pt x="394" y="1661"/>
                </a:cubicBezTo>
                <a:cubicBezTo>
                  <a:pt x="433" y="1538"/>
                  <a:pt x="442" y="1431"/>
                  <a:pt x="480" y="1289"/>
                </a:cubicBezTo>
                <a:cubicBezTo>
                  <a:pt x="518" y="1147"/>
                  <a:pt x="592" y="921"/>
                  <a:pt x="624" y="809"/>
                </a:cubicBezTo>
                <a:cubicBezTo>
                  <a:pt x="656" y="697"/>
                  <a:pt x="640" y="721"/>
                  <a:pt x="672" y="617"/>
                </a:cubicBezTo>
                <a:cubicBezTo>
                  <a:pt x="704" y="513"/>
                  <a:pt x="769" y="285"/>
                  <a:pt x="816" y="185"/>
                </a:cubicBezTo>
                <a:cubicBezTo>
                  <a:pt x="863" y="85"/>
                  <a:pt x="892" y="32"/>
                  <a:pt x="953" y="16"/>
                </a:cubicBezTo>
                <a:cubicBezTo>
                  <a:pt x="1014" y="0"/>
                  <a:pt x="1119" y="35"/>
                  <a:pt x="1180" y="89"/>
                </a:cubicBezTo>
                <a:cubicBezTo>
                  <a:pt x="1241" y="143"/>
                  <a:pt x="1243" y="188"/>
                  <a:pt x="1318" y="340"/>
                </a:cubicBezTo>
                <a:cubicBezTo>
                  <a:pt x="1393" y="492"/>
                  <a:pt x="1516" y="788"/>
                  <a:pt x="1632" y="1001"/>
                </a:cubicBezTo>
                <a:cubicBezTo>
                  <a:pt x="1748" y="1214"/>
                  <a:pt x="1886" y="1427"/>
                  <a:pt x="2015" y="1621"/>
                </a:cubicBezTo>
                <a:cubicBezTo>
                  <a:pt x="2144" y="1815"/>
                  <a:pt x="2269" y="2027"/>
                  <a:pt x="2405" y="2164"/>
                </a:cubicBezTo>
                <a:cubicBezTo>
                  <a:pt x="2541" y="2301"/>
                  <a:pt x="2743" y="2383"/>
                  <a:pt x="2832" y="244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19320" y="380880"/>
            <a:ext cx="70102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Impulsos continuos son tratados como suma de impulsos infinites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2057400"/>
            <a:ext cx="8001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e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entra al sistema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(lluv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e Escorrentía Directa en 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u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d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90720" y="4724280"/>
            <a:ext cx="914400" cy="838440"/>
            <a:chOff x="990720" y="4724280"/>
            <a:chExt cx="914400" cy="838440"/>
          </a:xfrm>
        </p:grpSpPr>
        <p:sp>
          <p:nvSpPr>
            <p:cNvPr id="82" name=""/>
            <p:cNvSpPr/>
            <p:nvPr/>
          </p:nvSpPr>
          <p:spPr>
            <a:xfrm>
              <a:off x="9907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4724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981080" y="609588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ntegral de con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Escal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Escalón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1803240"/>
            <a:ext cx="914400" cy="2133720"/>
            <a:chOff x="304920" y="1803240"/>
            <a:chExt cx="914400" cy="2133720"/>
          </a:xfrm>
        </p:grpSpPr>
        <p:sp>
          <p:nvSpPr>
            <p:cNvPr id="91" name=""/>
            <p:cNvSpPr/>
            <p:nvPr/>
          </p:nvSpPr>
          <p:spPr>
            <a:xfrm>
              <a:off x="1143000" y="1879560"/>
              <a:ext cx="76320" cy="205740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18032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94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1430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4419720"/>
            <a:ext cx="5105520" cy="2057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41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143000" y="44197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828800"/>
            <a:ext cx="144792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I(t)=1 para t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124080" y="281916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36576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42900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2004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895480"/>
            <a:ext cx="99072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2666880"/>
            <a:ext cx="99036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2438280"/>
            <a:ext cx="7617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248520" y="3159000"/>
                <a:ext cx="28954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705720" y="44197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d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-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629400" y="5038560"/>
                <a:ext cx="21718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962520" y="1447920"/>
            <a:ext cx="914400" cy="373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657600" y="1371600"/>
            <a:ext cx="2666880" cy="32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125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143000" y="4495680"/>
            <a:ext cx="4876920" cy="1981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19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 </a:t>
            </a: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1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3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143000" y="19051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1752480"/>
            <a:ext cx="3505320" cy="1015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t)=1/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 para 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0  para t&gt;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297180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0 respuesta es g(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396252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 respuesta es -g(t-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190512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495680"/>
            <a:ext cx="3810240" cy="1981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406760"/>
            <a:ext cx="3962520" cy="2070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64" y="1296"/>
                  <a:pt x="128" y="1288"/>
                  <a:pt x="192" y="1256"/>
                </a:cubicBezTo>
                <a:cubicBezTo>
                  <a:pt x="256" y="1224"/>
                  <a:pt x="320" y="1176"/>
                  <a:pt x="384" y="1112"/>
                </a:cubicBezTo>
                <a:cubicBezTo>
                  <a:pt x="448" y="1048"/>
                  <a:pt x="528" y="960"/>
                  <a:pt x="576" y="872"/>
                </a:cubicBezTo>
                <a:cubicBezTo>
                  <a:pt x="624" y="784"/>
                  <a:pt x="641" y="674"/>
                  <a:pt x="672" y="584"/>
                </a:cubicBezTo>
                <a:cubicBezTo>
                  <a:pt x="703" y="494"/>
                  <a:pt x="724" y="417"/>
                  <a:pt x="764" y="329"/>
                </a:cubicBezTo>
                <a:cubicBezTo>
                  <a:pt x="804" y="241"/>
                  <a:pt x="855" y="101"/>
                  <a:pt x="912" y="56"/>
                </a:cubicBezTo>
                <a:cubicBezTo>
                  <a:pt x="969" y="11"/>
                  <a:pt x="1040" y="0"/>
                  <a:pt x="1104" y="56"/>
                </a:cubicBezTo>
                <a:cubicBezTo>
                  <a:pt x="1168" y="112"/>
                  <a:pt x="1200" y="264"/>
                  <a:pt x="1296" y="392"/>
                </a:cubicBezTo>
                <a:cubicBezTo>
                  <a:pt x="1392" y="520"/>
                  <a:pt x="1544" y="704"/>
                  <a:pt x="1680" y="824"/>
                </a:cubicBezTo>
                <a:cubicBezTo>
                  <a:pt x="1816" y="944"/>
                  <a:pt x="1976" y="1048"/>
                  <a:pt x="2112" y="1112"/>
                </a:cubicBezTo>
                <a:cubicBezTo>
                  <a:pt x="2248" y="1176"/>
                  <a:pt x="2432" y="1192"/>
                  <a:pt x="2496" y="12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029200" y="5038560"/>
                <a:ext cx="384336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[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 flipH="1">
            <a:off x="1752480" y="1371600"/>
            <a:ext cx="533520" cy="3962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428640" y="1371600"/>
            <a:ext cx="2971800" cy="3886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60948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idrograma Unitari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(Sherman, 19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que resulta de una Pef unitaria (1mm, 1 cm...) que se produce uniformemente sobre la cuenca, con intensidad constante durante una duración especif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3200400"/>
            <a:ext cx="1905120" cy="10159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3048120"/>
            <a:ext cx="1658880" cy="1244520"/>
          </a:xfrm>
          <a:prstGeom prst="rightArrow">
            <a:avLst>
              <a:gd name="adj1" fmla="val 50000"/>
              <a:gd name="adj2" fmla="val 33324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3200400"/>
            <a:ext cx="1327320" cy="1244520"/>
          </a:xfrm>
          <a:prstGeom prst="rightArrow">
            <a:avLst>
              <a:gd name="adj1" fmla="val 50000"/>
              <a:gd name="adj2" fmla="val 26663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3352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Precipitación efec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35812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Escorrentía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eoría HU aplicable a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con cualquier entrada y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228600"/>
            <a:ext cx="2590560" cy="5205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143000"/>
            <a:ext cx="891540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spaci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Limitar a cuencas de superficie &lt; 3000 a 5000 Km</a:t>
            </a:r>
            <a:r>
              <a:rPr b="1" lang="es-ES_tradnl" sz="20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Si régimen de Pp es orográfico, configuración se  mantiene de una tormenta a otra y efecto poco impor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n el tiempo para la duración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Obtener HU para tormentas de corta duración (tiempo de desfase/4 o 1/3 a 1/5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c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e inferior a 24 horas)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del HED es prácticamente constante para lluvias efectivas de igual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Como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b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depende de método separación componentes del HET,  se acepta tolerancia ± 25% e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 Ordenadas homólogas de los HED de = Tb son directamente proporcionales al Volumen Total de escorrentía directa de cada 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principio de linealidad o superposición.(Principal defecto de la teoría 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n una cuenca específica, el hidrograma de una crecida correspondiente a lluvia determinada, refleja todo el conjunto de características físicas de la cuenca (forma, tamaño, pendiente, suelos, vegetación, etc.) y éstas se suponen invariantes e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Cuenca no varía            limitación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33720" y="1752480"/>
            <a:ext cx="4266720" cy="2476440"/>
            <a:chOff x="2133720" y="1752480"/>
            <a:chExt cx="4266720" cy="2476440"/>
          </a:xfrm>
        </p:grpSpPr>
        <p:sp>
          <p:nvSpPr>
            <p:cNvPr id="158" name=""/>
            <p:cNvSpPr/>
            <p:nvPr/>
          </p:nvSpPr>
          <p:spPr>
            <a:xfrm>
              <a:off x="2133720" y="2031480"/>
              <a:ext cx="0" cy="158184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3613680"/>
              <a:ext cx="4177800" cy="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11200" y="2031480"/>
              <a:ext cx="266400" cy="185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1200" y="2651760"/>
              <a:ext cx="2933280" cy="961560"/>
            </a:xfrm>
            <a:custGeom>
              <a:avLst/>
              <a:gdLst/>
              <a:ahLst/>
              <a:rect l="l" t="t" r="r" b="b"/>
              <a:pathLst>
                <a:path w="1584" h="496">
                  <a:moveTo>
                    <a:pt x="0" y="496"/>
                  </a:moveTo>
                  <a:cubicBezTo>
                    <a:pt x="72" y="468"/>
                    <a:pt x="144" y="440"/>
                    <a:pt x="192" y="400"/>
                  </a:cubicBezTo>
                  <a:cubicBezTo>
                    <a:pt x="240" y="360"/>
                    <a:pt x="256" y="312"/>
                    <a:pt x="288" y="256"/>
                  </a:cubicBezTo>
                  <a:cubicBezTo>
                    <a:pt x="320" y="200"/>
                    <a:pt x="352" y="104"/>
                    <a:pt x="384" y="64"/>
                  </a:cubicBezTo>
                  <a:cubicBezTo>
                    <a:pt x="416" y="24"/>
                    <a:pt x="448" y="0"/>
                    <a:pt x="480" y="16"/>
                  </a:cubicBezTo>
                  <a:cubicBezTo>
                    <a:pt x="512" y="32"/>
                    <a:pt x="544" y="120"/>
                    <a:pt x="576" y="160"/>
                  </a:cubicBezTo>
                  <a:cubicBezTo>
                    <a:pt x="608" y="200"/>
                    <a:pt x="616" y="216"/>
                    <a:pt x="672" y="256"/>
                  </a:cubicBezTo>
                  <a:cubicBezTo>
                    <a:pt x="728" y="296"/>
                    <a:pt x="824" y="368"/>
                    <a:pt x="912" y="400"/>
                  </a:cubicBezTo>
                  <a:cubicBezTo>
                    <a:pt x="1000" y="432"/>
                    <a:pt x="1088" y="432"/>
                    <a:pt x="1200" y="448"/>
                  </a:cubicBezTo>
                  <a:cubicBezTo>
                    <a:pt x="1312" y="464"/>
                    <a:pt x="1520" y="488"/>
                    <a:pt x="1584" y="496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7160" y="2031480"/>
              <a:ext cx="266400" cy="371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1752480"/>
              <a:ext cx="2933280" cy="1865160"/>
            </a:xfrm>
            <a:custGeom>
              <a:avLst/>
              <a:gdLst/>
              <a:ahLst/>
              <a:rect l="l" t="t" r="r" b="b"/>
              <a:pathLst>
                <a:path w="1584" h="962">
                  <a:moveTo>
                    <a:pt x="0" y="962"/>
                  </a:moveTo>
                  <a:cubicBezTo>
                    <a:pt x="30" y="926"/>
                    <a:pt x="134" y="819"/>
                    <a:pt x="182" y="744"/>
                  </a:cubicBezTo>
                  <a:cubicBezTo>
                    <a:pt x="230" y="669"/>
                    <a:pt x="255" y="606"/>
                    <a:pt x="288" y="514"/>
                  </a:cubicBezTo>
                  <a:cubicBezTo>
                    <a:pt x="321" y="422"/>
                    <a:pt x="348" y="278"/>
                    <a:pt x="379" y="192"/>
                  </a:cubicBezTo>
                  <a:cubicBezTo>
                    <a:pt x="410" y="106"/>
                    <a:pt x="447" y="0"/>
                    <a:pt x="475" y="0"/>
                  </a:cubicBezTo>
                  <a:cubicBezTo>
                    <a:pt x="503" y="0"/>
                    <a:pt x="516" y="110"/>
                    <a:pt x="547" y="192"/>
                  </a:cubicBezTo>
                  <a:cubicBezTo>
                    <a:pt x="578" y="274"/>
                    <a:pt x="601" y="395"/>
                    <a:pt x="662" y="490"/>
                  </a:cubicBezTo>
                  <a:cubicBezTo>
                    <a:pt x="723" y="585"/>
                    <a:pt x="822" y="702"/>
                    <a:pt x="912" y="764"/>
                  </a:cubicBezTo>
                  <a:cubicBezTo>
                    <a:pt x="1002" y="826"/>
                    <a:pt x="1088" y="827"/>
                    <a:pt x="1200" y="860"/>
                  </a:cubicBezTo>
                  <a:cubicBezTo>
                    <a:pt x="1312" y="893"/>
                    <a:pt x="1504" y="941"/>
                    <a:pt x="1584" y="96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311200" y="3706920"/>
              <a:ext cx="2844360" cy="336240"/>
              <a:chOff x="2311200" y="3706920"/>
              <a:chExt cx="2844360" cy="336240"/>
            </a:xfrm>
          </p:grpSpPr>
          <p:sp>
            <p:nvSpPr>
              <p:cNvPr id="165" name=""/>
              <p:cNvSpPr/>
              <p:nvPr/>
            </p:nvSpPr>
            <p:spPr>
              <a:xfrm>
                <a:off x="3111120" y="370692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311200" y="389268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66440" y="3892680"/>
                <a:ext cx="168912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556080" y="3892680"/>
              <a:ext cx="2844000" cy="336240"/>
              <a:chOff x="3556080" y="3892680"/>
              <a:chExt cx="2844000" cy="336240"/>
            </a:xfrm>
          </p:grpSpPr>
          <p:sp>
            <p:nvSpPr>
              <p:cNvPr id="169" name=""/>
              <p:cNvSpPr/>
              <p:nvPr/>
            </p:nvSpPr>
            <p:spPr>
              <a:xfrm>
                <a:off x="4356000" y="389268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556080" y="407844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11320" y="4078440"/>
                <a:ext cx="168876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2590920" y="57913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13:55:06Z</dcterms:created>
  <dc:creator>Ximena Vargas</dc:creator>
  <dc:description/>
  <dc:language>en-US</dc:language>
  <cp:lastModifiedBy>xv</cp:lastModifiedBy>
  <dcterms:modified xsi:type="dcterms:W3CDTF">2005-06-03T14:33:04Z</dcterms:modified>
  <cp:revision>1</cp:revision>
  <dc:subject/>
  <dc:title>Sin título de diapositiva</dc:title>
</cp:coreProperties>
</file>