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F8F-4784-4202-B98F-91B8DA45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32A-4548-4B64-BBBE-D6BF8A50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212-23D8-47C9-894A-B4E6C5D3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1AAA-D85B-465E-AEEB-5DD70A02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852-C8D6-4EDC-8F72-085177B7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5FE-88C7-4307-9005-A6E364A9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636-A8D7-47CC-8331-339EA929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5874-CD53-44F7-B3C2-45393801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C2D-800B-4C8C-8F80-496013FB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8FC-08B5-4C1B-8485-50D786D2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DEF-C773-430D-B544-82883304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ED9-CC2A-4A3A-942D-B25A17B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88FE-3B58-4CB0-852F-10D9A8518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533520"/>
            <a:ext cx="6248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Reemplazando en 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685800" y="1981080"/>
                <a:ext cx="746748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≡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981080" y="4572000"/>
            <a:ext cx="28195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N(D) Q=M(D)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257800" y="4800600"/>
                <a:ext cx="3124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676520" y="6324480"/>
            <a:ext cx="4572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Función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6019920"/>
            <a:ext cx="914400" cy="685800"/>
          </a:xfrm>
          <a:custGeom>
            <a:avLst/>
            <a:gdLst>
              <a:gd name="textAreaLeft" fmla="*/ 304920 w 914400"/>
              <a:gd name="textAreaRight" fmla="*/ 783360 w 9144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12800" y="1236600"/>
            <a:ext cx="77137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380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Sistemas Lineales en Tiemp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914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Precipitación: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138560" y="1295280"/>
                <a:ext cx="2052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m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85800" y="2362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Caudal: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1371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=1,2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1952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=Q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581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El efecto que en t=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tiene el pulso de entrada de duración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que ocurrió en 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724280"/>
            <a:ext cx="8077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h(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-(m-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)=h(n-m+1)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Verdana"/>
              </a:rPr>
              <a:t>t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971800" y="54864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533412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581280" y="0"/>
            <a:ext cx="2990880" cy="1371600"/>
            <a:chOff x="3581280" y="0"/>
            <a:chExt cx="2990880" cy="13716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4521240" y="0"/>
                  <a:ext cx="2050920" cy="103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t xml:space="preserve">Δt</m:t>
                          </m:r>
                        </m:sub>
                        <m:sup>
                          <m:r>
                            <m:t xml:space="preserve">mΔt</m:t>
                          </m:r>
                        </m:sup>
                        <m:e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  <m:r>
                            <m:t xml:space="preserve">dτ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 flipH="1">
              <a:off x="3581280" y="990720"/>
              <a:ext cx="914400" cy="380880"/>
            </a:xfrm>
            <a:prstGeom prst="line">
              <a:avLst/>
            </a:prstGeom>
            <a:ln w="381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1752480"/>
            <a:ext cx="266688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0   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&gt;M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2895480"/>
            <a:ext cx="2133720" cy="0"/>
          </a:xfrm>
          <a:prstGeom prst="line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2971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200400" y="2895480"/>
            <a:ext cx="5638680" cy="2759760"/>
            <a:chOff x="3200400" y="2895480"/>
            <a:chExt cx="5638680" cy="2759760"/>
          </a:xfrm>
        </p:grpSpPr>
        <p:sp>
          <p:nvSpPr>
            <p:cNvPr id="192" name=""/>
            <p:cNvSpPr/>
            <p:nvPr/>
          </p:nvSpPr>
          <p:spPr>
            <a:xfrm>
              <a:off x="3200400" y="3151080"/>
              <a:ext cx="1440" cy="197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5127480"/>
              <a:ext cx="54100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6720" y="2895480"/>
              <a:ext cx="10666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>
                  <a:solidFill>
                    <a:srgbClr val="e1a3c2"/>
                  </a:solidFill>
                  <a:latin typeface="Bookman Old Style"/>
                </a:rPr>
                <a:t>u</a:t>
              </a: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1800" spc="-1" strike="noStrike" baseline="-25000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25636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 </a:t>
              </a:r>
              <a:r>
                <a:rPr b="1" lang="es-ES_tradnl" sz="2000" spc="-1" strike="noStrike">
                  <a:solidFill>
                    <a:srgbClr val="e1a3c2"/>
                  </a:solidFill>
                  <a:latin typeface="Bookman Old Style"/>
                </a:rPr>
                <a:t>n-m+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200400" y="3505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533412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267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45720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5029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876920"/>
            <a:ext cx="2590920" cy="11912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e discretiza la integral en n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429000" y="5665680"/>
                <a:ext cx="3124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nΔ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nΔ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8610480" y="66294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066680" y="228600"/>
                <a:ext cx="6489720" cy="19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≡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114800" y="2438280"/>
                <a:ext cx="39117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m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nΔt</m:t>
                            </m:r>
                            <m:r>
                              <m:t xml:space="preserve">−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≡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Δt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33520" y="4572000"/>
            <a:ext cx="800100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+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P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534520" y="63244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81480" y="5791320"/>
                <a:ext cx="2289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≤</m:t>
                        </m:r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914400" y="5943600"/>
            <a:ext cx="32767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U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n-m+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h[(n-M+1)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 flipV="1">
            <a:off x="1219320" y="837720"/>
            <a:ext cx="0" cy="449604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334120"/>
            <a:ext cx="6095880" cy="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3797280"/>
            <a:ext cx="3962520" cy="15368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09880"/>
            <a:ext cx="289584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m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(n-m+1)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5409720" y="4267080"/>
            <a:ext cx="1295640" cy="762120"/>
          </a:xfrm>
          <a:prstGeom prst="line">
            <a:avLst/>
          </a:prstGeom>
          <a:ln w="5724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4495680"/>
            <a:ext cx="3962160" cy="851040"/>
          </a:xfrm>
          <a:custGeom>
            <a:avLst/>
            <a:gdLst/>
            <a:ahLst/>
            <a:rect l="l" t="t" r="r" b="b"/>
            <a:pathLst>
              <a:path w="2496" h="968">
                <a:moveTo>
                  <a:pt x="0" y="968"/>
                </a:moveTo>
                <a:cubicBezTo>
                  <a:pt x="72" y="956"/>
                  <a:pt x="144" y="944"/>
                  <a:pt x="240" y="872"/>
                </a:cubicBezTo>
                <a:cubicBezTo>
                  <a:pt x="336" y="800"/>
                  <a:pt x="480" y="648"/>
                  <a:pt x="576" y="536"/>
                </a:cubicBezTo>
                <a:cubicBezTo>
                  <a:pt x="672" y="424"/>
                  <a:pt x="728" y="288"/>
                  <a:pt x="816" y="200"/>
                </a:cubicBezTo>
                <a:cubicBezTo>
                  <a:pt x="904" y="112"/>
                  <a:pt x="1008" y="16"/>
                  <a:pt x="1104" y="8"/>
                </a:cubicBezTo>
                <a:cubicBezTo>
                  <a:pt x="1200" y="0"/>
                  <a:pt x="1296" y="80"/>
                  <a:pt x="1392" y="152"/>
                </a:cubicBezTo>
                <a:cubicBezTo>
                  <a:pt x="1488" y="224"/>
                  <a:pt x="1568" y="336"/>
                  <a:pt x="1680" y="440"/>
                </a:cubicBezTo>
                <a:cubicBezTo>
                  <a:pt x="1792" y="544"/>
                  <a:pt x="1928" y="688"/>
                  <a:pt x="2064" y="776"/>
                </a:cubicBezTo>
                <a:cubicBezTo>
                  <a:pt x="2200" y="864"/>
                  <a:pt x="2348" y="916"/>
                  <a:pt x="2496" y="968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019920"/>
            <a:ext cx="190512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P</a:t>
            </a:r>
            <a:r>
              <a:rPr b="0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h[n</a:t>
            </a:r>
            <a:r>
              <a:rPr b="0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660033"/>
                </a:solidFill>
                <a:latin typeface="Bookman Old Style"/>
              </a:rPr>
              <a:t>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5028840"/>
            <a:ext cx="152280" cy="106668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784080"/>
            <a:ext cx="6553080" cy="4550040"/>
          </a:xfrm>
          <a:custGeom>
            <a:avLst/>
            <a:gdLst/>
            <a:ahLst/>
            <a:rect l="l" t="t" r="r" b="b"/>
            <a:pathLst>
              <a:path w="4128" h="2866">
                <a:moveTo>
                  <a:pt x="0" y="2866"/>
                </a:moveTo>
                <a:cubicBezTo>
                  <a:pt x="33" y="2860"/>
                  <a:pt x="135" y="2847"/>
                  <a:pt x="197" y="2830"/>
                </a:cubicBezTo>
                <a:cubicBezTo>
                  <a:pt x="259" y="2813"/>
                  <a:pt x="306" y="2811"/>
                  <a:pt x="375" y="2765"/>
                </a:cubicBezTo>
                <a:cubicBezTo>
                  <a:pt x="444" y="2719"/>
                  <a:pt x="537" y="2665"/>
                  <a:pt x="611" y="2554"/>
                </a:cubicBezTo>
                <a:cubicBezTo>
                  <a:pt x="685" y="2443"/>
                  <a:pt x="718" y="2342"/>
                  <a:pt x="816" y="2098"/>
                </a:cubicBezTo>
                <a:cubicBezTo>
                  <a:pt x="914" y="1854"/>
                  <a:pt x="1087" y="1388"/>
                  <a:pt x="1200" y="1090"/>
                </a:cubicBezTo>
                <a:cubicBezTo>
                  <a:pt x="1313" y="792"/>
                  <a:pt x="1387" y="488"/>
                  <a:pt x="1494" y="309"/>
                </a:cubicBezTo>
                <a:cubicBezTo>
                  <a:pt x="1601" y="130"/>
                  <a:pt x="1744" y="0"/>
                  <a:pt x="1843" y="17"/>
                </a:cubicBezTo>
                <a:cubicBezTo>
                  <a:pt x="1942" y="34"/>
                  <a:pt x="2001" y="227"/>
                  <a:pt x="2086" y="414"/>
                </a:cubicBezTo>
                <a:cubicBezTo>
                  <a:pt x="2171" y="601"/>
                  <a:pt x="2228" y="865"/>
                  <a:pt x="2352" y="1138"/>
                </a:cubicBezTo>
                <a:cubicBezTo>
                  <a:pt x="2476" y="1411"/>
                  <a:pt x="2632" y="1794"/>
                  <a:pt x="2832" y="2050"/>
                </a:cubicBezTo>
                <a:cubicBezTo>
                  <a:pt x="3032" y="2306"/>
                  <a:pt x="3336" y="2546"/>
                  <a:pt x="3552" y="2674"/>
                </a:cubicBezTo>
                <a:cubicBezTo>
                  <a:pt x="3768" y="2802"/>
                  <a:pt x="3948" y="2810"/>
                  <a:pt x="4128" y="2818"/>
                </a:cubicBezTo>
              </a:path>
            </a:pathLst>
          </a:custGeom>
          <a:noFill/>
          <a:ln w="38160">
            <a:solidFill>
              <a:srgbClr val="e1a3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49528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486400"/>
            <a:ext cx="685800" cy="0"/>
          </a:xfrm>
          <a:prstGeom prst="line">
            <a:avLst/>
          </a:prstGeom>
          <a:ln w="9360">
            <a:solidFill>
              <a:srgbClr val="e1a3c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411480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19520" y="3048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205740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1066680"/>
            <a:ext cx="15264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762120"/>
            <a:ext cx="15228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8680" y="39625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29200" y="2895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752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0120" y="51814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48320"/>
            <a:ext cx="152640" cy="152280"/>
          </a:xfrm>
          <a:prstGeom prst="ellipse">
            <a:avLst/>
          </a:prstGeom>
          <a:solidFill>
            <a:srgbClr val="660033"/>
          </a:solidFill>
          <a:ln w="9360">
            <a:solidFill>
              <a:srgbClr val="e1a3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4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5486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696440" cy="36576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7775640" cy="3287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777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457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btención H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914400"/>
            <a:ext cx="1905120" cy="88920"/>
          </a:xfrm>
          <a:custGeom>
            <a:avLst/>
            <a:gdLst/>
            <a:ahLst/>
            <a:rect l="l" t="t" r="r" b="b"/>
            <a:pathLst>
              <a:path w="1008" h="104">
                <a:moveTo>
                  <a:pt x="0" y="0"/>
                </a:moveTo>
                <a:cubicBezTo>
                  <a:pt x="108" y="44"/>
                  <a:pt x="216" y="88"/>
                  <a:pt x="384" y="96"/>
                </a:cubicBezTo>
                <a:cubicBezTo>
                  <a:pt x="552" y="104"/>
                  <a:pt x="904" y="56"/>
                  <a:pt x="1008" y="48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533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uración de la lluvia efectiva 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686800" cy="50695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Hidrogramas simples de lluvias intensas de corta duración de distribución espacial y temporal lo mas uniforme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Determinar pluviograma medio (espacialmente) para la cue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 base de índices o curvas de infiltración se determina lluvia efectiva y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efectúa separación de las componentes del hidrograma (F. Base y Escorrentía Direc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e determina Volumen de 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 Pef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.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      P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6172200"/>
            <a:ext cx="295200" cy="431640"/>
          </a:xfrm>
          <a:custGeom>
            <a:avLst/>
            <a:gdLst>
              <a:gd name="textAreaLeft" fmla="*/ 36720 w 295200"/>
              <a:gd name="textAreaRight" fmla="*/ 258480 w 2952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36920" y="4332240"/>
            <a:ext cx="4732200" cy="2077920"/>
          </a:xfrm>
          <a:custGeom>
            <a:avLst/>
            <a:gdLst/>
            <a:ahLst/>
            <a:rect l="l" t="t" r="r" b="b"/>
            <a:pathLst>
              <a:path w="2981" h="1309">
                <a:moveTo>
                  <a:pt x="0" y="1309"/>
                </a:moveTo>
                <a:cubicBezTo>
                  <a:pt x="361" y="1291"/>
                  <a:pt x="1689" y="1294"/>
                  <a:pt x="2165" y="1203"/>
                </a:cubicBezTo>
                <a:cubicBezTo>
                  <a:pt x="2641" y="1112"/>
                  <a:pt x="2782" y="945"/>
                  <a:pt x="2854" y="765"/>
                </a:cubicBezTo>
                <a:cubicBezTo>
                  <a:pt x="2926" y="585"/>
                  <a:pt x="2981" y="244"/>
                  <a:pt x="2600" y="122"/>
                </a:cubicBezTo>
                <a:cubicBezTo>
                  <a:pt x="2219" y="0"/>
                  <a:pt x="1407" y="31"/>
                  <a:pt x="571" y="31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457200"/>
            <a:ext cx="3886200" cy="5101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mbalse Lineal a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0" y="1219320"/>
                <a:ext cx="21718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685800" y="2819520"/>
            <a:ext cx="7696080" cy="369216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 sistemas Line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una solución f(Q) es multiplicada por c, al función resultante cf(Q), es también solución (principio de proporcion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i 2 soluciones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y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se suman, la función resultante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1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+ f</a:t>
            </a:r>
            <a:r>
              <a:rPr b="1" lang="es-ES_tradnl" sz="2400" spc="-1" strike="noStrike" baseline="-25000">
                <a:solidFill>
                  <a:srgbClr val="660033"/>
                </a:solidFill>
                <a:latin typeface="Bookman Old Style"/>
              </a:rPr>
              <a:t>2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(Q) es también solución (superposi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im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Im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971800" y="2514600"/>
            <a:ext cx="914400" cy="1447560"/>
            <a:chOff x="2971800" y="2514600"/>
            <a:chExt cx="914400" cy="1447560"/>
          </a:xfrm>
        </p:grpSpPr>
        <p:sp>
          <p:nvSpPr>
            <p:cNvPr id="54" name=""/>
            <p:cNvSpPr/>
            <p:nvPr/>
          </p:nvSpPr>
          <p:spPr>
            <a:xfrm>
              <a:off x="3809880" y="2566080"/>
              <a:ext cx="76320" cy="139608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71800" y="25146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29000" y="1752480"/>
            <a:ext cx="5638680" cy="2820240"/>
            <a:chOff x="3429000" y="1752480"/>
            <a:chExt cx="5638680" cy="2820240"/>
          </a:xfrm>
        </p:grpSpPr>
        <p:sp>
          <p:nvSpPr>
            <p:cNvPr id="57" name=""/>
            <p:cNvSpPr/>
            <p:nvPr/>
          </p:nvSpPr>
          <p:spPr>
            <a:xfrm>
              <a:off x="3429000" y="2007720"/>
              <a:ext cx="1440" cy="197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855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4960" y="1752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4113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862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u(t-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5520" y="28195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371600"/>
            <a:ext cx="304560" cy="1371600"/>
          </a:xfrm>
          <a:prstGeom prst="line">
            <a:avLst/>
          </a:prstGeom>
          <a:ln w="93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3716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414000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50232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4368960"/>
            <a:ext cx="75960" cy="21333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689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419720"/>
            <a:ext cx="3657600" cy="2057400"/>
          </a:xfrm>
          <a:custGeom>
            <a:avLst/>
            <a:gdLst/>
            <a:ahLst/>
            <a:rect l="l" t="t" r="r" b="b"/>
            <a:pathLst>
              <a:path w="2304" h="1296">
                <a:moveTo>
                  <a:pt x="0" y="1296"/>
                </a:moveTo>
                <a:cubicBezTo>
                  <a:pt x="24" y="1254"/>
                  <a:pt x="98" y="1134"/>
                  <a:pt x="143" y="1043"/>
                </a:cubicBezTo>
                <a:cubicBezTo>
                  <a:pt x="188" y="952"/>
                  <a:pt x="226" y="859"/>
                  <a:pt x="273" y="751"/>
                </a:cubicBezTo>
                <a:cubicBezTo>
                  <a:pt x="320" y="643"/>
                  <a:pt x="374" y="502"/>
                  <a:pt x="427" y="395"/>
                </a:cubicBezTo>
                <a:cubicBezTo>
                  <a:pt x="480" y="288"/>
                  <a:pt x="534" y="176"/>
                  <a:pt x="589" y="111"/>
                </a:cubicBezTo>
                <a:cubicBezTo>
                  <a:pt x="644" y="46"/>
                  <a:pt x="694" y="0"/>
                  <a:pt x="759" y="5"/>
                </a:cubicBezTo>
                <a:cubicBezTo>
                  <a:pt x="824" y="10"/>
                  <a:pt x="908" y="75"/>
                  <a:pt x="978" y="143"/>
                </a:cubicBezTo>
                <a:cubicBezTo>
                  <a:pt x="1048" y="211"/>
                  <a:pt x="1105" y="324"/>
                  <a:pt x="1181" y="411"/>
                </a:cubicBezTo>
                <a:cubicBezTo>
                  <a:pt x="1257" y="498"/>
                  <a:pt x="1341" y="582"/>
                  <a:pt x="1432" y="662"/>
                </a:cubicBezTo>
                <a:cubicBezTo>
                  <a:pt x="1523" y="742"/>
                  <a:pt x="1625" y="813"/>
                  <a:pt x="1724" y="889"/>
                </a:cubicBezTo>
                <a:cubicBezTo>
                  <a:pt x="1823" y="965"/>
                  <a:pt x="1927" y="1048"/>
                  <a:pt x="2024" y="1116"/>
                </a:cubicBezTo>
                <a:cubicBezTo>
                  <a:pt x="2121" y="1184"/>
                  <a:pt x="2246" y="1258"/>
                  <a:pt x="2304" y="1296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054760"/>
            <a:ext cx="76320" cy="144756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13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66800" y="4743360"/>
            <a:ext cx="3895920" cy="1758960"/>
          </a:xfrm>
          <a:custGeom>
            <a:avLst/>
            <a:gdLst/>
            <a:ahLst/>
            <a:rect l="l" t="t" r="r" b="b"/>
            <a:pathLst>
              <a:path w="2454" h="1108">
                <a:moveTo>
                  <a:pt x="0" y="1091"/>
                </a:moveTo>
                <a:cubicBezTo>
                  <a:pt x="26" y="1072"/>
                  <a:pt x="98" y="1026"/>
                  <a:pt x="145" y="976"/>
                </a:cubicBezTo>
                <a:cubicBezTo>
                  <a:pt x="192" y="926"/>
                  <a:pt x="237" y="883"/>
                  <a:pt x="283" y="790"/>
                </a:cubicBezTo>
                <a:cubicBezTo>
                  <a:pt x="329" y="697"/>
                  <a:pt x="376" y="527"/>
                  <a:pt x="422" y="418"/>
                </a:cubicBezTo>
                <a:cubicBezTo>
                  <a:pt x="468" y="310"/>
                  <a:pt x="502" y="207"/>
                  <a:pt x="560" y="139"/>
                </a:cubicBezTo>
                <a:cubicBezTo>
                  <a:pt x="618" y="71"/>
                  <a:pt x="709" y="24"/>
                  <a:pt x="770" y="12"/>
                </a:cubicBezTo>
                <a:cubicBezTo>
                  <a:pt x="831" y="0"/>
                  <a:pt x="868" y="38"/>
                  <a:pt x="924" y="69"/>
                </a:cubicBezTo>
                <a:cubicBezTo>
                  <a:pt x="980" y="100"/>
                  <a:pt x="1002" y="118"/>
                  <a:pt x="1103" y="199"/>
                </a:cubicBezTo>
                <a:cubicBezTo>
                  <a:pt x="1204" y="280"/>
                  <a:pt x="1390" y="452"/>
                  <a:pt x="1530" y="558"/>
                </a:cubicBezTo>
                <a:cubicBezTo>
                  <a:pt x="1670" y="664"/>
                  <a:pt x="1807" y="752"/>
                  <a:pt x="1946" y="837"/>
                </a:cubicBezTo>
                <a:cubicBezTo>
                  <a:pt x="2084" y="922"/>
                  <a:pt x="2277" y="1031"/>
                  <a:pt x="2362" y="1069"/>
                </a:cubicBezTo>
                <a:cubicBezTo>
                  <a:pt x="2446" y="1108"/>
                  <a:pt x="2439" y="1069"/>
                  <a:pt x="2454" y="1069"/>
                </a:cubicBezTo>
              </a:path>
            </a:pathLst>
          </a:custGeom>
          <a:noFill/>
          <a:ln w="38160">
            <a:solidFill>
              <a:srgbClr val="c755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400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627280"/>
            <a:ext cx="4495680" cy="3875040"/>
          </a:xfrm>
          <a:custGeom>
            <a:avLst/>
            <a:gdLst/>
            <a:ahLst/>
            <a:rect l="l" t="t" r="r" b="b"/>
            <a:pathLst>
              <a:path w="2832" h="2441">
                <a:moveTo>
                  <a:pt x="0" y="2441"/>
                </a:moveTo>
                <a:cubicBezTo>
                  <a:pt x="28" y="2429"/>
                  <a:pt x="55" y="2414"/>
                  <a:pt x="96" y="2345"/>
                </a:cubicBezTo>
                <a:cubicBezTo>
                  <a:pt x="137" y="2276"/>
                  <a:pt x="198" y="2140"/>
                  <a:pt x="248" y="2026"/>
                </a:cubicBezTo>
                <a:cubicBezTo>
                  <a:pt x="298" y="1912"/>
                  <a:pt x="355" y="1784"/>
                  <a:pt x="394" y="1661"/>
                </a:cubicBezTo>
                <a:cubicBezTo>
                  <a:pt x="433" y="1538"/>
                  <a:pt x="442" y="1431"/>
                  <a:pt x="480" y="1289"/>
                </a:cubicBezTo>
                <a:cubicBezTo>
                  <a:pt x="518" y="1147"/>
                  <a:pt x="592" y="921"/>
                  <a:pt x="624" y="809"/>
                </a:cubicBezTo>
                <a:cubicBezTo>
                  <a:pt x="656" y="697"/>
                  <a:pt x="640" y="721"/>
                  <a:pt x="672" y="617"/>
                </a:cubicBezTo>
                <a:cubicBezTo>
                  <a:pt x="704" y="513"/>
                  <a:pt x="769" y="285"/>
                  <a:pt x="816" y="185"/>
                </a:cubicBezTo>
                <a:cubicBezTo>
                  <a:pt x="863" y="85"/>
                  <a:pt x="892" y="32"/>
                  <a:pt x="953" y="16"/>
                </a:cubicBezTo>
                <a:cubicBezTo>
                  <a:pt x="1014" y="0"/>
                  <a:pt x="1119" y="35"/>
                  <a:pt x="1180" y="89"/>
                </a:cubicBezTo>
                <a:cubicBezTo>
                  <a:pt x="1241" y="143"/>
                  <a:pt x="1243" y="188"/>
                  <a:pt x="1318" y="340"/>
                </a:cubicBezTo>
                <a:cubicBezTo>
                  <a:pt x="1393" y="492"/>
                  <a:pt x="1516" y="788"/>
                  <a:pt x="1632" y="1001"/>
                </a:cubicBezTo>
                <a:cubicBezTo>
                  <a:pt x="1748" y="1214"/>
                  <a:pt x="1886" y="1427"/>
                  <a:pt x="2015" y="1621"/>
                </a:cubicBezTo>
                <a:cubicBezTo>
                  <a:pt x="2144" y="1815"/>
                  <a:pt x="2269" y="2027"/>
                  <a:pt x="2405" y="2164"/>
                </a:cubicBezTo>
                <a:cubicBezTo>
                  <a:pt x="2541" y="2301"/>
                  <a:pt x="2743" y="2383"/>
                  <a:pt x="2832" y="244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219320" y="380880"/>
            <a:ext cx="70102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Bookman Old Style"/>
              </a:rPr>
              <a:t>Impulsos continuos son tratados como suma de impulsos infinites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2057400"/>
            <a:ext cx="80010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e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y 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+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entra al sistema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(lluv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895480"/>
            <a:ext cx="7315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e Escorrentía Directa en 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= i(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u(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) d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90720" y="4724280"/>
            <a:ext cx="914400" cy="838440"/>
            <a:chOff x="990720" y="4724280"/>
            <a:chExt cx="914400" cy="838440"/>
          </a:xfrm>
        </p:grpSpPr>
        <p:sp>
          <p:nvSpPr>
            <p:cNvPr id="82" name=""/>
            <p:cNvSpPr/>
            <p:nvPr/>
          </p:nvSpPr>
          <p:spPr>
            <a:xfrm>
              <a:off x="9907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47242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53341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19520" y="4419720"/>
                <a:ext cx="37335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981080" y="6095880"/>
            <a:ext cx="64008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ntegral de con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Escal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Escalón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4920" y="1803240"/>
            <a:ext cx="914400" cy="2133720"/>
            <a:chOff x="304920" y="1803240"/>
            <a:chExt cx="914400" cy="2133720"/>
          </a:xfrm>
        </p:grpSpPr>
        <p:sp>
          <p:nvSpPr>
            <p:cNvPr id="91" name=""/>
            <p:cNvSpPr/>
            <p:nvPr/>
          </p:nvSpPr>
          <p:spPr>
            <a:xfrm>
              <a:off x="1143000" y="1879560"/>
              <a:ext cx="76320" cy="2057400"/>
            </a:xfrm>
            <a:prstGeom prst="rect">
              <a:avLst/>
            </a:prstGeom>
            <a:solidFill>
              <a:srgbClr val="e1a3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180324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94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3000" y="2362320"/>
            <a:ext cx="3657600" cy="1574640"/>
          </a:xfrm>
          <a:custGeom>
            <a:avLst/>
            <a:gdLst/>
            <a:ahLst/>
            <a:rect l="l" t="t" r="r" b="b"/>
            <a:pathLst>
              <a:path w="2304" h="992">
                <a:moveTo>
                  <a:pt x="0" y="992"/>
                </a:moveTo>
                <a:cubicBezTo>
                  <a:pt x="48" y="988"/>
                  <a:pt x="96" y="984"/>
                  <a:pt x="144" y="944"/>
                </a:cubicBezTo>
                <a:cubicBezTo>
                  <a:pt x="192" y="904"/>
                  <a:pt x="232" y="832"/>
                  <a:pt x="288" y="752"/>
                </a:cubicBezTo>
                <a:cubicBezTo>
                  <a:pt x="344" y="672"/>
                  <a:pt x="424" y="560"/>
                  <a:pt x="480" y="464"/>
                </a:cubicBezTo>
                <a:cubicBezTo>
                  <a:pt x="536" y="368"/>
                  <a:pt x="576" y="248"/>
                  <a:pt x="624" y="176"/>
                </a:cubicBezTo>
                <a:cubicBezTo>
                  <a:pt x="672" y="104"/>
                  <a:pt x="712" y="56"/>
                  <a:pt x="768" y="32"/>
                </a:cubicBezTo>
                <a:cubicBezTo>
                  <a:pt x="824" y="8"/>
                  <a:pt x="896" y="0"/>
                  <a:pt x="960" y="32"/>
                </a:cubicBezTo>
                <a:cubicBezTo>
                  <a:pt x="1024" y="64"/>
                  <a:pt x="1056" y="136"/>
                  <a:pt x="1152" y="224"/>
                </a:cubicBezTo>
                <a:cubicBezTo>
                  <a:pt x="1248" y="312"/>
                  <a:pt x="1408" y="456"/>
                  <a:pt x="1536" y="560"/>
                </a:cubicBezTo>
                <a:cubicBezTo>
                  <a:pt x="1664" y="664"/>
                  <a:pt x="1792" y="776"/>
                  <a:pt x="1920" y="848"/>
                </a:cubicBezTo>
                <a:cubicBezTo>
                  <a:pt x="2048" y="920"/>
                  <a:pt x="2176" y="956"/>
                  <a:pt x="2304" y="99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4419720"/>
            <a:ext cx="5105520" cy="205740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419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0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143000" y="44197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828800"/>
            <a:ext cx="144792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I(t)=1 para t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24080" y="2819160"/>
            <a:ext cx="0" cy="37335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4724280"/>
            <a:ext cx="152280" cy="152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365760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429000"/>
            <a:ext cx="457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2004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895480"/>
            <a:ext cx="99072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2666880"/>
            <a:ext cx="99036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438280"/>
            <a:ext cx="7617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248520" y="3159000"/>
                <a:ext cx="28954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705720" y="44197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t-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d</a:t>
            </a:r>
            <a:r>
              <a:rPr b="1" i="1" lang="es-ES_tradnl" sz="2400" spc="-1" strike="noStrike">
                <a:solidFill>
                  <a:srgbClr val="660033"/>
                </a:solidFill>
                <a:latin typeface="Bookman Old Style"/>
              </a:rPr>
              <a:t>l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-d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9400" y="5038560"/>
                <a:ext cx="21718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962520" y="1447920"/>
            <a:ext cx="914400" cy="37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657600" y="1371600"/>
            <a:ext cx="2666880" cy="32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76520" y="533520"/>
            <a:ext cx="2895480" cy="82548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Entrada: Función Pul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1143000" cy="685800"/>
          </a:xfrm>
          <a:prstGeom prst="rightArrow">
            <a:avLst>
              <a:gd name="adj1" fmla="val 50000"/>
              <a:gd name="adj2" fmla="val 41667"/>
            </a:avLst>
          </a:prstGeom>
          <a:solidFill>
            <a:srgbClr val="e1a3c2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33520"/>
            <a:ext cx="3200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Salida: Función Pulso 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2120" y="1270080"/>
            <a:ext cx="5638680" cy="3278880"/>
            <a:chOff x="762120" y="1270080"/>
            <a:chExt cx="5638680" cy="3278880"/>
          </a:xfrm>
        </p:grpSpPr>
        <p:sp>
          <p:nvSpPr>
            <p:cNvPr id="125" name=""/>
            <p:cNvSpPr/>
            <p:nvPr/>
          </p:nvSpPr>
          <p:spPr>
            <a:xfrm>
              <a:off x="762120" y="1574640"/>
              <a:ext cx="1440" cy="2361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3936960"/>
              <a:ext cx="5410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8080" y="127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9920" y="4089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143000" y="4495680"/>
            <a:ext cx="4876920" cy="1981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19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 </a:t>
            </a:r>
            <a:r>
              <a:rPr b="1" lang="es-ES_tradnl" sz="2400" spc="-1" strike="noStrike" u="sng">
                <a:solidFill>
                  <a:srgbClr val="e1a3c2"/>
                </a:solidFill>
                <a:uFillTx/>
                <a:latin typeface="Bookman Old Style"/>
              </a:rPr>
              <a:t>1 </a:t>
            </a: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62120" y="3809880"/>
            <a:ext cx="5638680" cy="3279240"/>
            <a:chOff x="762120" y="3809880"/>
            <a:chExt cx="5638680" cy="3279240"/>
          </a:xfrm>
        </p:grpSpPr>
        <p:sp>
          <p:nvSpPr>
            <p:cNvPr id="132" name=""/>
            <p:cNvSpPr/>
            <p:nvPr/>
          </p:nvSpPr>
          <p:spPr>
            <a:xfrm>
              <a:off x="762120" y="4114800"/>
              <a:ext cx="144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6477120"/>
              <a:ext cx="5410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3809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6629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Bookman Old Style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3000" y="1905120"/>
            <a:ext cx="474012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10080" y="1752480"/>
            <a:ext cx="3505320" cy="1015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I(t)=1/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 para 0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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     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=0  para t&gt;</a:t>
            </a:r>
            <a:r>
              <a:rPr b="1" lang="es-ES_tradnl" sz="24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4480" y="297180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0 respuesta es g(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962520"/>
            <a:ext cx="2286000" cy="9169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Escalón empieza en 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 respuesta es -g(t-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)/</a:t>
            </a:r>
            <a:r>
              <a:rPr b="0" lang="es-ES_tradnl" sz="1800" spc="-1" strike="noStrike">
                <a:solidFill>
                  <a:srgbClr val="660033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>
                <a:solidFill>
                  <a:srgbClr val="660033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9680" y="1905120"/>
            <a:ext cx="4740480" cy="2046240"/>
          </a:xfrm>
          <a:custGeom>
            <a:avLst/>
            <a:gdLst/>
            <a:ahLst/>
            <a:rect l="l" t="t" r="r" b="b"/>
            <a:pathLst>
              <a:path w="2986" h="1289">
                <a:moveTo>
                  <a:pt x="0" y="1289"/>
                </a:moveTo>
                <a:cubicBezTo>
                  <a:pt x="48" y="1285"/>
                  <a:pt x="82" y="1275"/>
                  <a:pt x="144" y="1241"/>
                </a:cubicBezTo>
                <a:cubicBezTo>
                  <a:pt x="206" y="1207"/>
                  <a:pt x="297" y="1158"/>
                  <a:pt x="375" y="1085"/>
                </a:cubicBezTo>
                <a:cubicBezTo>
                  <a:pt x="453" y="1012"/>
                  <a:pt x="539" y="891"/>
                  <a:pt x="610" y="801"/>
                </a:cubicBezTo>
                <a:cubicBezTo>
                  <a:pt x="681" y="711"/>
                  <a:pt x="735" y="618"/>
                  <a:pt x="804" y="542"/>
                </a:cubicBezTo>
                <a:cubicBezTo>
                  <a:pt x="873" y="466"/>
                  <a:pt x="930" y="405"/>
                  <a:pt x="1023" y="347"/>
                </a:cubicBezTo>
                <a:cubicBezTo>
                  <a:pt x="1116" y="289"/>
                  <a:pt x="1261" y="232"/>
                  <a:pt x="1364" y="193"/>
                </a:cubicBezTo>
                <a:cubicBezTo>
                  <a:pt x="1467" y="154"/>
                  <a:pt x="1533" y="136"/>
                  <a:pt x="1640" y="112"/>
                </a:cubicBezTo>
                <a:cubicBezTo>
                  <a:pt x="1747" y="88"/>
                  <a:pt x="1866" y="64"/>
                  <a:pt x="2005" y="47"/>
                </a:cubicBezTo>
                <a:cubicBezTo>
                  <a:pt x="2144" y="30"/>
                  <a:pt x="2312" y="14"/>
                  <a:pt x="2475" y="7"/>
                </a:cubicBezTo>
                <a:cubicBezTo>
                  <a:pt x="2638" y="0"/>
                  <a:pt x="2880" y="7"/>
                  <a:pt x="2986" y="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495680"/>
            <a:ext cx="3810240" cy="1981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406760"/>
            <a:ext cx="3962520" cy="2070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64" y="1296"/>
                  <a:pt x="128" y="1288"/>
                  <a:pt x="192" y="1256"/>
                </a:cubicBezTo>
                <a:cubicBezTo>
                  <a:pt x="256" y="1224"/>
                  <a:pt x="320" y="1176"/>
                  <a:pt x="384" y="1112"/>
                </a:cubicBezTo>
                <a:cubicBezTo>
                  <a:pt x="448" y="1048"/>
                  <a:pt x="528" y="960"/>
                  <a:pt x="576" y="872"/>
                </a:cubicBezTo>
                <a:cubicBezTo>
                  <a:pt x="624" y="784"/>
                  <a:pt x="641" y="674"/>
                  <a:pt x="672" y="584"/>
                </a:cubicBezTo>
                <a:cubicBezTo>
                  <a:pt x="703" y="494"/>
                  <a:pt x="724" y="417"/>
                  <a:pt x="764" y="329"/>
                </a:cubicBezTo>
                <a:cubicBezTo>
                  <a:pt x="804" y="241"/>
                  <a:pt x="855" y="101"/>
                  <a:pt x="912" y="56"/>
                </a:cubicBezTo>
                <a:cubicBezTo>
                  <a:pt x="969" y="11"/>
                  <a:pt x="1040" y="0"/>
                  <a:pt x="1104" y="56"/>
                </a:cubicBezTo>
                <a:cubicBezTo>
                  <a:pt x="1168" y="112"/>
                  <a:pt x="1200" y="264"/>
                  <a:pt x="1296" y="392"/>
                </a:cubicBezTo>
                <a:cubicBezTo>
                  <a:pt x="1392" y="520"/>
                  <a:pt x="1544" y="704"/>
                  <a:pt x="1680" y="824"/>
                </a:cubicBezTo>
                <a:cubicBezTo>
                  <a:pt x="1816" y="944"/>
                  <a:pt x="1976" y="1048"/>
                  <a:pt x="2112" y="1112"/>
                </a:cubicBezTo>
                <a:cubicBezTo>
                  <a:pt x="2248" y="1176"/>
                  <a:pt x="2432" y="1192"/>
                  <a:pt x="2496" y="1208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029200" y="5038560"/>
                <a:ext cx="384336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[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Δt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 flipH="1">
            <a:off x="1752480" y="1371600"/>
            <a:ext cx="533520" cy="3962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e1a3c2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428640" y="1371600"/>
            <a:ext cx="2971800" cy="3886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480"/>
            <a:ext cx="716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idrograma Unitari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(Sherman, 19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7558e"/>
                </a:solidFill>
                <a:latin typeface="Tahoma"/>
              </a:rPr>
              <a:t>HED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que resulta de una Pef unitaria (1mm, 1 cm...) que se produce uniformemente sobre la cuenca, con intensidad constante durante una duración espec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57600" y="3200400"/>
            <a:ext cx="1905120" cy="1015920"/>
          </a:xfrm>
          <a:prstGeom prst="rect">
            <a:avLst/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3048120"/>
            <a:ext cx="1658880" cy="1244520"/>
          </a:xfrm>
          <a:prstGeom prst="rightArrow">
            <a:avLst>
              <a:gd name="adj1" fmla="val 50000"/>
              <a:gd name="adj2" fmla="val 33324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3200400"/>
            <a:ext cx="1327320" cy="1244520"/>
          </a:xfrm>
          <a:prstGeom prst="rightArrow">
            <a:avLst>
              <a:gd name="adj1" fmla="val 50000"/>
              <a:gd name="adj2" fmla="val 26663"/>
            </a:avLst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33526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Precipitación efec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35812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7558e"/>
                </a:solidFill>
                <a:latin typeface="Tahoma"/>
              </a:rPr>
              <a:t>Escorrentí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4952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HU aplicable a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con cualquier entrada y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228600"/>
            <a:ext cx="2590560" cy="52056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Hipót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143000"/>
            <a:ext cx="8915400" cy="54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spa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Limitar a cuencas de superficie &lt; 3000 a 5000 Km</a:t>
            </a:r>
            <a:r>
              <a:rPr b="1" lang="es-ES_tradnl" sz="20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Si régimen de Pp es orográfico, configuración se  mantiene de una tormenta a otra y efecto poco im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luvia efectiva uniforme en el tiempo para la duración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Obtener HU para tormentas de corta duración (tiempo de desfase/4 o 1/3 a 1/5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c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e inferior a 24 horas)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-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del HED es prácticamente constante para lluvias efectivas de igual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      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Como T</a:t>
            </a:r>
            <a:r>
              <a:rPr b="1" lang="es-ES_tradnl" sz="2000" spc="-1" strike="noStrike" baseline="-25000">
                <a:solidFill>
                  <a:srgbClr val="e1a3c2"/>
                </a:solidFill>
                <a:latin typeface="Tahoma"/>
              </a:rPr>
              <a:t>b</a:t>
            </a:r>
            <a:r>
              <a:rPr b="1" lang="es-ES_tradnl" sz="2000" spc="-1" strike="noStrike">
                <a:solidFill>
                  <a:srgbClr val="e1a3c2"/>
                </a:solidFill>
                <a:latin typeface="Tahoma"/>
              </a:rPr>
              <a:t> depende de método separación componentes del HET,  se acepta tolerancia ± 25% e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58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 Ordenadas homólogas de los HED de = Tb son directamente proporcionales al Volumen Total de escorrentía directa de cada 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principio de linealidad o superposición.(Principal defecto de la teoría 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n una cuenca específica, el hidrograma de una crecida correspondiente a lluvia determinada, refleja todo el conjunto de características físicas de la cuenca (forma, tamaño, pendiente, suelos, vegetación, etc.) y éstas se suponen invariantes e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Cuenca no varía            limitació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33720" y="1752480"/>
            <a:ext cx="4266720" cy="2476440"/>
            <a:chOff x="2133720" y="1752480"/>
            <a:chExt cx="4266720" cy="2476440"/>
          </a:xfrm>
        </p:grpSpPr>
        <p:sp>
          <p:nvSpPr>
            <p:cNvPr id="158" name=""/>
            <p:cNvSpPr/>
            <p:nvPr/>
          </p:nvSpPr>
          <p:spPr>
            <a:xfrm>
              <a:off x="2133720" y="2031480"/>
              <a:ext cx="0" cy="158184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3613680"/>
              <a:ext cx="4177800" cy="0"/>
            </a:xfrm>
            <a:prstGeom prst="line">
              <a:avLst/>
            </a:prstGeom>
            <a:ln w="9360">
              <a:solidFill>
                <a:srgbClr val="c755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11200" y="2031480"/>
              <a:ext cx="266400" cy="185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1200" y="2651760"/>
              <a:ext cx="2933280" cy="961560"/>
            </a:xfrm>
            <a:custGeom>
              <a:avLst/>
              <a:gdLst/>
              <a:ahLst/>
              <a:rect l="l" t="t" r="r" b="b"/>
              <a:pathLst>
                <a:path w="1584" h="496">
                  <a:moveTo>
                    <a:pt x="0" y="496"/>
                  </a:moveTo>
                  <a:cubicBezTo>
                    <a:pt x="72" y="468"/>
                    <a:pt x="144" y="440"/>
                    <a:pt x="192" y="400"/>
                  </a:cubicBezTo>
                  <a:cubicBezTo>
                    <a:pt x="240" y="360"/>
                    <a:pt x="256" y="312"/>
                    <a:pt x="288" y="256"/>
                  </a:cubicBezTo>
                  <a:cubicBezTo>
                    <a:pt x="320" y="200"/>
                    <a:pt x="352" y="104"/>
                    <a:pt x="384" y="64"/>
                  </a:cubicBezTo>
                  <a:cubicBezTo>
                    <a:pt x="416" y="24"/>
                    <a:pt x="448" y="0"/>
                    <a:pt x="480" y="16"/>
                  </a:cubicBezTo>
                  <a:cubicBezTo>
                    <a:pt x="512" y="32"/>
                    <a:pt x="544" y="120"/>
                    <a:pt x="576" y="160"/>
                  </a:cubicBezTo>
                  <a:cubicBezTo>
                    <a:pt x="608" y="200"/>
                    <a:pt x="616" y="216"/>
                    <a:pt x="672" y="256"/>
                  </a:cubicBezTo>
                  <a:cubicBezTo>
                    <a:pt x="728" y="296"/>
                    <a:pt x="824" y="368"/>
                    <a:pt x="912" y="400"/>
                  </a:cubicBezTo>
                  <a:cubicBezTo>
                    <a:pt x="1000" y="432"/>
                    <a:pt x="1088" y="432"/>
                    <a:pt x="1200" y="448"/>
                  </a:cubicBezTo>
                  <a:cubicBezTo>
                    <a:pt x="1312" y="464"/>
                    <a:pt x="1520" y="488"/>
                    <a:pt x="1584" y="496"/>
                  </a:cubicBezTo>
                </a:path>
              </a:pathLst>
            </a:custGeom>
            <a:noFill/>
            <a:ln w="381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7160" y="2031480"/>
              <a:ext cx="266400" cy="371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67160" y="1752480"/>
              <a:ext cx="2933280" cy="1865160"/>
            </a:xfrm>
            <a:custGeom>
              <a:avLst/>
              <a:gdLst/>
              <a:ahLst/>
              <a:rect l="l" t="t" r="r" b="b"/>
              <a:pathLst>
                <a:path w="1584" h="962">
                  <a:moveTo>
                    <a:pt x="0" y="962"/>
                  </a:moveTo>
                  <a:cubicBezTo>
                    <a:pt x="30" y="926"/>
                    <a:pt x="134" y="819"/>
                    <a:pt x="182" y="744"/>
                  </a:cubicBezTo>
                  <a:cubicBezTo>
                    <a:pt x="230" y="669"/>
                    <a:pt x="255" y="606"/>
                    <a:pt x="288" y="514"/>
                  </a:cubicBezTo>
                  <a:cubicBezTo>
                    <a:pt x="321" y="422"/>
                    <a:pt x="348" y="278"/>
                    <a:pt x="379" y="192"/>
                  </a:cubicBezTo>
                  <a:cubicBezTo>
                    <a:pt x="410" y="106"/>
                    <a:pt x="447" y="0"/>
                    <a:pt x="475" y="0"/>
                  </a:cubicBezTo>
                  <a:cubicBezTo>
                    <a:pt x="503" y="0"/>
                    <a:pt x="516" y="110"/>
                    <a:pt x="547" y="192"/>
                  </a:cubicBezTo>
                  <a:cubicBezTo>
                    <a:pt x="578" y="274"/>
                    <a:pt x="601" y="395"/>
                    <a:pt x="662" y="490"/>
                  </a:cubicBezTo>
                  <a:cubicBezTo>
                    <a:pt x="723" y="585"/>
                    <a:pt x="822" y="702"/>
                    <a:pt x="912" y="764"/>
                  </a:cubicBezTo>
                  <a:cubicBezTo>
                    <a:pt x="1002" y="826"/>
                    <a:pt x="1088" y="827"/>
                    <a:pt x="1200" y="860"/>
                  </a:cubicBezTo>
                  <a:cubicBezTo>
                    <a:pt x="1312" y="893"/>
                    <a:pt x="1504" y="941"/>
                    <a:pt x="1584" y="962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311200" y="3706920"/>
              <a:ext cx="2844360" cy="336240"/>
              <a:chOff x="2311200" y="3706920"/>
              <a:chExt cx="2844360" cy="336240"/>
            </a:xfrm>
          </p:grpSpPr>
          <p:sp>
            <p:nvSpPr>
              <p:cNvPr id="165" name=""/>
              <p:cNvSpPr/>
              <p:nvPr/>
            </p:nvSpPr>
            <p:spPr>
              <a:xfrm>
                <a:off x="3111120" y="370692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311200" y="389268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466440" y="3892680"/>
                <a:ext cx="168912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3556080" y="3892680"/>
              <a:ext cx="2844000" cy="336240"/>
              <a:chOff x="3556080" y="3892680"/>
              <a:chExt cx="2844000" cy="336240"/>
            </a:xfrm>
          </p:grpSpPr>
          <p:sp>
            <p:nvSpPr>
              <p:cNvPr id="169" name=""/>
              <p:cNvSpPr/>
              <p:nvPr/>
            </p:nvSpPr>
            <p:spPr>
              <a:xfrm>
                <a:off x="4356000" y="3892680"/>
                <a:ext cx="533160" cy="336240"/>
              </a:xfrm>
              <a:prstGeom prst="rect">
                <a:avLst/>
              </a:prstGeom>
              <a:noFill/>
              <a:ln w="9360">
                <a:solidFill>
                  <a:srgbClr val="c755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0" lang="es-ES_tradnl" sz="1400" spc="-1" strike="noStrike" baseline="-25000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3556080" y="4078440"/>
                <a:ext cx="88848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1320" y="4078440"/>
                <a:ext cx="1688760" cy="0"/>
              </a:xfrm>
              <a:prstGeom prst="line">
                <a:avLst/>
              </a:prstGeom>
              <a:ln w="9360">
                <a:solidFill>
                  <a:srgbClr val="c7558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>
            <a:off x="2590920" y="5791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60033"/>
          </a:solidFill>
          <a:ln w="9360">
            <a:solidFill>
              <a:srgbClr val="c755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13:55:06Z</dcterms:created>
  <dc:creator>Ximena Vargas</dc:creator>
  <dc:description/>
  <dc:language>en-US</dc:language>
  <cp:lastModifiedBy>xv</cp:lastModifiedBy>
  <dcterms:modified xsi:type="dcterms:W3CDTF">2005-06-03T14:33:04Z</dcterms:modified>
  <cp:revision>1</cp:revision>
  <dc:subject/>
  <dc:title>Sin título de diapositiva</dc:title>
</cp:coreProperties>
</file>