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4C7-A84F-42B0-AEA2-2164A028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FFA-FCD5-4980-A895-FC0ACF11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AA3-2BF4-4FD2-9A58-1596351B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9B0-E2F7-4AC5-B6F9-73149C16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A9C-AB9A-4C96-85E6-D1A9B082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139-6CAC-4C5A-A93B-45E8AC73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F2D-DCB9-4174-8443-10C269A3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46C-7EE5-4CBE-AA81-DAACF86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171-7346-46C1-8561-B3685376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5A4-CD27-4236-9C1F-19CEF628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EEC-80EF-4AE8-9574-EACF3B5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D8C-BBC8-4D65-A0B7-D9D2167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90EE-94A2-4B43-8035-27CC7C441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la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5-31T18:23:19Z</dcterms:modified>
  <cp:revision>2</cp:revision>
  <dc:subject/>
  <dc:title>Sin título de diapositiva</dc:title>
</cp:coreProperties>
</file>