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1F4-43D1-43E6-8B14-F1046B84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707-5C7C-4477-B65D-D2F9AFC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592-59AC-4E72-B052-A1BCB5D3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6CD-5043-411A-B8B9-2CB0CBFF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E76-1BE3-4B76-853D-F1AD5AD0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A53-A9A3-46A0-91AF-DE34CD4E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E3B-1702-48BB-AC2E-7F7E28AD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EA6-CA5F-4E03-83CE-560CA155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AB7-9E20-4980-AD61-AD899E59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53E-529D-41F5-B137-B0EC5594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E2F-75E0-4D29-BAC2-6A1FB447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A80-C879-43F2-85A0-82A03FCC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83EB-FD45-4037-95C0-80C2A73A4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la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5-31T18:23:19Z</dcterms:modified>
  <cp:revision>2</cp:revision>
  <dc:subject/>
  <dc:title>Sin título de diapositiva</dc:title>
</cp:coreProperties>
</file>