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646-0FE6-4A97-AE67-4A48FA38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1EF-4A71-4544-A398-B8DEAFE4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720-7628-494B-B380-110542CF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96C-C85B-420A-98E0-72476DE5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E27-6860-495D-BD03-F870E9CD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321-152D-4D1B-BF51-BC857711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615-D93F-4D5A-B313-61D2AEB6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8BF-B3DF-459F-967C-337F6E5F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336-09E3-40A0-944D-CFF0A6C0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ECC-D616-4CC0-8E9C-9FE80A3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77E-52C9-48F3-A804-6EDFCEE8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CF6-11FE-43A9-AF21-915FD059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1211-6ACE-40F9-8B0C-8639479FD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la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5-31T18:23:19Z</dcterms:modified>
  <cp:revision>2</cp:revision>
  <dc:subject/>
  <dc:title>Sin título de diapositiva</dc:title>
</cp:coreProperties>
</file>