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EC8-108D-43A4-8D23-7821A653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147-FF51-4216-AA57-6C1D4857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F57-5357-455E-89C1-A80E08D2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5E2-B0DA-4502-9E19-CE9AC95B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673-5AC2-472D-BC3F-C9F46811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9C1-4CC5-4D30-97F8-00606EC0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983-0641-49AF-8441-5014871E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C03-E1AC-4090-B007-8CF77755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CEC-5164-415C-A4B7-62CD0A49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9CB9-B8AF-4EF3-B161-A63B5051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4AE-8DDC-4FF1-93B0-97FAD96D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35D-BEE2-4747-8824-C027F0B9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77DF-1B51-4F85-85B1-6966E9BAB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la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v</cp:lastModifiedBy>
  <dcterms:modified xsi:type="dcterms:W3CDTF">2005-05-31T18:23:19Z</dcterms:modified>
  <cp:revision>2</cp:revision>
  <dc:subject/>
  <dc:title>Sin título de diapositiva</dc:title>
</cp:coreProperties>
</file>