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386-32F8-4787-BAE2-6A4C8DCA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0F7-F784-46A1-9C6D-9C59645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B85-57DB-45E0-AEEB-599175FC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206-C5B0-4992-9574-75FBD6D9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A8C-953E-401B-A935-13E2FA2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3ED-977F-4017-A2A1-5C47D34D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BF4-969D-4855-890E-B245BD3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662-368A-4E9C-B96A-0ADC245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2BB-DFFC-4EE0-A822-05B6D08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3D0-C00B-4C12-928F-11549E2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BB3-4C16-40B2-9B15-26D448C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F1C-A267-4A3D-AEF4-6B3A68A4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10B-F75B-47E4-B8D5-B66828976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la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5-31T18:23:19Z</dcterms:modified>
  <cp:revision>2</cp:revision>
  <dc:subject/>
  <dc:title>Sin título de diapositiva</dc:title>
</cp:coreProperties>
</file>