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E84-B651-4905-B7B8-D5685CAF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579-0BBA-4EBB-BFA0-9F76820A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23E-5F38-4E26-9530-7E51A78D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95E-D7EC-4D0D-89A3-D259F26C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42F-3328-4A23-9467-C7A42E7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BB2-9F7D-4327-8EE0-918D98C1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D75-0B08-41B3-A360-BD56B3E0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EB4-80FA-41B3-8AE0-1782CB2A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E14-B308-4088-A787-3F1D759D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98C-2CFD-4678-82CD-1F34F32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6F2-44CA-4ECA-A1EC-C56E1C9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EA1-C908-476D-9E04-A43D58BD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F543-E5DE-49D3-98EA-F8731E09A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la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5-31T18:23:19Z</dcterms:modified>
  <cp:revision>2</cp:revision>
  <dc:subject/>
  <dc:title>Sin título de diapositiva</dc:title>
</cp:coreProperties>
</file>