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0FF-CEAC-429D-97F7-8276E12C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174-6F25-401B-85F3-D65C9430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E495-D4FF-4250-BCF5-A7F5268D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2DA-422A-4BAD-B085-8BB92F72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1ED-9D7A-47DA-A0A7-22D8C046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F2AD-5CB3-4A65-8FE1-52BFF3CA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7F0A-114C-4BE9-A725-6A81347C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12E-BC33-4E4B-B10B-37A04E7C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C204-A863-48C6-84B2-06BBDC4F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9EE-C41D-4971-B861-68FD698B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BD7-91A0-4A65-AD31-655AC542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65D9-D94A-43A8-81E8-D7DD29B8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E575-2E05-4B77-86AB-18C9034A4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AP8-4.ppt" TargetMode="External"/><Relationship Id="rId2" Type="http://schemas.openxmlformats.org/officeDocument/2006/relationships/slide" Target="slide16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845820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457200"/>
            <a:ext cx="6095880" cy="411480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57200"/>
            <a:ext cx="0" cy="4114800"/>
          </a:xfrm>
          <a:prstGeom prst="line">
            <a:avLst/>
          </a:prstGeom>
          <a:ln w="93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2514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9000" y="990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864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990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5308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5809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5809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629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55272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2438280"/>
            <a:ext cx="15228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4495680"/>
            <a:ext cx="15228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2438280"/>
            <a:ext cx="15228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4495680"/>
            <a:ext cx="15228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0574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057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0384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4191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4572000"/>
            <a:ext cx="28195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45720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3962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35812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5486400"/>
            <a:ext cx="4800600" cy="579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=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entrada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+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200040" y="6019920"/>
            <a:ext cx="304920" cy="45720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410080"/>
            <a:ext cx="2514600" cy="13424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se calcula con i par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y área =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380880"/>
            <a:ext cx="5181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de Verni y King (19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1600200"/>
            <a:ext cx="426708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0,00615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2666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pluvial a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343400"/>
            <a:ext cx="655308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 base de análisis dimensional y con datos de estaciones de nuestro paí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Usar para períodos de retorno de más de 50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8080" y="533520"/>
            <a:ext cx="48769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racional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4572000"/>
            <a:ext cx="59436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de Verni y King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5638680"/>
            <a:ext cx="5486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c(T) 0,00618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85345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6" dur="1" fill="hold"/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06400" y="663480"/>
            <a:ext cx="62946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0600" y="1150920"/>
            <a:ext cx="655632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80582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38080" y="304920"/>
            <a:ext cx="73152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0" y="5105520"/>
                <a:ext cx="57913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977760"/>
            <a:ext cx="7467480" cy="330228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25780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3429000"/>
            <a:ext cx="3570480" cy="84312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14400"/>
            <a:ext cx="0" cy="33526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752480"/>
            <a:ext cx="2362320" cy="2374920"/>
          </a:xfrm>
          <a:custGeom>
            <a:avLst/>
            <a:gdLst/>
            <a:ahLst/>
            <a:rect l="l" t="t" r="r" b="b"/>
            <a:pathLst>
              <a:path w="1488" h="1496">
                <a:moveTo>
                  <a:pt x="48" y="8"/>
                </a:moveTo>
                <a:cubicBezTo>
                  <a:pt x="24" y="4"/>
                  <a:pt x="0" y="0"/>
                  <a:pt x="240" y="248"/>
                </a:cubicBezTo>
                <a:cubicBezTo>
                  <a:pt x="480" y="496"/>
                  <a:pt x="1280" y="1288"/>
                  <a:pt x="1488" y="1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0"/>
            <a:ext cx="0" cy="434340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3276720"/>
            <a:ext cx="3570480" cy="84276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462480"/>
            <a:ext cx="6858000" cy="1795320"/>
          </a:xfrm>
          <a:custGeom>
            <a:avLst/>
            <a:gdLst/>
            <a:ahLst/>
            <a:rect l="l" t="t" r="r" b="b"/>
            <a:pathLst>
              <a:path w="4320" h="1131">
                <a:moveTo>
                  <a:pt x="0" y="411"/>
                </a:moveTo>
                <a:lnTo>
                  <a:pt x="1440" y="507"/>
                </a:lnTo>
                <a:lnTo>
                  <a:pt x="1669" y="0"/>
                </a:lnTo>
                <a:lnTo>
                  <a:pt x="2640" y="219"/>
                </a:lnTo>
                <a:lnTo>
                  <a:pt x="2976" y="123"/>
                </a:lnTo>
                <a:lnTo>
                  <a:pt x="4320" y="459"/>
                </a:lnTo>
                <a:lnTo>
                  <a:pt x="4320" y="1131"/>
                </a:lnTo>
                <a:lnTo>
                  <a:pt x="240" y="1131"/>
                </a:lnTo>
                <a:lnTo>
                  <a:pt x="240" y="411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685800"/>
            <a:ext cx="0" cy="304812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400800" y="990360"/>
            <a:ext cx="0" cy="28954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4427640" y="6021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057400" y="1828800"/>
            <a:ext cx="2085840" cy="2500200"/>
            <a:chOff x="2057400" y="1828800"/>
            <a:chExt cx="2085840" cy="2500200"/>
          </a:xfrm>
        </p:grpSpPr>
        <p:sp>
          <p:nvSpPr>
            <p:cNvPr id="67" name=""/>
            <p:cNvSpPr/>
            <p:nvPr/>
          </p:nvSpPr>
          <p:spPr>
            <a:xfrm>
              <a:off x="2057400" y="1828800"/>
              <a:ext cx="2085840" cy="2500200"/>
            </a:xfrm>
            <a:custGeom>
              <a:avLst/>
              <a:gdLst/>
              <a:ahLst/>
              <a:rect l="l" t="t" r="r" b="b"/>
              <a:pathLst>
                <a:path w="1400" h="1778">
                  <a:moveTo>
                    <a:pt x="144" y="1710"/>
                  </a:moveTo>
                  <a:cubicBezTo>
                    <a:pt x="122" y="1623"/>
                    <a:pt x="156" y="1739"/>
                    <a:pt x="112" y="1645"/>
                  </a:cubicBezTo>
                  <a:cubicBezTo>
                    <a:pt x="101" y="1622"/>
                    <a:pt x="99" y="1595"/>
                    <a:pt x="87" y="1572"/>
                  </a:cubicBezTo>
                  <a:cubicBezTo>
                    <a:pt x="76" y="1551"/>
                    <a:pt x="55" y="1508"/>
                    <a:pt x="55" y="1508"/>
                  </a:cubicBezTo>
                  <a:cubicBezTo>
                    <a:pt x="64" y="1385"/>
                    <a:pt x="52" y="1436"/>
                    <a:pt x="79" y="1354"/>
                  </a:cubicBezTo>
                  <a:cubicBezTo>
                    <a:pt x="85" y="1335"/>
                    <a:pt x="112" y="1305"/>
                    <a:pt x="112" y="1305"/>
                  </a:cubicBezTo>
                  <a:cubicBezTo>
                    <a:pt x="157" y="1117"/>
                    <a:pt x="102" y="956"/>
                    <a:pt x="63" y="778"/>
                  </a:cubicBezTo>
                  <a:cubicBezTo>
                    <a:pt x="49" y="715"/>
                    <a:pt x="43" y="653"/>
                    <a:pt x="23" y="591"/>
                  </a:cubicBezTo>
                  <a:cubicBezTo>
                    <a:pt x="0" y="384"/>
                    <a:pt x="33" y="154"/>
                    <a:pt x="241" y="56"/>
                  </a:cubicBezTo>
                  <a:cubicBezTo>
                    <a:pt x="322" y="18"/>
                    <a:pt x="415" y="17"/>
                    <a:pt x="501" y="0"/>
                  </a:cubicBezTo>
                  <a:cubicBezTo>
                    <a:pt x="631" y="3"/>
                    <a:pt x="760" y="1"/>
                    <a:pt x="890" y="8"/>
                  </a:cubicBezTo>
                  <a:cubicBezTo>
                    <a:pt x="912" y="9"/>
                    <a:pt x="955" y="24"/>
                    <a:pt x="955" y="24"/>
                  </a:cubicBezTo>
                  <a:cubicBezTo>
                    <a:pt x="989" y="47"/>
                    <a:pt x="1026" y="48"/>
                    <a:pt x="1060" y="73"/>
                  </a:cubicBezTo>
                  <a:cubicBezTo>
                    <a:pt x="1075" y="84"/>
                    <a:pt x="1087" y="100"/>
                    <a:pt x="1101" y="113"/>
                  </a:cubicBezTo>
                  <a:cubicBezTo>
                    <a:pt x="1187" y="197"/>
                    <a:pt x="1115" y="98"/>
                    <a:pt x="1190" y="178"/>
                  </a:cubicBezTo>
                  <a:cubicBezTo>
                    <a:pt x="1242" y="233"/>
                    <a:pt x="1276" y="304"/>
                    <a:pt x="1328" y="356"/>
                  </a:cubicBezTo>
                  <a:cubicBezTo>
                    <a:pt x="1348" y="406"/>
                    <a:pt x="1364" y="458"/>
                    <a:pt x="1377" y="510"/>
                  </a:cubicBezTo>
                  <a:cubicBezTo>
                    <a:pt x="1393" y="695"/>
                    <a:pt x="1400" y="945"/>
                    <a:pt x="1271" y="1102"/>
                  </a:cubicBezTo>
                  <a:cubicBezTo>
                    <a:pt x="1253" y="1158"/>
                    <a:pt x="1227" y="1168"/>
                    <a:pt x="1182" y="1200"/>
                  </a:cubicBezTo>
                  <a:cubicBezTo>
                    <a:pt x="1125" y="1241"/>
                    <a:pt x="1195" y="1209"/>
                    <a:pt x="1125" y="1248"/>
                  </a:cubicBezTo>
                  <a:cubicBezTo>
                    <a:pt x="1118" y="1252"/>
                    <a:pt x="1108" y="1252"/>
                    <a:pt x="1101" y="1256"/>
                  </a:cubicBezTo>
                  <a:cubicBezTo>
                    <a:pt x="1084" y="1266"/>
                    <a:pt x="1068" y="1278"/>
                    <a:pt x="1052" y="1289"/>
                  </a:cubicBezTo>
                  <a:cubicBezTo>
                    <a:pt x="1008" y="1318"/>
                    <a:pt x="1036" y="1297"/>
                    <a:pt x="979" y="1354"/>
                  </a:cubicBezTo>
                  <a:cubicBezTo>
                    <a:pt x="965" y="1368"/>
                    <a:pt x="947" y="1402"/>
                    <a:pt x="947" y="1402"/>
                  </a:cubicBezTo>
                  <a:cubicBezTo>
                    <a:pt x="933" y="1447"/>
                    <a:pt x="894" y="1486"/>
                    <a:pt x="858" y="1516"/>
                  </a:cubicBezTo>
                  <a:cubicBezTo>
                    <a:pt x="844" y="1559"/>
                    <a:pt x="803" y="1592"/>
                    <a:pt x="769" y="1621"/>
                  </a:cubicBezTo>
                  <a:cubicBezTo>
                    <a:pt x="582" y="1778"/>
                    <a:pt x="442" y="1705"/>
                    <a:pt x="144" y="171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71960" y="2340360"/>
              <a:ext cx="725400" cy="1904040"/>
            </a:xfrm>
            <a:custGeom>
              <a:avLst/>
              <a:gdLst/>
              <a:ahLst/>
              <a:rect l="l" t="t" r="r" b="b"/>
              <a:pathLst>
                <a:path w="487" h="1354">
                  <a:moveTo>
                    <a:pt x="0" y="1354"/>
                  </a:moveTo>
                  <a:cubicBezTo>
                    <a:pt x="30" y="1325"/>
                    <a:pt x="68" y="1286"/>
                    <a:pt x="89" y="1249"/>
                  </a:cubicBezTo>
                  <a:cubicBezTo>
                    <a:pt x="111" y="1210"/>
                    <a:pt x="124" y="1166"/>
                    <a:pt x="146" y="1127"/>
                  </a:cubicBezTo>
                  <a:cubicBezTo>
                    <a:pt x="182" y="1063"/>
                    <a:pt x="243" y="1011"/>
                    <a:pt x="284" y="949"/>
                  </a:cubicBezTo>
                  <a:cubicBezTo>
                    <a:pt x="289" y="942"/>
                    <a:pt x="288" y="933"/>
                    <a:pt x="292" y="925"/>
                  </a:cubicBezTo>
                  <a:cubicBezTo>
                    <a:pt x="320" y="867"/>
                    <a:pt x="352" y="811"/>
                    <a:pt x="381" y="754"/>
                  </a:cubicBezTo>
                  <a:cubicBezTo>
                    <a:pt x="403" y="711"/>
                    <a:pt x="419" y="665"/>
                    <a:pt x="446" y="625"/>
                  </a:cubicBezTo>
                  <a:cubicBezTo>
                    <a:pt x="456" y="594"/>
                    <a:pt x="477" y="582"/>
                    <a:pt x="487" y="552"/>
                  </a:cubicBezTo>
                  <a:cubicBezTo>
                    <a:pt x="471" y="485"/>
                    <a:pt x="412" y="445"/>
                    <a:pt x="389" y="381"/>
                  </a:cubicBezTo>
                  <a:cubicBezTo>
                    <a:pt x="392" y="335"/>
                    <a:pt x="390" y="289"/>
                    <a:pt x="398" y="244"/>
                  </a:cubicBezTo>
                  <a:cubicBezTo>
                    <a:pt x="404" y="210"/>
                    <a:pt x="430" y="146"/>
                    <a:pt x="430" y="146"/>
                  </a:cubicBezTo>
                  <a:cubicBezTo>
                    <a:pt x="427" y="122"/>
                    <a:pt x="430" y="96"/>
                    <a:pt x="422" y="73"/>
                  </a:cubicBezTo>
                  <a:cubicBezTo>
                    <a:pt x="416" y="55"/>
                    <a:pt x="402" y="39"/>
                    <a:pt x="389" y="25"/>
                  </a:cubicBezTo>
                  <a:cubicBezTo>
                    <a:pt x="381" y="17"/>
                    <a:pt x="365" y="0"/>
                    <a:pt x="36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83080" y="3094200"/>
              <a:ext cx="1196280" cy="580680"/>
            </a:xfrm>
            <a:custGeom>
              <a:avLst/>
              <a:gdLst/>
              <a:ahLst/>
              <a:rect l="l" t="t" r="r" b="b"/>
              <a:pathLst>
                <a:path w="803" h="413">
                  <a:moveTo>
                    <a:pt x="0" y="413"/>
                  </a:moveTo>
                  <a:cubicBezTo>
                    <a:pt x="49" y="403"/>
                    <a:pt x="90" y="385"/>
                    <a:pt x="138" y="372"/>
                  </a:cubicBezTo>
                  <a:cubicBezTo>
                    <a:pt x="167" y="353"/>
                    <a:pt x="182" y="329"/>
                    <a:pt x="211" y="308"/>
                  </a:cubicBezTo>
                  <a:cubicBezTo>
                    <a:pt x="237" y="228"/>
                    <a:pt x="370" y="211"/>
                    <a:pt x="438" y="194"/>
                  </a:cubicBezTo>
                  <a:cubicBezTo>
                    <a:pt x="510" y="140"/>
                    <a:pt x="565" y="104"/>
                    <a:pt x="657" y="89"/>
                  </a:cubicBezTo>
                  <a:cubicBezTo>
                    <a:pt x="686" y="75"/>
                    <a:pt x="705" y="59"/>
                    <a:pt x="730" y="40"/>
                  </a:cubicBezTo>
                  <a:cubicBezTo>
                    <a:pt x="745" y="29"/>
                    <a:pt x="760" y="14"/>
                    <a:pt x="778" y="8"/>
                  </a:cubicBezTo>
                  <a:cubicBezTo>
                    <a:pt x="786" y="5"/>
                    <a:pt x="803" y="0"/>
                    <a:pt x="80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00920" y="2451600"/>
              <a:ext cx="168480" cy="854640"/>
            </a:xfrm>
            <a:custGeom>
              <a:avLst/>
              <a:gdLst/>
              <a:ahLst/>
              <a:rect l="l" t="t" r="r" b="b"/>
              <a:pathLst>
                <a:path w="113" h="608">
                  <a:moveTo>
                    <a:pt x="0" y="608"/>
                  </a:moveTo>
                  <a:cubicBezTo>
                    <a:pt x="34" y="597"/>
                    <a:pt x="53" y="573"/>
                    <a:pt x="73" y="543"/>
                  </a:cubicBezTo>
                  <a:cubicBezTo>
                    <a:pt x="65" y="495"/>
                    <a:pt x="57" y="450"/>
                    <a:pt x="40" y="405"/>
                  </a:cubicBezTo>
                  <a:cubicBezTo>
                    <a:pt x="46" y="318"/>
                    <a:pt x="33" y="287"/>
                    <a:pt x="73" y="227"/>
                  </a:cubicBezTo>
                  <a:cubicBezTo>
                    <a:pt x="82" y="190"/>
                    <a:pt x="81" y="175"/>
                    <a:pt x="113" y="154"/>
                  </a:cubicBezTo>
                  <a:cubicBezTo>
                    <a:pt x="105" y="120"/>
                    <a:pt x="97" y="94"/>
                    <a:pt x="97" y="56"/>
                  </a:cubicBezTo>
                  <a:cubicBezTo>
                    <a:pt x="97" y="37"/>
                    <a:pt x="105" y="0"/>
                    <a:pt x="10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230880" y="731880"/>
            <a:ext cx="1378080" cy="3338640"/>
            <a:chOff x="6230880" y="731880"/>
            <a:chExt cx="1378080" cy="3338640"/>
          </a:xfrm>
        </p:grpSpPr>
        <p:sp>
          <p:nvSpPr>
            <p:cNvPr id="72" name=""/>
            <p:cNvSpPr/>
            <p:nvPr/>
          </p:nvSpPr>
          <p:spPr>
            <a:xfrm>
              <a:off x="6230880" y="731880"/>
              <a:ext cx="1378080" cy="3338640"/>
            </a:xfrm>
            <a:custGeom>
              <a:avLst/>
              <a:gdLst/>
              <a:ahLst/>
              <a:rect l="l" t="t" r="r" b="b"/>
              <a:pathLst>
                <a:path w="868" h="2103">
                  <a:moveTo>
                    <a:pt x="162" y="2052"/>
                  </a:moveTo>
                  <a:cubicBezTo>
                    <a:pt x="165" y="2039"/>
                    <a:pt x="166" y="2025"/>
                    <a:pt x="170" y="2012"/>
                  </a:cubicBezTo>
                  <a:cubicBezTo>
                    <a:pt x="174" y="1995"/>
                    <a:pt x="186" y="1963"/>
                    <a:pt x="186" y="1963"/>
                  </a:cubicBezTo>
                  <a:cubicBezTo>
                    <a:pt x="175" y="1910"/>
                    <a:pt x="161" y="1838"/>
                    <a:pt x="129" y="1793"/>
                  </a:cubicBezTo>
                  <a:cubicBezTo>
                    <a:pt x="112" y="1741"/>
                    <a:pt x="71" y="1693"/>
                    <a:pt x="40" y="1647"/>
                  </a:cubicBezTo>
                  <a:cubicBezTo>
                    <a:pt x="35" y="1516"/>
                    <a:pt x="31" y="1438"/>
                    <a:pt x="8" y="1323"/>
                  </a:cubicBezTo>
                  <a:cubicBezTo>
                    <a:pt x="13" y="1061"/>
                    <a:pt x="0" y="753"/>
                    <a:pt x="89" y="496"/>
                  </a:cubicBezTo>
                  <a:cubicBezTo>
                    <a:pt x="106" y="446"/>
                    <a:pt x="119" y="357"/>
                    <a:pt x="146" y="309"/>
                  </a:cubicBezTo>
                  <a:cubicBezTo>
                    <a:pt x="170" y="267"/>
                    <a:pt x="200" y="228"/>
                    <a:pt x="227" y="188"/>
                  </a:cubicBezTo>
                  <a:cubicBezTo>
                    <a:pt x="258" y="92"/>
                    <a:pt x="343" y="33"/>
                    <a:pt x="438" y="17"/>
                  </a:cubicBezTo>
                  <a:cubicBezTo>
                    <a:pt x="489" y="0"/>
                    <a:pt x="542" y="9"/>
                    <a:pt x="592" y="25"/>
                  </a:cubicBezTo>
                  <a:cubicBezTo>
                    <a:pt x="618" y="52"/>
                    <a:pt x="656" y="64"/>
                    <a:pt x="681" y="90"/>
                  </a:cubicBezTo>
                  <a:cubicBezTo>
                    <a:pt x="726" y="137"/>
                    <a:pt x="765" y="170"/>
                    <a:pt x="794" y="228"/>
                  </a:cubicBezTo>
                  <a:cubicBezTo>
                    <a:pt x="825" y="422"/>
                    <a:pt x="813" y="618"/>
                    <a:pt x="851" y="812"/>
                  </a:cubicBezTo>
                  <a:cubicBezTo>
                    <a:pt x="848" y="989"/>
                    <a:pt x="868" y="1219"/>
                    <a:pt x="827" y="1412"/>
                  </a:cubicBezTo>
                  <a:cubicBezTo>
                    <a:pt x="814" y="1476"/>
                    <a:pt x="794" y="1534"/>
                    <a:pt x="762" y="1590"/>
                  </a:cubicBezTo>
                  <a:cubicBezTo>
                    <a:pt x="752" y="1607"/>
                    <a:pt x="740" y="1623"/>
                    <a:pt x="729" y="1639"/>
                  </a:cubicBezTo>
                  <a:cubicBezTo>
                    <a:pt x="724" y="1647"/>
                    <a:pt x="713" y="1663"/>
                    <a:pt x="713" y="1663"/>
                  </a:cubicBezTo>
                  <a:cubicBezTo>
                    <a:pt x="703" y="1693"/>
                    <a:pt x="699" y="1718"/>
                    <a:pt x="681" y="1744"/>
                  </a:cubicBezTo>
                  <a:cubicBezTo>
                    <a:pt x="671" y="1786"/>
                    <a:pt x="644" y="1839"/>
                    <a:pt x="600" y="1858"/>
                  </a:cubicBezTo>
                  <a:cubicBezTo>
                    <a:pt x="577" y="1868"/>
                    <a:pt x="551" y="1874"/>
                    <a:pt x="527" y="1882"/>
                  </a:cubicBezTo>
                  <a:cubicBezTo>
                    <a:pt x="519" y="1885"/>
                    <a:pt x="502" y="1890"/>
                    <a:pt x="502" y="1890"/>
                  </a:cubicBezTo>
                  <a:cubicBezTo>
                    <a:pt x="460" y="1934"/>
                    <a:pt x="412" y="1945"/>
                    <a:pt x="356" y="1963"/>
                  </a:cubicBezTo>
                  <a:cubicBezTo>
                    <a:pt x="340" y="1968"/>
                    <a:pt x="324" y="1974"/>
                    <a:pt x="308" y="1979"/>
                  </a:cubicBezTo>
                  <a:cubicBezTo>
                    <a:pt x="300" y="1982"/>
                    <a:pt x="284" y="1987"/>
                    <a:pt x="284" y="1987"/>
                  </a:cubicBezTo>
                  <a:cubicBezTo>
                    <a:pt x="263" y="2008"/>
                    <a:pt x="247" y="2019"/>
                    <a:pt x="219" y="2028"/>
                  </a:cubicBezTo>
                  <a:cubicBezTo>
                    <a:pt x="211" y="2036"/>
                    <a:pt x="138" y="2103"/>
                    <a:pt x="162" y="20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26080" y="1158840"/>
              <a:ext cx="463680" cy="2830680"/>
            </a:xfrm>
            <a:custGeom>
              <a:avLst/>
              <a:gdLst/>
              <a:ahLst/>
              <a:rect l="l" t="t" r="r" b="b"/>
              <a:pathLst>
                <a:path w="292" h="1783">
                  <a:moveTo>
                    <a:pt x="0" y="1783"/>
                  </a:moveTo>
                  <a:cubicBezTo>
                    <a:pt x="15" y="1760"/>
                    <a:pt x="37" y="1743"/>
                    <a:pt x="49" y="1718"/>
                  </a:cubicBezTo>
                  <a:cubicBezTo>
                    <a:pt x="53" y="1710"/>
                    <a:pt x="53" y="1701"/>
                    <a:pt x="57" y="1694"/>
                  </a:cubicBezTo>
                  <a:cubicBezTo>
                    <a:pt x="66" y="1677"/>
                    <a:pt x="83" y="1664"/>
                    <a:pt x="89" y="1646"/>
                  </a:cubicBezTo>
                  <a:cubicBezTo>
                    <a:pt x="95" y="1630"/>
                    <a:pt x="100" y="1613"/>
                    <a:pt x="106" y="1597"/>
                  </a:cubicBezTo>
                  <a:cubicBezTo>
                    <a:pt x="109" y="1589"/>
                    <a:pt x="114" y="1573"/>
                    <a:pt x="114" y="1573"/>
                  </a:cubicBezTo>
                  <a:cubicBezTo>
                    <a:pt x="130" y="1478"/>
                    <a:pt x="145" y="1380"/>
                    <a:pt x="179" y="1289"/>
                  </a:cubicBezTo>
                  <a:cubicBezTo>
                    <a:pt x="188" y="1237"/>
                    <a:pt x="198" y="1191"/>
                    <a:pt x="219" y="1143"/>
                  </a:cubicBezTo>
                  <a:cubicBezTo>
                    <a:pt x="231" y="1114"/>
                    <a:pt x="228" y="1092"/>
                    <a:pt x="252" y="1070"/>
                  </a:cubicBezTo>
                  <a:cubicBezTo>
                    <a:pt x="264" y="1032"/>
                    <a:pt x="271" y="990"/>
                    <a:pt x="292" y="956"/>
                  </a:cubicBezTo>
                  <a:cubicBezTo>
                    <a:pt x="289" y="929"/>
                    <a:pt x="289" y="902"/>
                    <a:pt x="284" y="875"/>
                  </a:cubicBezTo>
                  <a:cubicBezTo>
                    <a:pt x="276" y="831"/>
                    <a:pt x="249" y="796"/>
                    <a:pt x="235" y="754"/>
                  </a:cubicBezTo>
                  <a:cubicBezTo>
                    <a:pt x="224" y="588"/>
                    <a:pt x="222" y="614"/>
                    <a:pt x="235" y="405"/>
                  </a:cubicBezTo>
                  <a:cubicBezTo>
                    <a:pt x="237" y="369"/>
                    <a:pt x="259" y="327"/>
                    <a:pt x="268" y="292"/>
                  </a:cubicBezTo>
                  <a:cubicBezTo>
                    <a:pt x="263" y="232"/>
                    <a:pt x="262" y="168"/>
                    <a:pt x="235" y="113"/>
                  </a:cubicBezTo>
                  <a:cubicBezTo>
                    <a:pt x="219" y="81"/>
                    <a:pt x="202" y="51"/>
                    <a:pt x="179" y="24"/>
                  </a:cubicBezTo>
                  <a:cubicBezTo>
                    <a:pt x="160" y="1"/>
                    <a:pt x="162" y="18"/>
                    <a:pt x="162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59520" y="1608120"/>
              <a:ext cx="506520" cy="1133640"/>
            </a:xfrm>
            <a:custGeom>
              <a:avLst/>
              <a:gdLst/>
              <a:ahLst/>
              <a:rect l="l" t="t" r="r" b="b"/>
              <a:pathLst>
                <a:path w="319" h="714">
                  <a:moveTo>
                    <a:pt x="3" y="714"/>
                  </a:moveTo>
                  <a:cubicBezTo>
                    <a:pt x="15" y="627"/>
                    <a:pt x="0" y="609"/>
                    <a:pt x="52" y="560"/>
                  </a:cubicBezTo>
                  <a:cubicBezTo>
                    <a:pt x="61" y="533"/>
                    <a:pt x="64" y="504"/>
                    <a:pt x="76" y="479"/>
                  </a:cubicBezTo>
                  <a:cubicBezTo>
                    <a:pt x="104" y="422"/>
                    <a:pt x="160" y="367"/>
                    <a:pt x="214" y="333"/>
                  </a:cubicBezTo>
                  <a:cubicBezTo>
                    <a:pt x="224" y="302"/>
                    <a:pt x="235" y="294"/>
                    <a:pt x="262" y="276"/>
                  </a:cubicBezTo>
                  <a:cubicBezTo>
                    <a:pt x="268" y="260"/>
                    <a:pt x="273" y="243"/>
                    <a:pt x="279" y="227"/>
                  </a:cubicBezTo>
                  <a:cubicBezTo>
                    <a:pt x="282" y="219"/>
                    <a:pt x="287" y="203"/>
                    <a:pt x="287" y="203"/>
                  </a:cubicBezTo>
                  <a:cubicBezTo>
                    <a:pt x="298" y="137"/>
                    <a:pt x="319" y="67"/>
                    <a:pt x="319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27920" y="990720"/>
              <a:ext cx="309600" cy="1108080"/>
            </a:xfrm>
            <a:custGeom>
              <a:avLst/>
              <a:gdLst/>
              <a:ahLst/>
              <a:rect l="l" t="t" r="r" b="b"/>
              <a:pathLst>
                <a:path w="195" h="698">
                  <a:moveTo>
                    <a:pt x="195" y="698"/>
                  </a:moveTo>
                  <a:cubicBezTo>
                    <a:pt x="179" y="695"/>
                    <a:pt x="161" y="697"/>
                    <a:pt x="146" y="689"/>
                  </a:cubicBezTo>
                  <a:cubicBezTo>
                    <a:pt x="91" y="661"/>
                    <a:pt x="134" y="528"/>
                    <a:pt x="155" y="471"/>
                  </a:cubicBezTo>
                  <a:cubicBezTo>
                    <a:pt x="146" y="381"/>
                    <a:pt x="142" y="317"/>
                    <a:pt x="122" y="235"/>
                  </a:cubicBezTo>
                  <a:cubicBezTo>
                    <a:pt x="117" y="185"/>
                    <a:pt x="127" y="123"/>
                    <a:pt x="73" y="106"/>
                  </a:cubicBezTo>
                  <a:cubicBezTo>
                    <a:pt x="50" y="81"/>
                    <a:pt x="36" y="46"/>
                    <a:pt x="17" y="17"/>
                  </a:cubicBezTo>
                  <a:cubicBezTo>
                    <a:pt x="13" y="10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581280" y="457200"/>
            <a:ext cx="2590920" cy="1015920"/>
          </a:xfrm>
          <a:prstGeom prst="rect">
            <a:avLst/>
          </a:prstGeom>
          <a:solidFill>
            <a:srgbClr val="c75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re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Precipitació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733920" y="1371600"/>
            <a:ext cx="45720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1371600"/>
            <a:ext cx="838440" cy="6858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14400" y="1447920"/>
            <a:ext cx="2819520" cy="2590560"/>
            <a:chOff x="914400" y="1447920"/>
            <a:chExt cx="2819520" cy="2590560"/>
          </a:xfrm>
        </p:grpSpPr>
        <p:sp>
          <p:nvSpPr>
            <p:cNvPr id="80" name=""/>
            <p:cNvSpPr/>
            <p:nvPr/>
          </p:nvSpPr>
          <p:spPr>
            <a:xfrm>
              <a:off x="1600200" y="2400480"/>
              <a:ext cx="2133720" cy="163800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14400" y="1447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9680" y="1828800"/>
              <a:ext cx="68580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85800" y="2438280"/>
            <a:ext cx="3048120" cy="1638360"/>
            <a:chOff x="685800" y="2438280"/>
            <a:chExt cx="3048120" cy="1638360"/>
          </a:xfrm>
        </p:grpSpPr>
        <p:sp>
          <p:nvSpPr>
            <p:cNvPr id="84" name=""/>
            <p:cNvSpPr/>
            <p:nvPr/>
          </p:nvSpPr>
          <p:spPr>
            <a:xfrm>
              <a:off x="1600200" y="243828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580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33720" y="3352680"/>
              <a:ext cx="609480" cy="763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438280" y="4952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ferencias de los hid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838080"/>
            <a:ext cx="44197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iempo de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286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4572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Gian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724280" y="3849840"/>
                <a:ext cx="2895840" cy="13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0,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419720" y="5481720"/>
                <a:ext cx="24382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3,6</m:t>
                        </m:r>
                      </m:den>
                    </m:f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5,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3809880" y="44197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886200" y="1828800"/>
                <a:ext cx="32637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429000" y="22096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4640" y="476280"/>
            <a:ext cx="766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www.lmnoeng.com/Hydrology/TimeConc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908000" y="2565360"/>
                <a:ext cx="251964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0,6</m:t>
                            </m:r>
                          </m:den>
                        </m:f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0,8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0,7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00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879480" y="1757520"/>
            <a:ext cx="1896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Lag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64000" y="2924280"/>
            <a:ext cx="3384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S: almacenamiento potencial de agua en el suelo (C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4680" y="4797360"/>
            <a:ext cx="4743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C=Time of concentration [hour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L=Lag time [hour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l=Hydraulic length of watershed [feet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Y=Average land slope [percent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S=Potential maximum retention [inche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CN=Weighed Curve Nu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52080" y="1773360"/>
            <a:ext cx="544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www.hydrocad.net/6166b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445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onlinetc.sdsu.edu/kerby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Fórmula de Verni y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457200"/>
            <a:ext cx="45720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eficiente de Escorrent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1143000"/>
            <a:ext cx="6934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(tipo de superficie, Periodo de reto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80880" y="1752480"/>
            <a:ext cx="7543800" cy="3240720"/>
            <a:chOff x="380880" y="1752480"/>
            <a:chExt cx="7543800" cy="3240720"/>
          </a:xfrm>
        </p:grpSpPr>
        <p:sp>
          <p:nvSpPr>
            <p:cNvPr id="109" name=""/>
            <p:cNvSpPr/>
            <p:nvPr/>
          </p:nvSpPr>
          <p:spPr>
            <a:xfrm>
              <a:off x="380880" y="2819520"/>
              <a:ext cx="3962520" cy="21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arenosos  o con altas tasas de infilt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con tasas de infiltración baj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43400" y="1752480"/>
              <a:ext cx="1981080" cy="324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Cultiv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1752480"/>
              <a:ext cx="1676160" cy="324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Bosco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57200" y="5105520"/>
            <a:ext cx="6858000" cy="1572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5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5....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sfalt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7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Bosques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4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5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190512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7558e"/>
              </a:gs>
              <a:gs pos="50000">
                <a:srgbClr val="660033"/>
              </a:gs>
              <a:gs pos="100000">
                <a:srgbClr val="c7558e"/>
              </a:gs>
            </a:gsLst>
            <a:lin ang="13500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723960"/>
            <a:ext cx="1600200" cy="5448240"/>
          </a:xfrm>
          <a:custGeom>
            <a:avLst/>
            <a:gdLst/>
            <a:ahLst/>
            <a:rect l="l" t="t" r="r" b="b"/>
            <a:pathLst>
              <a:path w="1008" h="3432">
                <a:moveTo>
                  <a:pt x="0" y="264"/>
                </a:moveTo>
                <a:cubicBezTo>
                  <a:pt x="116" y="132"/>
                  <a:pt x="232" y="0"/>
                  <a:pt x="384" y="24"/>
                </a:cubicBezTo>
                <a:cubicBezTo>
                  <a:pt x="536" y="48"/>
                  <a:pt x="816" y="16"/>
                  <a:pt x="912" y="408"/>
                </a:cubicBezTo>
                <a:cubicBezTo>
                  <a:pt x="1008" y="800"/>
                  <a:pt x="1008" y="1904"/>
                  <a:pt x="960" y="2376"/>
                </a:cubicBezTo>
                <a:cubicBezTo>
                  <a:pt x="912" y="2848"/>
                  <a:pt x="768" y="3064"/>
                  <a:pt x="624" y="3240"/>
                </a:cubicBezTo>
                <a:cubicBezTo>
                  <a:pt x="480" y="3416"/>
                  <a:pt x="288" y="3424"/>
                  <a:pt x="96" y="3432"/>
                </a:cubicBezTo>
              </a:path>
            </a:pathLst>
          </a:custGeom>
          <a:noFill/>
          <a:ln w="572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457200"/>
            <a:ext cx="579132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ntensidad media máxima en t=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129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o determinar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1981080"/>
            <a:ext cx="3352680" cy="27349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Curvas I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soyetas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max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di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 CD y C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Gru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2971800"/>
            <a:ext cx="3943440" cy="2496960"/>
          </a:xfrm>
          <a:custGeom>
            <a:avLst/>
            <a:gdLst/>
            <a:ahLst/>
            <a:rect l="l" t="t" r="r" b="b"/>
            <a:pathLst>
              <a:path w="2484" h="1573">
                <a:moveTo>
                  <a:pt x="0" y="0"/>
                </a:moveTo>
                <a:cubicBezTo>
                  <a:pt x="41" y="119"/>
                  <a:pt x="93" y="495"/>
                  <a:pt x="246" y="714"/>
                </a:cubicBezTo>
                <a:cubicBezTo>
                  <a:pt x="399" y="933"/>
                  <a:pt x="592" y="1177"/>
                  <a:pt x="919" y="1314"/>
                </a:cubicBezTo>
                <a:cubicBezTo>
                  <a:pt x="1246" y="1451"/>
                  <a:pt x="1953" y="1499"/>
                  <a:pt x="2208" y="1536"/>
                </a:cubicBezTo>
                <a:cubicBezTo>
                  <a:pt x="2463" y="1573"/>
                  <a:pt x="2484" y="1552"/>
                  <a:pt x="2448" y="15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2895480"/>
            <a:ext cx="4000320" cy="2406600"/>
          </a:xfrm>
          <a:custGeom>
            <a:avLst/>
            <a:gdLst/>
            <a:ahLst/>
            <a:rect l="l" t="t" r="r" b="b"/>
            <a:pathLst>
              <a:path w="2520" h="1516">
                <a:moveTo>
                  <a:pt x="0" y="0"/>
                </a:moveTo>
                <a:cubicBezTo>
                  <a:pt x="36" y="103"/>
                  <a:pt x="97" y="440"/>
                  <a:pt x="217" y="616"/>
                </a:cubicBezTo>
                <a:cubicBezTo>
                  <a:pt x="337" y="792"/>
                  <a:pt x="532" y="934"/>
                  <a:pt x="720" y="1056"/>
                </a:cubicBezTo>
                <a:cubicBezTo>
                  <a:pt x="908" y="1178"/>
                  <a:pt x="1120" y="1276"/>
                  <a:pt x="1344" y="1346"/>
                </a:cubicBezTo>
                <a:cubicBezTo>
                  <a:pt x="1568" y="1416"/>
                  <a:pt x="1870" y="1448"/>
                  <a:pt x="2066" y="1476"/>
                </a:cubicBezTo>
                <a:cubicBezTo>
                  <a:pt x="2262" y="1504"/>
                  <a:pt x="2426" y="1508"/>
                  <a:pt x="2520" y="1516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666880"/>
            <a:ext cx="3992760" cy="2425680"/>
          </a:xfrm>
          <a:custGeom>
            <a:avLst/>
            <a:gdLst/>
            <a:ahLst/>
            <a:rect l="l" t="t" r="r" b="b"/>
            <a:pathLst>
              <a:path w="2515" h="1528">
                <a:moveTo>
                  <a:pt x="0" y="0"/>
                </a:moveTo>
                <a:cubicBezTo>
                  <a:pt x="52" y="120"/>
                  <a:pt x="104" y="240"/>
                  <a:pt x="192" y="384"/>
                </a:cubicBezTo>
                <a:cubicBezTo>
                  <a:pt x="280" y="528"/>
                  <a:pt x="360" y="712"/>
                  <a:pt x="528" y="864"/>
                </a:cubicBezTo>
                <a:cubicBezTo>
                  <a:pt x="696" y="1016"/>
                  <a:pt x="953" y="1192"/>
                  <a:pt x="1200" y="1296"/>
                </a:cubicBezTo>
                <a:cubicBezTo>
                  <a:pt x="1447" y="1400"/>
                  <a:pt x="1793" y="1452"/>
                  <a:pt x="2012" y="1490"/>
                </a:cubicBezTo>
                <a:cubicBezTo>
                  <a:pt x="2231" y="1528"/>
                  <a:pt x="2410" y="1516"/>
                  <a:pt x="2515" y="1523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962520"/>
            <a:ext cx="304920" cy="5331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" y="2286000"/>
            <a:ext cx="5334120" cy="3965040"/>
            <a:chOff x="457200" y="2286000"/>
            <a:chExt cx="5334120" cy="3965040"/>
          </a:xfrm>
        </p:grpSpPr>
        <p:sp>
          <p:nvSpPr>
            <p:cNvPr id="124" name=""/>
            <p:cNvSpPr/>
            <p:nvPr/>
          </p:nvSpPr>
          <p:spPr>
            <a:xfrm flipV="1">
              <a:off x="990720" y="2590920"/>
              <a:ext cx="0" cy="304776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90720" y="5638680"/>
              <a:ext cx="4190760" cy="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91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V="1">
            <a:off x="32004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990720" y="4800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academico</cp:lastModifiedBy>
  <dcterms:modified xsi:type="dcterms:W3CDTF">2007-10-29T14:35:05Z</dcterms:modified>
  <cp:revision>26</cp:revision>
  <dc:subject/>
  <dc:title>CAPITULO 8</dc:title>
</cp:coreProperties>
</file>