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8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42E8-F795-42B0-89A6-B04BEAFFE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D3B8-D704-4655-88C0-455069C50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0179-CBBF-4217-872E-93746F7B6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70A3-A6F8-4520-A83D-795CD281B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2831-7F43-4308-A4EE-BAA7B6111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4823-A074-4082-823D-F9E3BFCEC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668D-33E6-41E0-B1AA-AA2766529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3935-8299-444E-90A5-49A9EC1E8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757C-170D-420C-9590-BA6D686C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9F27-31F0-4886-83BB-455806E9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ABB0-D152-4888-9A44-46F14ACA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6455-BACA-404E-A0F2-BD610D5C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5C105-B89E-4743-AED7-9E651C8B43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38080" y="1006560"/>
            <a:ext cx="7162920" cy="5059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71600" y="129528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apítulo 7 continu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485640"/>
            <a:ext cx="8305920" cy="63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228600" y="685800"/>
            <a:ext cx="8499600" cy="6172200"/>
            <a:chOff x="228600" y="685800"/>
            <a:chExt cx="8499600" cy="6172200"/>
          </a:xfrm>
        </p:grpSpPr>
        <p:pic>
          <p:nvPicPr>
            <p:cNvPr id="83" name="" descr=""/>
            <p:cNvPicPr/>
            <p:nvPr/>
          </p:nvPicPr>
          <p:blipFill>
            <a:blip r:embed="rId1"/>
            <a:stretch/>
          </p:blipFill>
          <p:spPr>
            <a:xfrm>
              <a:off x="228600" y="685800"/>
              <a:ext cx="8499600" cy="617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4343400" y="6324480"/>
              <a:ext cx="304920" cy="32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33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019920" y="6324480"/>
              <a:ext cx="484200" cy="38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33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629400" y="6324480"/>
              <a:ext cx="457200" cy="38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3300"/>
                  </a:solidFill>
                  <a:latin typeface="Times New Roma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086600" y="6324480"/>
              <a:ext cx="468360" cy="38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3300"/>
                  </a:solidFill>
                  <a:latin typeface="Times New Roman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43800" y="6324480"/>
              <a:ext cx="55548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3300"/>
                  </a:solidFill>
                  <a:latin typeface="Times New Roman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90720" y="533520"/>
            <a:ext cx="441936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stribución Gam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2971800" y="1981080"/>
                <a:ext cx="3225960" cy="12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λx</m:t>
                            </m:r>
                          </m:sup>
                        </m:sSup>
                      </m:num>
                      <m:den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1905120" y="3809880"/>
            <a:ext cx="4267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Symbol"/>
                <a:ea typeface="Symbol"/>
              </a:rPr>
              <a:t></a:t>
            </a: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(k)=(k-1)!       Si k ent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6248520" y="4267080"/>
                <a:ext cx="243828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u</m:t>
                            </m:r>
                          </m:sup>
                        </m:sSup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1143000" y="5181480"/>
            <a:ext cx="4419720" cy="825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abulada en función de gamma incompl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5562360" y="4800600"/>
            <a:ext cx="533160" cy="5335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286000" y="1371600"/>
                <a:ext cx="5016600" cy="13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λ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4876920" y="3200400"/>
            <a:ext cx="297180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m(t)=(1-t/</a:t>
            </a:r>
            <a:r>
              <a:rPr b="1" lang="en-US" sz="2400" spc="-1" strike="noStrike">
                <a:solidFill>
                  <a:srgbClr val="6633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) </a:t>
            </a:r>
            <a:r>
              <a:rPr b="1" lang="en-US" sz="2400" spc="-1" strike="noStrike" baseline="30000">
                <a:solidFill>
                  <a:srgbClr val="663300"/>
                </a:solidFill>
                <a:latin typeface="Tahoma"/>
              </a:rPr>
              <a:t>-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762120" y="3657600"/>
                <a:ext cx="1420560" cy="13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2514600" y="3733920"/>
                <a:ext cx="171288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4343400" y="4238640"/>
                <a:ext cx="144792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6019920" y="4191120"/>
                <a:ext cx="144756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914400" y="5943600"/>
            <a:ext cx="739152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De ábaco se obtiene F(u)=P(x</a:t>
            </a:r>
            <a:r>
              <a:rPr b="1" lang="en-US" sz="2400" spc="-1" strike="noStrike">
                <a:solidFill>
                  <a:srgbClr val="6633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162920" y="5943600"/>
            <a:ext cx="152388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u=x/</a:t>
            </a:r>
            <a:r>
              <a:rPr b="1" lang="en-US" sz="2400" spc="-1" strike="noStrike">
                <a:solidFill>
                  <a:srgbClr val="6633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371600" y="533520"/>
            <a:ext cx="632448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trema tip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438280" y="1676520"/>
                <a:ext cx="3079800" cy="11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p>
                          <m:e>
                            <m:r>
                              <m:t xml:space="preserve">−</m:t>
                            </m:r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Q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762120" y="3352680"/>
                <a:ext cx="2119320" cy="152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S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4991040" y="3657600"/>
                <a:ext cx="41529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77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2209680" y="5562720"/>
            <a:ext cx="594360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Variable reducida   y=(x-u)/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533520" y="539640"/>
                <a:ext cx="6781680" cy="317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Variable</m:t>
                        </m:r>
                        <m:sSub>
                          <m:e/>
                          <m:sub/>
                        </m:sSub>
                        <m:r>
                          <m:rPr>
                            <m:lit/>
                            <m:nor/>
                          </m:rPr>
                          <m:t xml:space="preserve">estandarizada</m:t>
                        </m:r>
                        <m:sSub>
                          <m:e/>
                          <m:sub/>
                        </m:sSub>
                        <m:r>
                          <m:t xml:space="preserve">z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</m:e>
                      <m:e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z</m:t>
                            </m:r>
                          </m:sup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</m:e>
                                </m:rad>
                              </m:den>
                            </m:f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914400" y="4495680"/>
            <a:ext cx="7924680" cy="11692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B=½ [1+0,196854|z|+0,115194 |z|</a:t>
            </a:r>
            <a:r>
              <a:rPr b="1" lang="en-US" sz="2800" spc="-1" strike="noStrike" baseline="30000">
                <a:solidFill>
                  <a:srgbClr val="663300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            </a:t>
            </a: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0,000344 |z|</a:t>
            </a:r>
            <a:r>
              <a:rPr b="1" lang="en-US" sz="2800" spc="-1" strike="noStrike" baseline="30000">
                <a:solidFill>
                  <a:srgbClr val="663300"/>
                </a:solidFill>
                <a:latin typeface="Tahoma"/>
              </a:rPr>
              <a:t>3</a:t>
            </a: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+0,019527 |z|</a:t>
            </a:r>
            <a:r>
              <a:rPr b="1" lang="en-US" sz="2800" spc="-1" strike="noStrike" baseline="30000">
                <a:solidFill>
                  <a:srgbClr val="663300"/>
                </a:solidFill>
                <a:latin typeface="Tahoma"/>
              </a:rPr>
              <a:t>4</a:t>
            </a: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] </a:t>
            </a:r>
            <a:r>
              <a:rPr b="1" lang="en-US" sz="2800" spc="-1" strike="noStrike" baseline="30000">
                <a:solidFill>
                  <a:srgbClr val="663300"/>
                </a:solidFill>
                <a:latin typeface="Tahoma"/>
              </a:rPr>
              <a:t>-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6019920"/>
            <a:ext cx="640080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Z&lt;0     F(z)=B            z&gt;0      F(z)=1-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477120" y="5943600"/>
            <a:ext cx="266688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Error&lt;0,000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fdp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715000" y="2057400"/>
            <a:ext cx="2971800" cy="2209680"/>
            <a:chOff x="5715000" y="2057400"/>
            <a:chExt cx="2971800" cy="2209680"/>
          </a:xfrm>
        </p:grpSpPr>
        <p:sp>
          <p:nvSpPr>
            <p:cNvPr id="49" name=""/>
            <p:cNvSpPr/>
            <p:nvPr/>
          </p:nvSpPr>
          <p:spPr>
            <a:xfrm>
              <a:off x="5715000" y="2057400"/>
              <a:ext cx="2819520" cy="2209680"/>
            </a:xfrm>
            <a:prstGeom prst="rect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5791320" y="2362320"/>
              <a:ext cx="2895480" cy="1792800"/>
              <a:chOff x="5791320" y="2362320"/>
              <a:chExt cx="2895480" cy="1792800"/>
            </a:xfrm>
          </p:grpSpPr>
          <p:sp>
            <p:nvSpPr>
              <p:cNvPr id="51" name=""/>
              <p:cNvSpPr/>
              <p:nvPr/>
            </p:nvSpPr>
            <p:spPr>
              <a:xfrm>
                <a:off x="6177240" y="2717640"/>
                <a:ext cx="1698840" cy="792360"/>
              </a:xfrm>
              <a:custGeom>
                <a:avLst/>
                <a:gdLst/>
                <a:ahLst/>
                <a:rect l="l" t="t" r="r" b="b"/>
                <a:pathLst>
                  <a:path w="2112" h="856">
                    <a:moveTo>
                      <a:pt x="0" y="816"/>
                    </a:moveTo>
                    <a:cubicBezTo>
                      <a:pt x="120" y="836"/>
                      <a:pt x="240" y="856"/>
                      <a:pt x="336" y="816"/>
                    </a:cubicBezTo>
                    <a:cubicBezTo>
                      <a:pt x="432" y="776"/>
                      <a:pt x="512" y="656"/>
                      <a:pt x="576" y="576"/>
                    </a:cubicBezTo>
                    <a:cubicBezTo>
                      <a:pt x="640" y="496"/>
                      <a:pt x="640" y="432"/>
                      <a:pt x="720" y="336"/>
                    </a:cubicBezTo>
                    <a:cubicBezTo>
                      <a:pt x="800" y="240"/>
                      <a:pt x="936" y="0"/>
                      <a:pt x="1056" y="0"/>
                    </a:cubicBezTo>
                    <a:cubicBezTo>
                      <a:pt x="1176" y="0"/>
                      <a:pt x="1328" y="216"/>
                      <a:pt x="1440" y="336"/>
                    </a:cubicBezTo>
                    <a:cubicBezTo>
                      <a:pt x="1552" y="456"/>
                      <a:pt x="1616" y="640"/>
                      <a:pt x="1728" y="720"/>
                    </a:cubicBezTo>
                    <a:cubicBezTo>
                      <a:pt x="1840" y="800"/>
                      <a:pt x="1976" y="808"/>
                      <a:pt x="2112" y="81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026480" y="2362320"/>
                <a:ext cx="0" cy="1199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5984280" y="3562200"/>
                <a:ext cx="2277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161040" y="2710440"/>
                <a:ext cx="922320" cy="849960"/>
              </a:xfrm>
              <a:custGeom>
                <a:avLst/>
                <a:gdLst/>
                <a:ahLst/>
                <a:rect l="l" t="t" r="r" b="b"/>
                <a:pathLst>
                  <a:path w="1147" h="918">
                    <a:moveTo>
                      <a:pt x="20" y="824"/>
                    </a:moveTo>
                    <a:cubicBezTo>
                      <a:pt x="140" y="844"/>
                      <a:pt x="260" y="864"/>
                      <a:pt x="356" y="824"/>
                    </a:cubicBezTo>
                    <a:cubicBezTo>
                      <a:pt x="452" y="784"/>
                      <a:pt x="532" y="664"/>
                      <a:pt x="596" y="584"/>
                    </a:cubicBezTo>
                    <a:cubicBezTo>
                      <a:pt x="660" y="504"/>
                      <a:pt x="691" y="423"/>
                      <a:pt x="740" y="344"/>
                    </a:cubicBezTo>
                    <a:cubicBezTo>
                      <a:pt x="789" y="265"/>
                      <a:pt x="848" y="158"/>
                      <a:pt x="890" y="108"/>
                    </a:cubicBezTo>
                    <a:cubicBezTo>
                      <a:pt x="932" y="58"/>
                      <a:pt x="960" y="62"/>
                      <a:pt x="995" y="46"/>
                    </a:cubicBezTo>
                    <a:cubicBezTo>
                      <a:pt x="1030" y="30"/>
                      <a:pt x="1084" y="0"/>
                      <a:pt x="1100" y="14"/>
                    </a:cubicBezTo>
                    <a:cubicBezTo>
                      <a:pt x="1116" y="28"/>
                      <a:pt x="1091" y="40"/>
                      <a:pt x="1089" y="129"/>
                    </a:cubicBezTo>
                    <a:cubicBezTo>
                      <a:pt x="1087" y="218"/>
                      <a:pt x="1089" y="447"/>
                      <a:pt x="1089" y="548"/>
                    </a:cubicBezTo>
                    <a:cubicBezTo>
                      <a:pt x="1089" y="649"/>
                      <a:pt x="1091" y="692"/>
                      <a:pt x="1089" y="737"/>
                    </a:cubicBezTo>
                    <a:cubicBezTo>
                      <a:pt x="1087" y="782"/>
                      <a:pt x="1079" y="795"/>
                      <a:pt x="1079" y="821"/>
                    </a:cubicBezTo>
                    <a:cubicBezTo>
                      <a:pt x="1079" y="847"/>
                      <a:pt x="1147" y="878"/>
                      <a:pt x="1089" y="894"/>
                    </a:cubicBezTo>
                    <a:cubicBezTo>
                      <a:pt x="1031" y="910"/>
                      <a:pt x="914" y="912"/>
                      <a:pt x="733" y="915"/>
                    </a:cubicBezTo>
                    <a:cubicBezTo>
                      <a:pt x="552" y="918"/>
                      <a:pt x="122" y="915"/>
                      <a:pt x="0" y="915"/>
                    </a:cubicBezTo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ff99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5791320" y="2717640"/>
                <a:ext cx="771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9933"/>
                    </a:solidFill>
                    <a:latin typeface="Verdana"/>
                  </a:rPr>
                  <a:t>A=0,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6292800" y="2984400"/>
                <a:ext cx="501840" cy="3999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184960" y="3695400"/>
                <a:ext cx="501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9933"/>
                    </a:solidFill>
                    <a:latin typeface="Verdana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09480" y="609480"/>
            <a:ext cx="3962520" cy="52056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ahoma"/>
              </a:rPr>
              <a:t>Factor de frecu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3880" y="1752480"/>
            <a:ext cx="4267440" cy="642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663300"/>
                </a:solidFill>
                <a:latin typeface="Tahoma"/>
              </a:rPr>
              <a:t>w=[Ln (1/p</a:t>
            </a:r>
            <a:r>
              <a:rPr b="1" lang="en-US" sz="3600" spc="-1" strike="noStrike" baseline="30000">
                <a:solidFill>
                  <a:srgbClr val="663300"/>
                </a:solidFill>
                <a:latin typeface="Tahoma"/>
              </a:rPr>
              <a:t>2</a:t>
            </a:r>
            <a:r>
              <a:rPr b="1" lang="en-US" sz="3600" spc="-1" strike="noStrike">
                <a:solidFill>
                  <a:srgbClr val="663300"/>
                </a:solidFill>
                <a:latin typeface="Tahoma"/>
              </a:rPr>
              <a:t>)]</a:t>
            </a:r>
            <a:r>
              <a:rPr b="1" lang="en-US" sz="3600" spc="-1" strike="noStrike" baseline="30000">
                <a:solidFill>
                  <a:srgbClr val="663300"/>
                </a:solidFill>
                <a:latin typeface="Tahoma"/>
              </a:rPr>
              <a:t>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2286000"/>
            <a:ext cx="83808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562720" y="2895480"/>
            <a:ext cx="99036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1/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2971800"/>
            <a:ext cx="373392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Si p&gt;0,5   usar 1-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228600" y="5029200"/>
                <a:ext cx="8915400" cy="12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w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515517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802853</m:t>
                        </m:r>
                        <m:r>
                          <m:t xml:space="preserve">w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0328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32788</m:t>
                        </m:r>
                        <m:r>
                          <m:t xml:space="preserve">w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889269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1308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143000" y="4572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Distribución Log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1219320" y="2514600"/>
                <a:ext cx="6056280" cy="15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</m:den>
                        </m:f>
                        <m:r>
                          <m:t xml:space="preserve">2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2438280" y="1219320"/>
            <a:ext cx="48769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Verdana"/>
              </a:rPr>
              <a:t>y=Ln 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5029200"/>
            <a:ext cx="2590560" cy="5101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z=(y-</a:t>
            </a:r>
            <a:r>
              <a:rPr b="1" lang="es-ES_tradnl" sz="2400" spc="-1" strike="noStrike">
                <a:solidFill>
                  <a:srgbClr val="ff9933"/>
                </a:solidFill>
                <a:latin typeface="Symbol"/>
                <a:ea typeface="Symbol"/>
              </a:rPr>
              <a:t></a:t>
            </a:r>
            <a:r>
              <a:rPr b="1" lang="es-ES_tradnl" sz="2400" spc="-1" strike="noStrike" baseline="-25000">
                <a:solidFill>
                  <a:srgbClr val="ff9933"/>
                </a:solidFill>
                <a:latin typeface="Verdana"/>
              </a:rPr>
              <a:t>y</a:t>
            </a: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)/</a:t>
            </a:r>
            <a:r>
              <a:rPr b="1" lang="es-ES_tradnl" sz="2400" spc="-1" strike="noStrike">
                <a:solidFill>
                  <a:srgbClr val="ff9933"/>
                </a:solidFill>
                <a:latin typeface="Symbol"/>
                <a:ea typeface="Symbol"/>
              </a:rPr>
              <a:t></a:t>
            </a:r>
            <a:r>
              <a:rPr b="1" lang="es-ES_tradnl" sz="2400" spc="-1" strike="noStrike" baseline="-25000">
                <a:solidFill>
                  <a:srgbClr val="ff9933"/>
                </a:solidFill>
                <a:latin typeface="Verdan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8600" y="0"/>
            <a:ext cx="3733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fdp</a:t>
            </a:r>
            <a:r>
              <a:rPr b="1" lang="en-US" sz="2400" spc="-1" strike="noStrike">
                <a:solidFill>
                  <a:srgbClr val="ff9900"/>
                </a:solidFill>
                <a:latin typeface="UniversalMath1 BT"/>
                <a:ea typeface="UniversalMath1 BT"/>
              </a:rPr>
              <a:t>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log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4191120" y="380880"/>
                <a:ext cx="4508280" cy="166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  <m:sSub>
                          <m:e>
                            <m:r>
                              <m:t xml:space="preserve">xσ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1676520" y="1676520"/>
            <a:ext cx="243828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X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533520" y="2590920"/>
                <a:ext cx="3340080" cy="13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rμ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4572000" y="2590920"/>
                <a:ext cx="4191120" cy="40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e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sup>
                        </m:s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609480" y="4800600"/>
            <a:ext cx="1371600" cy="5101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C</a:t>
            </a:r>
            <a:r>
              <a:rPr b="1" lang="en-US" sz="2400" spc="-1" strike="noStrike" baseline="-25000">
                <a:solidFill>
                  <a:srgbClr val="ff9900"/>
                </a:solidFill>
                <a:latin typeface="Tahoma"/>
              </a:rPr>
              <a:t>v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&lt;0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4240" y="6019920"/>
            <a:ext cx="349560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se aproxima a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52480" y="5334120"/>
            <a:ext cx="685800" cy="53316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914400" y="0"/>
            <a:ext cx="51055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ahoma"/>
              </a:rPr>
              <a:t>ANÁLISIS  GRÁ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1371600"/>
            <a:ext cx="8458200" cy="34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ALIFORNIA       P(X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=m/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AZE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P(X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=(m-0,5)/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HEGODAYEV        P(X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=(m-0,3)/(n+0,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RINGORTE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P(X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=(m-0,44)/ (n+0,1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EIBUL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P(X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=m/(n+1)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368280"/>
            <a:ext cx="8458200" cy="64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8229600" cy="631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544680"/>
            <a:ext cx="8229600" cy="63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8T00:17:56Z</dcterms:created>
  <dc:creator>Guillermo Osses G.</dc:creator>
  <dc:description/>
  <dc:language>en-US</dc:language>
  <cp:lastModifiedBy>academico</cp:lastModifiedBy>
  <dcterms:modified xsi:type="dcterms:W3CDTF">2007-05-16T17:59:02Z</dcterms:modified>
  <cp:revision>8</cp:revision>
  <dc:subject/>
  <dc:title>Sin título de diapositiva</dc:title>
</cp:coreProperties>
</file>