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34E-CAC6-4D04-9C0E-287A0A12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CD3-0D59-460A-8217-E367CE74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8BA5-E930-4CA4-AFFC-8DEE0D23F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CFEE-245F-42C0-BD97-4AD16F83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060E-09B0-4972-8613-CB499BCC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770-B985-433A-99C2-24B1639E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D52B-EA61-45B9-8317-B5B12182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B372-F702-4B2E-BA5B-D1B74686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545-B346-4F95-9055-58EF2CA1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A687-E625-4CC9-B1D0-C0D1EAAC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B03-1999-4133-BEC0-23053412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CF96-F8D1-4A3F-9F48-7F69342C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AB90-A464-443D-8A85-61C63FE9C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006560"/>
            <a:ext cx="7162920" cy="50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295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apítulo 7 continu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85640"/>
            <a:ext cx="830592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28600" y="685800"/>
            <a:ext cx="8499600" cy="6172200"/>
            <a:chOff x="228600" y="685800"/>
            <a:chExt cx="8499600" cy="61722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28600" y="685800"/>
              <a:ext cx="84996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343400" y="6324480"/>
              <a:ext cx="3049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19920" y="6324480"/>
              <a:ext cx="484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6324480"/>
              <a:ext cx="457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86600" y="6324480"/>
              <a:ext cx="46836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43800" y="6324480"/>
              <a:ext cx="5554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533520"/>
            <a:ext cx="4419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ción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971800" y="1981080"/>
                <a:ext cx="32259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x</m:t>
                            </m:r>
                          </m:sup>
                        </m:sSup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1905120" y="380988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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(k)=(k-1)!       Si k e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248520" y="4267080"/>
                <a:ext cx="2438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</m:sup>
                        </m:s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143000" y="5181480"/>
            <a:ext cx="44197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bulada en función de gamma in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62360" y="4800600"/>
            <a:ext cx="53316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1371600"/>
                <a:ext cx="501660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876920" y="3200400"/>
            <a:ext cx="2971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m(t)=(1-t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) </a:t>
            </a:r>
            <a:r>
              <a:rPr b="1" lang="en-US" sz="2400" spc="-1" strike="noStrike" baseline="30000">
                <a:solidFill>
                  <a:srgbClr val="663300"/>
                </a:solidFill>
                <a:latin typeface="Tahoma"/>
              </a:rPr>
              <a:t>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2120" y="3657600"/>
                <a:ext cx="14205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14600" y="3733920"/>
                <a:ext cx="17128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343400" y="4238640"/>
                <a:ext cx="14479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19920" y="4191120"/>
                <a:ext cx="14475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914400" y="5943600"/>
            <a:ext cx="73915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De ábaco se obtiene F(u)=P(x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5943600"/>
            <a:ext cx="15238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u=x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533520"/>
            <a:ext cx="6324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rema tip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38280" y="1676520"/>
                <a:ext cx="30798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2120" y="3352680"/>
                <a:ext cx="21193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S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991040" y="3657600"/>
                <a:ext cx="4152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7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209680" y="5562720"/>
            <a:ext cx="59436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Variable reducida   y=(x-u)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33520" y="539640"/>
                <a:ext cx="678168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iable</m:t>
                        </m:r>
                        <m:sSub>
                          <m:e/>
                          <m:sub/>
                        </m:sSub>
                        <m:r>
                          <m:rPr>
                            <m:lit/>
                            <m:nor/>
                          </m:rPr>
                          <m:t xml:space="preserve">estandarizada</m:t>
                        </m:r>
                        <m:sSub>
                          <m:e/>
                          <m:sub/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z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914400" y="4495680"/>
            <a:ext cx="7924680" cy="1169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B=½ [1+0,196854|z|+0,11519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          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0,00034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0,019527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] 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019920"/>
            <a:ext cx="64008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&lt;0     F(z)=B            z&gt;0      F(z)=1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5943600"/>
            <a:ext cx="26668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Error&lt;0,00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715000" y="2057400"/>
            <a:ext cx="2971800" cy="2209680"/>
            <a:chOff x="5715000" y="2057400"/>
            <a:chExt cx="2971800" cy="2209680"/>
          </a:xfrm>
        </p:grpSpPr>
        <p:sp>
          <p:nvSpPr>
            <p:cNvPr id="49" name=""/>
            <p:cNvSpPr/>
            <p:nvPr/>
          </p:nvSpPr>
          <p:spPr>
            <a:xfrm>
              <a:off x="5715000" y="2057400"/>
              <a:ext cx="2819520" cy="22096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791320" y="2362320"/>
              <a:ext cx="2895480" cy="1792800"/>
              <a:chOff x="5791320" y="2362320"/>
              <a:chExt cx="2895480" cy="1792800"/>
            </a:xfrm>
          </p:grpSpPr>
          <p:sp>
            <p:nvSpPr>
              <p:cNvPr id="51" name=""/>
              <p:cNvSpPr/>
              <p:nvPr/>
            </p:nvSpPr>
            <p:spPr>
              <a:xfrm>
                <a:off x="6177240" y="2717640"/>
                <a:ext cx="1698840" cy="792360"/>
              </a:xfrm>
              <a:custGeom>
                <a:avLst/>
                <a:gdLst/>
                <a:ahLst/>
                <a:rect l="l" t="t" r="r" b="b"/>
                <a:pathLst>
                  <a:path w="2112" h="856">
                    <a:moveTo>
                      <a:pt x="0" y="816"/>
                    </a:moveTo>
                    <a:cubicBezTo>
                      <a:pt x="120" y="836"/>
                      <a:pt x="240" y="856"/>
                      <a:pt x="336" y="816"/>
                    </a:cubicBezTo>
                    <a:cubicBezTo>
                      <a:pt x="432" y="776"/>
                      <a:pt x="512" y="656"/>
                      <a:pt x="576" y="576"/>
                    </a:cubicBezTo>
                    <a:cubicBezTo>
                      <a:pt x="640" y="496"/>
                      <a:pt x="640" y="432"/>
                      <a:pt x="720" y="336"/>
                    </a:cubicBezTo>
                    <a:cubicBezTo>
                      <a:pt x="800" y="240"/>
                      <a:pt x="936" y="0"/>
                      <a:pt x="1056" y="0"/>
                    </a:cubicBezTo>
                    <a:cubicBezTo>
                      <a:pt x="1176" y="0"/>
                      <a:pt x="1328" y="216"/>
                      <a:pt x="1440" y="336"/>
                    </a:cubicBezTo>
                    <a:cubicBezTo>
                      <a:pt x="1552" y="456"/>
                      <a:pt x="1616" y="640"/>
                      <a:pt x="1728" y="720"/>
                    </a:cubicBezTo>
                    <a:cubicBezTo>
                      <a:pt x="1840" y="800"/>
                      <a:pt x="1976" y="808"/>
                      <a:pt x="2112" y="81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026480" y="2362320"/>
                <a:ext cx="0" cy="1199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984280" y="3562200"/>
                <a:ext cx="227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161040" y="2710440"/>
                <a:ext cx="922320" cy="849960"/>
              </a:xfrm>
              <a:custGeom>
                <a:avLst/>
                <a:gdLst/>
                <a:ahLst/>
                <a:rect l="l" t="t" r="r" b="b"/>
                <a:pathLst>
                  <a:path w="1147" h="918">
                    <a:moveTo>
                      <a:pt x="20" y="824"/>
                    </a:moveTo>
                    <a:cubicBezTo>
                      <a:pt x="140" y="844"/>
                      <a:pt x="260" y="864"/>
                      <a:pt x="356" y="824"/>
                    </a:cubicBezTo>
                    <a:cubicBezTo>
                      <a:pt x="452" y="784"/>
                      <a:pt x="532" y="664"/>
                      <a:pt x="596" y="584"/>
                    </a:cubicBezTo>
                    <a:cubicBezTo>
                      <a:pt x="660" y="504"/>
                      <a:pt x="691" y="423"/>
                      <a:pt x="740" y="344"/>
                    </a:cubicBezTo>
                    <a:cubicBezTo>
                      <a:pt x="789" y="265"/>
                      <a:pt x="848" y="158"/>
                      <a:pt x="890" y="108"/>
                    </a:cubicBezTo>
                    <a:cubicBezTo>
                      <a:pt x="932" y="58"/>
                      <a:pt x="960" y="62"/>
                      <a:pt x="995" y="46"/>
                    </a:cubicBezTo>
                    <a:cubicBezTo>
                      <a:pt x="1030" y="30"/>
                      <a:pt x="1084" y="0"/>
                      <a:pt x="1100" y="14"/>
                    </a:cubicBezTo>
                    <a:cubicBezTo>
                      <a:pt x="1116" y="28"/>
                      <a:pt x="1091" y="40"/>
                      <a:pt x="1089" y="129"/>
                    </a:cubicBezTo>
                    <a:cubicBezTo>
                      <a:pt x="1087" y="218"/>
                      <a:pt x="1089" y="447"/>
                      <a:pt x="1089" y="548"/>
                    </a:cubicBezTo>
                    <a:cubicBezTo>
                      <a:pt x="1089" y="649"/>
                      <a:pt x="1091" y="692"/>
                      <a:pt x="1089" y="737"/>
                    </a:cubicBezTo>
                    <a:cubicBezTo>
                      <a:pt x="1087" y="782"/>
                      <a:pt x="1079" y="795"/>
                      <a:pt x="1079" y="821"/>
                    </a:cubicBezTo>
                    <a:cubicBezTo>
                      <a:pt x="1079" y="847"/>
                      <a:pt x="1147" y="878"/>
                      <a:pt x="1089" y="894"/>
                    </a:cubicBezTo>
                    <a:cubicBezTo>
                      <a:pt x="1031" y="910"/>
                      <a:pt x="914" y="912"/>
                      <a:pt x="733" y="915"/>
                    </a:cubicBezTo>
                    <a:cubicBezTo>
                      <a:pt x="552" y="918"/>
                      <a:pt x="122" y="915"/>
                      <a:pt x="0" y="915"/>
                    </a:cubicBezTo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791320" y="2717640"/>
                <a:ext cx="771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A=0,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292800" y="2984400"/>
                <a:ext cx="501840" cy="399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184960" y="3695400"/>
                <a:ext cx="50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609480"/>
            <a:ext cx="3962520" cy="5205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Factor de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752480"/>
            <a:ext cx="426744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w=[Ln (1/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)]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8600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2895480"/>
            <a:ext cx="990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971800"/>
            <a:ext cx="37339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Si p&gt;0,5   usar 1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8600" y="5029200"/>
                <a:ext cx="89154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5517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2853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32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32788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889269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30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457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Distribu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219320" y="2514600"/>
                <a:ext cx="60562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438280" y="1219320"/>
            <a:ext cx="4876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y=Ln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5029200"/>
            <a:ext cx="259056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z=(y-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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)/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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0"/>
            <a:ext cx="3733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</a:t>
            </a:r>
            <a:r>
              <a:rPr b="1" lang="en-US" sz="2400" spc="-1" strike="noStrike">
                <a:solidFill>
                  <a:srgbClr val="ff9900"/>
                </a:solidFill>
                <a:latin typeface="UniversalMath1 BT"/>
                <a:ea typeface="UniversalMath1 BT"/>
              </a:rPr>
              <a:t>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191120" y="380880"/>
                <a:ext cx="45082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x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676520" y="1676520"/>
            <a:ext cx="24382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X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520" y="2590920"/>
                <a:ext cx="334008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72000" y="2590920"/>
                <a:ext cx="4191120" cy="40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09480" y="4800600"/>
            <a:ext cx="137160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&lt;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4240" y="6019920"/>
            <a:ext cx="34956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se aproxima a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53341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5105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ANÁLISIS  GRÁ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371600"/>
            <a:ext cx="845820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LIFORNIA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Z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5)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EGODAYEV 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3)/(n+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INGORT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44)/ (n+0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IBUL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(n+1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845820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2296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4680"/>
            <a:ext cx="822960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0:17:56Z</dcterms:created>
  <dc:creator>Guillermo Osses G.</dc:creator>
  <dc:description/>
  <dc:language>en-US</dc:language>
  <cp:lastModifiedBy>academico</cp:lastModifiedBy>
  <dcterms:modified xsi:type="dcterms:W3CDTF">2007-05-16T17:59:02Z</dcterms:modified>
  <cp:revision>8</cp:revision>
  <dc:subject/>
  <dc:title>Sin título de diapositiva</dc:title>
</cp:coreProperties>
</file>