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7E4-0DF8-46E7-BC3B-F9C33E13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0D8-13E0-4229-9DF6-86B19A84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E0BF-180A-40F7-86C1-7F817658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92C2-3232-431A-9F2F-8E3ED6E3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93B-E571-4051-B742-C0EF51D7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56F6-3975-4CC0-B5F5-8583F98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3A7-8181-4B3D-98F5-B3379B75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6064-0408-4236-AC98-3924BB64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F54-B526-4839-B5B9-AC44F39F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089-6F1A-4C88-925A-64FCAAAB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0DE-EBDD-411A-BFB7-AAFF1A8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200-3051-4EF3-AAE9-83401C52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E68B-F08D-4968-A25B-9B4436854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06560"/>
            <a:ext cx="7162920" cy="50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pítulo 7 contin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685800"/>
            <a:ext cx="8499600" cy="6172200"/>
            <a:chOff x="228600" y="685800"/>
            <a:chExt cx="8499600" cy="61722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43400" y="6324480"/>
              <a:ext cx="3049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6324480"/>
              <a:ext cx="484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6324480"/>
              <a:ext cx="457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6324480"/>
              <a:ext cx="4683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6324480"/>
              <a:ext cx="5554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533520"/>
            <a:ext cx="4419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ción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981080"/>
                <a:ext cx="3225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05120" y="38098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48520" y="4267080"/>
                <a:ext cx="2438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43000" y="5181480"/>
            <a:ext cx="441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ulada en función de gamma in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360" y="4800600"/>
            <a:ext cx="53316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371600"/>
                <a:ext cx="50166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876920" y="3200400"/>
            <a:ext cx="297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(t)=(1-t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n-US" sz="2400" spc="-1" strike="noStrike" baseline="30000">
                <a:solidFill>
                  <a:srgbClr val="663300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3657600"/>
                <a:ext cx="14205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733920"/>
                <a:ext cx="1712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43400" y="4238640"/>
                <a:ext cx="144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9920" y="4191120"/>
                <a:ext cx="1447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De ábaco se obtiene F(u)=P(x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5943600"/>
            <a:ext cx="1523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u=x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rema tip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676520"/>
                <a:ext cx="30798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3352680"/>
                <a:ext cx="2119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S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991040" y="3657600"/>
                <a:ext cx="4152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7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09680" y="5562720"/>
            <a:ext cx="5943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Variable reducida   y=(x-u)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539640"/>
                <a:ext cx="678168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ble</m:t>
                        </m:r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estandarizada</m:t>
                        </m:r>
                        <m:sSub>
                          <m:e/>
                          <m:sub/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14400" y="4495680"/>
            <a:ext cx="792468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B=½ [1+0,196854|z|+0,11519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] 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19920"/>
            <a:ext cx="64008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&lt;0     F(z)=B            z&gt;0      F(z)=1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9436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5000" y="2057400"/>
            <a:ext cx="2971800" cy="2209680"/>
            <a:chOff x="5715000" y="2057400"/>
            <a:chExt cx="2971800" cy="2209680"/>
          </a:xfrm>
        </p:grpSpPr>
        <p:sp>
          <p:nvSpPr>
            <p:cNvPr id="49" name=""/>
            <p:cNvSpPr/>
            <p:nvPr/>
          </p:nvSpPr>
          <p:spPr>
            <a:xfrm>
              <a:off x="5715000" y="205740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91320" y="2362320"/>
              <a:ext cx="2895480" cy="1792800"/>
              <a:chOff x="5791320" y="2362320"/>
              <a:chExt cx="2895480" cy="1792800"/>
            </a:xfrm>
          </p:grpSpPr>
          <p:sp>
            <p:nvSpPr>
              <p:cNvPr id="51" name=""/>
              <p:cNvSpPr/>
              <p:nvPr/>
            </p:nvSpPr>
            <p:spPr>
              <a:xfrm>
                <a:off x="6177240" y="271764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26480" y="2362320"/>
                <a:ext cx="0" cy="119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84280" y="3562200"/>
                <a:ext cx="227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61040" y="271044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71764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92800" y="2984400"/>
                <a:ext cx="501840" cy="39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84960" y="36954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3962520" cy="520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Factor de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42674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w=[Ln (1/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)]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8600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i p&gt;0,5   usar 1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" y="5029200"/>
                <a:ext cx="8915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551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2853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2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278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89269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0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2514600"/>
                <a:ext cx="60562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121932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y=Ln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259056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z=(y-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)/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3733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</a:t>
            </a:r>
            <a:r>
              <a:rPr b="1" lang="en-US" sz="2400" spc="-1" strike="noStrike">
                <a:solidFill>
                  <a:srgbClr val="ff9900"/>
                </a:solidFill>
                <a:latin typeface="UniversalMath1 BT"/>
                <a:ea typeface="UniversalMath1 BT"/>
              </a:rPr>
              <a:t>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80880"/>
                <a:ext cx="4508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676520" y="1676520"/>
            <a:ext cx="24382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2590920"/>
                <a:ext cx="33400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0" y="2590920"/>
                <a:ext cx="4191120" cy="40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800600"/>
            <a:ext cx="137160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&lt;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240" y="6019920"/>
            <a:ext cx="34956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e aproxima 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3341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ANÁLISIS 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371600"/>
            <a:ext cx="845820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FORNIA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Z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5)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GODAYEV 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3)/(n+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NGORT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44)/ (n+0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IBU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(n+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0:17:56Z</dcterms:created>
  <dc:creator>Guillermo Osses G.</dc:creator>
  <dc:description/>
  <dc:language>en-US</dc:language>
  <cp:lastModifiedBy>academico</cp:lastModifiedBy>
  <dcterms:modified xsi:type="dcterms:W3CDTF">2007-05-16T17:59:02Z</dcterms:modified>
  <cp:revision>8</cp:revision>
  <dc:subject/>
  <dc:title>Sin título de diapositiva</dc:title>
</cp:coreProperties>
</file>