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721-BB7C-468B-A929-79567CF0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AE9-C34A-42DD-8F0F-BE8B58E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1EC-E725-40FE-BEB3-6FD462A9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EFA-7014-4FA6-94C4-EACBE973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9D8-FED3-460D-83D4-B46F88F2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69F-22CB-4644-AF26-9AFC4DC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19C-94FB-469C-A9A9-959C1844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208-014F-4888-8598-C39E1F5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63B-0BD9-41E1-A846-2B4CD74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2AB-0364-428C-B6B7-189958F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097-1B54-4ED9-894F-4354518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D77-CA2D-49C3-B441-18D833A2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9F3-DD46-4AB8-B5AB-C4ED8831D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file:///../../../XIMENA/Mis%20documentos/Programas/Mis%20documentos/Hidrologia2/imagcap6-0.p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380880"/>
            <a:ext cx="4876560" cy="2819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Contin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Capítulo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540320" cy="3497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51246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609480"/>
            <a:ext cx="3505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Formas de Med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76520"/>
            <a:ext cx="3581280" cy="2684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rro suspe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ba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Vade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581640" cy="31766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/>
          </p:cNvPr>
          <p:cNvSpPr/>
          <p:nvPr/>
        </p:nvSpPr>
        <p:spPr>
          <a:xfrm>
            <a:off x="914400" y="56386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6094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Para calcular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371600"/>
            <a:ext cx="365760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urvas isotáqu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Veloci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952880" y="4419720"/>
            <a:ext cx="3591000" cy="173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5537160"/>
            <a:ext cx="3657600" cy="568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61149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533520"/>
            <a:ext cx="2438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29528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Instru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Metod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3552840"/>
            <a:ext cx="58672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457200"/>
            <a:ext cx="655308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URV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828800"/>
            <a:ext cx="7086600" cy="397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MB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 el cauce: embanques, socavaciones,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fectos de remansos y otras variaciones del eje hidráu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variaciones rápidas de nivel durante afo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variación de almacenamiento en el c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mbios en las características del c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457200"/>
            <a:ext cx="723924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xtrapolación de la Curva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523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anning     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Q=(J)</a:t>
            </a:r>
            <a:r>
              <a:rPr b="1" lang="es-ES_tradnl" sz="1600" spc="-1" strike="noStrike" baseline="30000">
                <a:solidFill>
                  <a:srgbClr val="a50021"/>
                </a:solidFill>
                <a:latin typeface="Verdana"/>
              </a:rPr>
              <a:t>0,5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AR</a:t>
            </a:r>
            <a:r>
              <a:rPr b="1" lang="es-ES_tradnl" sz="1600" spc="-1" strike="noStrike" baseline="30000">
                <a:solidFill>
                  <a:srgbClr val="a50021"/>
                </a:solidFill>
                <a:latin typeface="Verdana"/>
              </a:rPr>
              <a:t>2/3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hezy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         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Q=CA(RJ)</a:t>
            </a:r>
            <a:r>
              <a:rPr b="1" lang="es-ES_tradnl" sz="1600" spc="-1" strike="noStrike" baseline="30000">
                <a:solidFill>
                  <a:srgbClr val="a50021"/>
                </a:solidFill>
                <a:latin typeface="Verdana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352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endencia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4419720"/>
            <a:ext cx="61722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juste Curva tipo Q=K(H-a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cuando sección uniforme (circular, parábola, rectángulo o trape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066680" y="837720"/>
            <a:ext cx="2895480" cy="3048480"/>
            <a:chOff x="1066680" y="837720"/>
            <a:chExt cx="2895480" cy="3048480"/>
          </a:xfrm>
        </p:grpSpPr>
        <p:sp>
          <p:nvSpPr>
            <p:cNvPr id="182" name=""/>
            <p:cNvSpPr/>
            <p:nvPr/>
          </p:nvSpPr>
          <p:spPr>
            <a:xfrm flipV="1">
              <a:off x="1066680" y="83772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38862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257800" y="8377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2362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276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371600"/>
            <a:ext cx="2667240" cy="2438280"/>
          </a:xfrm>
          <a:custGeom>
            <a:avLst/>
            <a:gdLst/>
            <a:ahLst/>
            <a:rect l="l" t="t" r="r" b="b"/>
            <a:pathLst>
              <a:path w="1680" h="1536">
                <a:moveTo>
                  <a:pt x="0" y="1536"/>
                </a:moveTo>
                <a:cubicBezTo>
                  <a:pt x="48" y="1404"/>
                  <a:pt x="134" y="1226"/>
                  <a:pt x="192" y="1104"/>
                </a:cubicBezTo>
                <a:cubicBezTo>
                  <a:pt x="250" y="982"/>
                  <a:pt x="290" y="902"/>
                  <a:pt x="350" y="807"/>
                </a:cubicBezTo>
                <a:cubicBezTo>
                  <a:pt x="410" y="712"/>
                  <a:pt x="471" y="619"/>
                  <a:pt x="555" y="533"/>
                </a:cubicBezTo>
                <a:cubicBezTo>
                  <a:pt x="639" y="447"/>
                  <a:pt x="731" y="366"/>
                  <a:pt x="855" y="293"/>
                </a:cubicBezTo>
                <a:cubicBezTo>
                  <a:pt x="979" y="220"/>
                  <a:pt x="1159" y="145"/>
                  <a:pt x="1296" y="96"/>
                </a:cubicBezTo>
                <a:cubicBezTo>
                  <a:pt x="1433" y="47"/>
                  <a:pt x="1580" y="4"/>
                  <a:pt x="168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31240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9718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6668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75248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6002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5238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25146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2590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590920"/>
            <a:ext cx="7596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243828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20574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20574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041560"/>
            <a:ext cx="2209680" cy="563400"/>
          </a:xfrm>
          <a:custGeom>
            <a:avLst/>
            <a:gdLst/>
            <a:ahLst/>
            <a:rect l="l" t="t" r="r" b="b"/>
            <a:pathLst>
              <a:path w="1392" h="355">
                <a:moveTo>
                  <a:pt x="0" y="250"/>
                </a:moveTo>
                <a:cubicBezTo>
                  <a:pt x="12" y="266"/>
                  <a:pt x="24" y="282"/>
                  <a:pt x="48" y="298"/>
                </a:cubicBezTo>
                <a:cubicBezTo>
                  <a:pt x="72" y="314"/>
                  <a:pt x="101" y="337"/>
                  <a:pt x="144" y="346"/>
                </a:cubicBezTo>
                <a:cubicBezTo>
                  <a:pt x="187" y="355"/>
                  <a:pt x="261" y="351"/>
                  <a:pt x="309" y="351"/>
                </a:cubicBezTo>
                <a:cubicBezTo>
                  <a:pt x="357" y="351"/>
                  <a:pt x="388" y="355"/>
                  <a:pt x="432" y="346"/>
                </a:cubicBezTo>
                <a:cubicBezTo>
                  <a:pt x="476" y="337"/>
                  <a:pt x="524" y="326"/>
                  <a:pt x="576" y="298"/>
                </a:cubicBezTo>
                <a:cubicBezTo>
                  <a:pt x="628" y="270"/>
                  <a:pt x="691" y="218"/>
                  <a:pt x="746" y="180"/>
                </a:cubicBezTo>
                <a:cubicBezTo>
                  <a:pt x="801" y="142"/>
                  <a:pt x="857" y="96"/>
                  <a:pt x="909" y="68"/>
                </a:cubicBezTo>
                <a:cubicBezTo>
                  <a:pt x="961" y="40"/>
                  <a:pt x="1008" y="20"/>
                  <a:pt x="1056" y="10"/>
                </a:cubicBezTo>
                <a:cubicBezTo>
                  <a:pt x="1104" y="0"/>
                  <a:pt x="1160" y="2"/>
                  <a:pt x="1200" y="10"/>
                </a:cubicBezTo>
                <a:cubicBezTo>
                  <a:pt x="1240" y="18"/>
                  <a:pt x="1264" y="34"/>
                  <a:pt x="1296" y="58"/>
                </a:cubicBezTo>
                <a:cubicBezTo>
                  <a:pt x="1328" y="82"/>
                  <a:pt x="1360" y="118"/>
                  <a:pt x="1392" y="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2209680"/>
            <a:ext cx="0" cy="152640"/>
          </a:xfrm>
          <a:prstGeom prst="line">
            <a:avLst/>
          </a:prstGeom>
          <a:ln w="284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333760" y="2057400"/>
            <a:ext cx="1447560" cy="0"/>
          </a:xfrm>
          <a:prstGeom prst="line">
            <a:avLst/>
          </a:prstGeom>
          <a:ln w="1908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362320" y="1752120"/>
            <a:ext cx="0" cy="2133720"/>
          </a:xfrm>
          <a:prstGeom prst="line">
            <a:avLst/>
          </a:prstGeom>
          <a:ln w="284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066320" y="1828800"/>
            <a:ext cx="1295640" cy="0"/>
          </a:xfrm>
          <a:prstGeom prst="line">
            <a:avLst/>
          </a:prstGeom>
          <a:ln w="1908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3000" y="2057400"/>
            <a:ext cx="1295280" cy="0"/>
          </a:xfrm>
          <a:prstGeom prst="line">
            <a:avLst/>
          </a:prstGeom>
          <a:ln w="1908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523880"/>
            <a:ext cx="609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3171960" cy="6429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11430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RRAYÁN EN LA MONT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0720" y="380880"/>
            <a:ext cx="60958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s de estimación: 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valuar potencialidad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12193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nálisis de 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urvas Doble Acumuladas 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rmiten detectar cambios en método de registro, cambios ubicación estación, cambios de almacenamiento superficial de la cuenca, cambios en los usos del agu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Se usa Q/A o en % de Q 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staciones de régimen simi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609480" y="4191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nálisis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3200400" y="4876920"/>
            <a:ext cx="52578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Relaciones P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Relacione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224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230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00100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990720"/>
            <a:ext cx="6705720" cy="239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Grunsky </a:t>
            </a:r>
            <a:r>
              <a:rPr b="1" lang="es-ES_tradnl" sz="1800" spc="-1" strike="noStrike">
                <a:solidFill>
                  <a:srgbClr val="000099"/>
                </a:solidFill>
                <a:latin typeface="Bookman Old Style"/>
              </a:rPr>
              <a:t>(EEUU a principios de siglo 20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0,4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           (m)  para P </a:t>
            </a:r>
            <a:r>
              <a:rPr b="1" lang="es-ES_tradnl" sz="2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1,2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Si P&gt;1,25 m todo escurr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D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max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 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304920"/>
            <a:ext cx="5867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SCORRENTIA TOTAL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657600"/>
            <a:ext cx="6781680" cy="288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Peñuelas </a:t>
            </a:r>
            <a:r>
              <a:rPr b="1" lang="es-ES_tradnl" sz="1800" spc="-1" strike="noStrike">
                <a:solidFill>
                  <a:srgbClr val="000099"/>
                </a:solidFill>
                <a:latin typeface="Bookman Old Style"/>
              </a:rPr>
              <a:t>(Chile, 19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0,5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           (m)  para P </a:t>
            </a:r>
            <a:r>
              <a:rPr b="1" lang="es-ES_tradnl" sz="2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1,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Si P&gt;1,00 m todo escurr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D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max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 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306440" y="0"/>
          <a:ext cx="53992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0"/>
                    <a:ext cx="539928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797998"/>
                    </a:outerShdw>
                  </a:effectLst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086600" y="2286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los caudales medios diarios máximos y mínimos fueron 250 y 0,004 m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/se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0"/>
            <a:ext cx="594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ación Alhué en Quilam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3276720"/>
            <a:ext cx="2590920" cy="119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urier New Cyr"/>
              </a:rPr>
              <a:t>años hidrológicos 63-64 a 67-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Coutagne </a:t>
            </a:r>
            <a:r>
              <a:rPr b="1" lang="es-ES_tradnl" sz="1600" spc="-1" strike="noStrike">
                <a:solidFill>
                  <a:srgbClr val="000099"/>
                </a:solidFill>
                <a:latin typeface="Bookman Old Style"/>
              </a:rPr>
              <a:t>(Franc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1295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D=P-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P</a:t>
            </a:r>
            <a:r>
              <a:rPr b="1" lang="es-ES_tradnl" sz="2400" spc="-1" strike="noStrike" baseline="30000">
                <a:solidFill>
                  <a:srgbClr val="a50021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        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Es= P-D = 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P</a:t>
            </a:r>
            <a:r>
              <a:rPr b="1" lang="es-ES_tradnl" sz="2400" spc="-1" strike="noStrike" baseline="30000">
                <a:solidFill>
                  <a:srgbClr val="a50021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2895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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1/(0,8+0,14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114800" y="2438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2209680"/>
            <a:ext cx="2590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3657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1/(8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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&lt;P&lt;1/(2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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648320"/>
            <a:ext cx="152280" cy="7596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4343400"/>
            <a:ext cx="4800600" cy="533520"/>
            <a:chOff x="685800" y="4343400"/>
            <a:chExt cx="4800600" cy="533520"/>
          </a:xfrm>
        </p:grpSpPr>
        <p:sp>
          <p:nvSpPr>
            <p:cNvPr id="270" name=""/>
            <p:cNvSpPr/>
            <p:nvPr/>
          </p:nvSpPr>
          <p:spPr>
            <a:xfrm>
              <a:off x="685800" y="43434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Si P&lt; 1/(8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)              D=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0400" y="4495680"/>
              <a:ext cx="914400" cy="38124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410080" y="44956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343400"/>
            <a:ext cx="1676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No hay escorre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6095880"/>
            <a:ext cx="3504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 = 0,2 + 0,035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018800" y="5410080"/>
            <a:ext cx="5740560" cy="533520"/>
            <a:chOff x="1018800" y="5410080"/>
            <a:chExt cx="5740560" cy="533520"/>
          </a:xfrm>
        </p:grpSpPr>
        <p:sp>
          <p:nvSpPr>
            <p:cNvPr id="276" name=""/>
            <p:cNvSpPr/>
            <p:nvPr/>
          </p:nvSpPr>
          <p:spPr>
            <a:xfrm>
              <a:off x="1018800" y="5410080"/>
              <a:ext cx="57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Si P&gt; 1/(2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)              D no depende d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4864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a50021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828800" y="609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Turc </a:t>
            </a:r>
            <a:r>
              <a:rPr b="1" lang="es-ES_tradnl" sz="1800" spc="-1" strike="noStrike">
                <a:solidFill>
                  <a:srgbClr val="000099"/>
                </a:solidFill>
                <a:latin typeface="Bookman Old Style"/>
              </a:rPr>
              <a:t>(254 cuen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657600" y="1528920"/>
                <a:ext cx="38862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,9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92468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3505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=300 + 25T +0,05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3028800">
            <a:off x="2819160" y="4114440"/>
            <a:ext cx="685800" cy="990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4572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=P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9072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LACIONE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0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143000" y="838080"/>
                <a:ext cx="61340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23880" y="2590920"/>
                <a:ext cx="6400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43000" y="4267080"/>
                <a:ext cx="6111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0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14400" y="762120"/>
            <a:ext cx="59436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Métodos basados en estadísticas fluvi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Transposición de cau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657600"/>
            <a:ext cx="25146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657600"/>
            <a:ext cx="419112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85800" y="2057400"/>
            <a:ext cx="1371600" cy="16765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209680"/>
            <a:ext cx="1523880" cy="14479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43200" y="4038480"/>
            <a:ext cx="2819520" cy="2643840"/>
            <a:chOff x="2743200" y="4038480"/>
            <a:chExt cx="2819520" cy="2643840"/>
          </a:xfrm>
        </p:grpSpPr>
        <p:grpSp>
          <p:nvGrpSpPr>
            <p:cNvPr id="301" name=""/>
            <p:cNvGrpSpPr/>
            <p:nvPr/>
          </p:nvGrpSpPr>
          <p:grpSpPr>
            <a:xfrm>
              <a:off x="2743200" y="4038480"/>
              <a:ext cx="2819520" cy="2643840"/>
              <a:chOff x="2743200" y="4038480"/>
              <a:chExt cx="2819520" cy="2643840"/>
            </a:xfrm>
          </p:grpSpPr>
          <p:sp>
            <p:nvSpPr>
              <p:cNvPr id="302" name=""/>
              <p:cNvSpPr/>
              <p:nvPr/>
            </p:nvSpPr>
            <p:spPr>
              <a:xfrm>
                <a:off x="3124080" y="411480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24080" y="60195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432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769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7339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70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0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5812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581280" y="2590920"/>
            <a:ext cx="228600" cy="152388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029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14400" y="1219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1295280"/>
            <a:ext cx="6172200" cy="266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Bookman Old Style"/>
              </a:rPr>
              <a:t>Modelo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Bookman Old Style"/>
              </a:rPr>
              <a:t>Simulación Hidr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990720" y="0"/>
            <a:ext cx="7010280" cy="6936480"/>
            <a:chOff x="990720" y="0"/>
            <a:chExt cx="7010280" cy="6936480"/>
          </a:xfrm>
        </p:grpSpPr>
        <p:graphicFrame>
          <p:nvGraphicFramePr>
            <p:cNvPr id="316" name=""/>
            <p:cNvGraphicFramePr/>
            <p:nvPr/>
          </p:nvGraphicFramePr>
          <p:xfrm>
            <a:off x="990720" y="0"/>
            <a:ext cx="7010280" cy="685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99072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1992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9480" y="609480"/>
            <a:ext cx="7315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NOSTICO DE ESCORRENTIA EN CUENCAS PLUV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2057400"/>
            <a:ext cx="701064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rto Plazo (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=horas o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pagación de Crec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lanificación de Operación de Obr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572000"/>
            <a:ext cx="754380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ano Plazo o es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r recurso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lanificar Operación de Sistemas de Aprovech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Uso: Riego para planificación anticipada de cultivos 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447920"/>
            <a:ext cx="716292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ona Central de Chile desde Septie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362320"/>
            <a:ext cx="662940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 des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urva de Recesión de Hidrogra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28600" y="3657600"/>
            <a:ext cx="6629400" cy="2895480"/>
            <a:chOff x="228600" y="3657600"/>
            <a:chExt cx="6629400" cy="2895480"/>
          </a:xfrm>
        </p:grpSpPr>
        <p:sp>
          <p:nvSpPr>
            <p:cNvPr id="327" name=""/>
            <p:cNvSpPr/>
            <p:nvPr/>
          </p:nvSpPr>
          <p:spPr>
            <a:xfrm>
              <a:off x="1981080" y="36576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81080" y="655308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" y="3733920"/>
              <a:ext cx="1981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d 1 Sep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m Ag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438280" y="4038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800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5638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3962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4343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4724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5181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3341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10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5486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41148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41911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434340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46483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48769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541008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48640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54864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48640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4038480"/>
            <a:ext cx="3657600" cy="1714680"/>
          </a:xfrm>
          <a:custGeom>
            <a:avLst/>
            <a:gdLst/>
            <a:ahLst/>
            <a:rect l="l" t="t" r="r" b="b"/>
            <a:pathLst>
              <a:path w="2304" h="1080">
                <a:moveTo>
                  <a:pt x="0" y="0"/>
                </a:moveTo>
                <a:cubicBezTo>
                  <a:pt x="44" y="28"/>
                  <a:pt x="93" y="52"/>
                  <a:pt x="144" y="96"/>
                </a:cubicBezTo>
                <a:cubicBezTo>
                  <a:pt x="195" y="140"/>
                  <a:pt x="235" y="195"/>
                  <a:pt x="307" y="267"/>
                </a:cubicBezTo>
                <a:cubicBezTo>
                  <a:pt x="379" y="339"/>
                  <a:pt x="499" y="461"/>
                  <a:pt x="576" y="528"/>
                </a:cubicBezTo>
                <a:cubicBezTo>
                  <a:pt x="653" y="595"/>
                  <a:pt x="664" y="608"/>
                  <a:pt x="768" y="672"/>
                </a:cubicBezTo>
                <a:cubicBezTo>
                  <a:pt x="872" y="736"/>
                  <a:pt x="1000" y="848"/>
                  <a:pt x="1200" y="912"/>
                </a:cubicBezTo>
                <a:cubicBezTo>
                  <a:pt x="1400" y="976"/>
                  <a:pt x="1784" y="1032"/>
                  <a:pt x="1968" y="1056"/>
                </a:cubicBezTo>
                <a:cubicBezTo>
                  <a:pt x="2152" y="1080"/>
                  <a:pt x="2228" y="1068"/>
                  <a:pt x="2304" y="105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6019920"/>
            <a:ext cx="32004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volvente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3962520"/>
            <a:ext cx="3581280" cy="1676160"/>
          </a:xfrm>
          <a:custGeom>
            <a:avLst/>
            <a:gdLst/>
            <a:ahLst/>
            <a:rect l="l" t="t" r="r" b="b"/>
            <a:pathLst>
              <a:path w="2256" h="1056">
                <a:moveTo>
                  <a:pt x="0" y="0"/>
                </a:moveTo>
                <a:cubicBezTo>
                  <a:pt x="92" y="56"/>
                  <a:pt x="184" y="112"/>
                  <a:pt x="288" y="192"/>
                </a:cubicBezTo>
                <a:cubicBezTo>
                  <a:pt x="392" y="272"/>
                  <a:pt x="512" y="392"/>
                  <a:pt x="624" y="480"/>
                </a:cubicBezTo>
                <a:cubicBezTo>
                  <a:pt x="736" y="568"/>
                  <a:pt x="848" y="648"/>
                  <a:pt x="960" y="720"/>
                </a:cubicBezTo>
                <a:cubicBezTo>
                  <a:pt x="1072" y="792"/>
                  <a:pt x="1152" y="864"/>
                  <a:pt x="1296" y="912"/>
                </a:cubicBezTo>
                <a:cubicBezTo>
                  <a:pt x="1440" y="960"/>
                  <a:pt x="1664" y="984"/>
                  <a:pt x="1824" y="1008"/>
                </a:cubicBezTo>
                <a:cubicBezTo>
                  <a:pt x="1984" y="1032"/>
                  <a:pt x="2120" y="1044"/>
                  <a:pt x="2256" y="105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3962520"/>
            <a:ext cx="28191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Verdana"/>
              </a:rPr>
              <a:t>Curva de recesió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792800" y="451800"/>
            <a:ext cx="577548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mbién se usan relaciones P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o Modelos de Simulación Hidr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38560" y="2052000"/>
            <a:ext cx="436860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Intentar varias relacione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elegir la mas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83760" y="388512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ur de Chile llueve después de Septie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4343400"/>
            <a:ext cx="106704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99"/>
              </a:gs>
              <a:gs pos="100000">
                <a:srgbClr val="a5002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5105520"/>
            <a:ext cx="4114800" cy="1218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nálisis Probabil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11520" y="45612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nóstico de Escorrentía en Cuencas Niv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13040" y="1489320"/>
            <a:ext cx="6522120" cy="113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olumen Periodo de deshielo 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(Septiembre-abr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60 a 80 %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olumen Es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34520" y="3341160"/>
            <a:ext cx="3420720" cy="1015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M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440" y="4837680"/>
            <a:ext cx="138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76040" y="4875840"/>
            <a:ext cx="226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905120" y="1295280"/>
                <a:ext cx="556236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779560" y="3218400"/>
            <a:ext cx="3316320" cy="64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3200" spc="-1" strike="noStrike" baseline="-25000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=</a:t>
            </a:r>
            <a:r>
              <a:rPr b="1" lang="es-ES_tradnl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P+</a:t>
            </a:r>
            <a:r>
              <a:rPr b="1" lang="es-ES_tradnl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5181480" y="3809520"/>
            <a:ext cx="457200" cy="762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90800" y="451764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quivalente en agua de ruta de Ni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00240" y="5346000"/>
            <a:ext cx="381636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CI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 I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     o = V 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500"/>
                            </p:stCondLst>
                            <p:childTnLst>
                              <p:par>
                                <p:cTn id="15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29600" y="144684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M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665440"/>
            <a:ext cx="7778880" cy="175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egún Tipo de año (húmedo, seco o n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ue se define con 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E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se determina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que ocurre el máximo y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37040" y="4647240"/>
            <a:ext cx="3311280" cy="1953000"/>
            <a:chOff x="437040" y="4647240"/>
            <a:chExt cx="3311280" cy="1953000"/>
          </a:xfrm>
        </p:grpSpPr>
        <p:sp>
          <p:nvSpPr>
            <p:cNvPr id="379" name=""/>
            <p:cNvSpPr/>
            <p:nvPr/>
          </p:nvSpPr>
          <p:spPr>
            <a:xfrm>
              <a:off x="2209680" y="5410080"/>
              <a:ext cx="76320" cy="76320"/>
            </a:xfrm>
            <a:prstGeom prst="smileyFace">
              <a:avLst>
                <a:gd name="adj" fmla="val 9282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37040" y="4647240"/>
              <a:ext cx="3311280" cy="1953000"/>
              <a:chOff x="437040" y="4647240"/>
              <a:chExt cx="3311280" cy="1953000"/>
            </a:xfrm>
          </p:grpSpPr>
          <p:sp>
            <p:nvSpPr>
              <p:cNvPr id="381" name=""/>
              <p:cNvSpPr/>
              <p:nvPr/>
            </p:nvSpPr>
            <p:spPr>
              <a:xfrm>
                <a:off x="2819520" y="59436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437040" y="4647240"/>
                <a:ext cx="3311280" cy="1953000"/>
                <a:chOff x="437040" y="4647240"/>
                <a:chExt cx="3311280" cy="1953000"/>
              </a:xfrm>
            </p:grpSpPr>
            <p:sp>
              <p:nvSpPr>
                <p:cNvPr id="383" name=""/>
                <p:cNvSpPr/>
                <p:nvPr/>
              </p:nvSpPr>
              <p:spPr>
                <a:xfrm flipV="1">
                  <a:off x="914400" y="4648320"/>
                  <a:ext cx="0" cy="1676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14400" y="624852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19320" y="5334120"/>
                  <a:ext cx="75960" cy="759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523880" y="51814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981080" y="51814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38280" y="56386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895480" y="58672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990720" y="5715000"/>
                  <a:ext cx="7596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752480" y="49528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90720" y="54100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19320" y="52578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523880" y="50292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752480" y="50292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81080" y="50292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209680" y="541008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38280" y="54864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7040" y="4647240"/>
                  <a:ext cx="42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99"/>
                      </a:solidFill>
                      <a:latin typeface="Verdana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051000" y="6201360"/>
                  <a:ext cx="697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Verdana"/>
                    </a:rPr>
                    <a:t>M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295280" y="380880"/>
                <a:ext cx="5943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1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0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838080" y="628560"/>
          <a:ext cx="7696440" cy="577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28560"/>
                    <a:ext cx="769644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124080" cy="17575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6286680" cy="45259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038480" y="380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nsores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3" action="ppaction://hlinksldjump"/>
          </p:cNvPr>
          <p:cNvSpPr/>
          <p:nvPr/>
        </p:nvSpPr>
        <p:spPr>
          <a:xfrm>
            <a:off x="914400" y="4114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55640" y="306360"/>
            <a:ext cx="7704000" cy="618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84360" y="609480"/>
            <a:ext cx="7920000" cy="574380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rId2" action="ppaction://hlinksldjump"/>
          </p:cNvPr>
          <p:cNvSpPr/>
          <p:nvPr/>
        </p:nvSpPr>
        <p:spPr>
          <a:xfrm>
            <a:off x="9907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743040" y="561960"/>
            <a:ext cx="7657920" cy="5734080"/>
          </a:xfrm>
          <a:prstGeom prst="rect">
            <a:avLst/>
          </a:prstGeom>
          <a:ln w="0">
            <a:noFill/>
          </a:ln>
        </p:spPr>
      </p:pic>
      <p:sp>
        <p:nvSpPr>
          <p:cNvPr id="412" name="">
            <a:hlinkClick r:id="rId2" action="ppaction://hlinksldjump"/>
          </p:cNvPr>
          <p:cNvSpPr/>
          <p:nvPr/>
        </p:nvSpPr>
        <p:spPr>
          <a:xfrm>
            <a:off x="9907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Obtención de curvas de duración representativas de períodos largos a partir de registros co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14680" y="2784600"/>
            <a:ext cx="5837040" cy="2849400"/>
            <a:chOff x="1714680" y="2784600"/>
            <a:chExt cx="5837040" cy="2849400"/>
          </a:xfrm>
        </p:grpSpPr>
        <p:sp>
          <p:nvSpPr>
            <p:cNvPr id="51" name=""/>
            <p:cNvSpPr/>
            <p:nvPr/>
          </p:nvSpPr>
          <p:spPr>
            <a:xfrm>
              <a:off x="1714680" y="4313160"/>
              <a:ext cx="5837040" cy="1320840"/>
            </a:xfrm>
            <a:custGeom>
              <a:avLst/>
              <a:gdLst/>
              <a:ahLst/>
              <a:rect l="l" t="t" r="r" b="b"/>
              <a:pathLst>
                <a:path w="3677" h="832">
                  <a:moveTo>
                    <a:pt x="0" y="832"/>
                  </a:moveTo>
                  <a:cubicBezTo>
                    <a:pt x="116" y="825"/>
                    <a:pt x="213" y="823"/>
                    <a:pt x="317" y="772"/>
                  </a:cubicBezTo>
                  <a:cubicBezTo>
                    <a:pt x="378" y="711"/>
                    <a:pt x="352" y="738"/>
                    <a:pt x="394" y="694"/>
                  </a:cubicBezTo>
                  <a:cubicBezTo>
                    <a:pt x="426" y="606"/>
                    <a:pt x="477" y="533"/>
                    <a:pt x="523" y="454"/>
                  </a:cubicBezTo>
                  <a:cubicBezTo>
                    <a:pt x="552" y="404"/>
                    <a:pt x="579" y="344"/>
                    <a:pt x="634" y="317"/>
                  </a:cubicBezTo>
                  <a:cubicBezTo>
                    <a:pt x="733" y="269"/>
                    <a:pt x="1036" y="285"/>
                    <a:pt x="1097" y="283"/>
                  </a:cubicBezTo>
                  <a:cubicBezTo>
                    <a:pt x="1213" y="259"/>
                    <a:pt x="1272" y="205"/>
                    <a:pt x="1371" y="154"/>
                  </a:cubicBezTo>
                  <a:cubicBezTo>
                    <a:pt x="1417" y="130"/>
                    <a:pt x="1468" y="112"/>
                    <a:pt x="1517" y="94"/>
                  </a:cubicBezTo>
                  <a:cubicBezTo>
                    <a:pt x="1533" y="88"/>
                    <a:pt x="1596" y="62"/>
                    <a:pt x="1611" y="60"/>
                  </a:cubicBezTo>
                  <a:cubicBezTo>
                    <a:pt x="1705" y="50"/>
                    <a:pt x="1800" y="49"/>
                    <a:pt x="1894" y="43"/>
                  </a:cubicBezTo>
                  <a:cubicBezTo>
                    <a:pt x="2006" y="47"/>
                    <a:pt x="2104" y="62"/>
                    <a:pt x="2211" y="43"/>
                  </a:cubicBezTo>
                  <a:cubicBezTo>
                    <a:pt x="2293" y="28"/>
                    <a:pt x="2307" y="9"/>
                    <a:pt x="2400" y="0"/>
                  </a:cubicBezTo>
                  <a:cubicBezTo>
                    <a:pt x="2519" y="7"/>
                    <a:pt x="2633" y="22"/>
                    <a:pt x="2751" y="34"/>
                  </a:cubicBezTo>
                  <a:cubicBezTo>
                    <a:pt x="2774" y="57"/>
                    <a:pt x="2780" y="75"/>
                    <a:pt x="2811" y="86"/>
                  </a:cubicBezTo>
                  <a:cubicBezTo>
                    <a:pt x="2859" y="132"/>
                    <a:pt x="2946" y="138"/>
                    <a:pt x="3009" y="146"/>
                  </a:cubicBezTo>
                  <a:cubicBezTo>
                    <a:pt x="3043" y="157"/>
                    <a:pt x="3091" y="151"/>
                    <a:pt x="3111" y="180"/>
                  </a:cubicBezTo>
                  <a:cubicBezTo>
                    <a:pt x="3134" y="213"/>
                    <a:pt x="3160" y="238"/>
                    <a:pt x="3180" y="274"/>
                  </a:cubicBezTo>
                  <a:cubicBezTo>
                    <a:pt x="3213" y="333"/>
                    <a:pt x="3242" y="389"/>
                    <a:pt x="3309" y="412"/>
                  </a:cubicBezTo>
                  <a:cubicBezTo>
                    <a:pt x="3372" y="475"/>
                    <a:pt x="3429" y="466"/>
                    <a:pt x="3523" y="472"/>
                  </a:cubicBezTo>
                  <a:cubicBezTo>
                    <a:pt x="3578" y="481"/>
                    <a:pt x="3624" y="506"/>
                    <a:pt x="3677" y="50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2720" y="3021120"/>
              <a:ext cx="2368440" cy="1441440"/>
            </a:xfrm>
            <a:custGeom>
              <a:avLst/>
              <a:gdLst/>
              <a:ahLst/>
              <a:rect l="l" t="t" r="r" b="b"/>
              <a:pathLst>
                <a:path w="1492" h="908">
                  <a:moveTo>
                    <a:pt x="0" y="908"/>
                  </a:moveTo>
                  <a:cubicBezTo>
                    <a:pt x="35" y="901"/>
                    <a:pt x="69" y="894"/>
                    <a:pt x="103" y="883"/>
                  </a:cubicBezTo>
                  <a:cubicBezTo>
                    <a:pt x="162" y="845"/>
                    <a:pt x="152" y="783"/>
                    <a:pt x="172" y="720"/>
                  </a:cubicBezTo>
                  <a:cubicBezTo>
                    <a:pt x="178" y="699"/>
                    <a:pt x="178" y="682"/>
                    <a:pt x="206" y="677"/>
                  </a:cubicBezTo>
                  <a:cubicBezTo>
                    <a:pt x="251" y="670"/>
                    <a:pt x="297" y="671"/>
                    <a:pt x="343" y="668"/>
                  </a:cubicBezTo>
                  <a:cubicBezTo>
                    <a:pt x="363" y="665"/>
                    <a:pt x="383" y="664"/>
                    <a:pt x="403" y="660"/>
                  </a:cubicBezTo>
                  <a:cubicBezTo>
                    <a:pt x="420" y="656"/>
                    <a:pt x="454" y="643"/>
                    <a:pt x="454" y="643"/>
                  </a:cubicBezTo>
                  <a:cubicBezTo>
                    <a:pt x="491" y="608"/>
                    <a:pt x="478" y="605"/>
                    <a:pt x="532" y="583"/>
                  </a:cubicBezTo>
                  <a:cubicBezTo>
                    <a:pt x="546" y="538"/>
                    <a:pt x="519" y="516"/>
                    <a:pt x="540" y="463"/>
                  </a:cubicBezTo>
                  <a:cubicBezTo>
                    <a:pt x="548" y="443"/>
                    <a:pt x="610" y="438"/>
                    <a:pt x="617" y="437"/>
                  </a:cubicBezTo>
                  <a:cubicBezTo>
                    <a:pt x="666" y="433"/>
                    <a:pt x="714" y="431"/>
                    <a:pt x="763" y="428"/>
                  </a:cubicBezTo>
                  <a:cubicBezTo>
                    <a:pt x="774" y="420"/>
                    <a:pt x="785" y="410"/>
                    <a:pt x="797" y="403"/>
                  </a:cubicBezTo>
                  <a:cubicBezTo>
                    <a:pt x="811" y="396"/>
                    <a:pt x="827" y="395"/>
                    <a:pt x="840" y="386"/>
                  </a:cubicBezTo>
                  <a:cubicBezTo>
                    <a:pt x="876" y="362"/>
                    <a:pt x="903" y="313"/>
                    <a:pt x="952" y="308"/>
                  </a:cubicBezTo>
                  <a:cubicBezTo>
                    <a:pt x="997" y="303"/>
                    <a:pt x="1043" y="303"/>
                    <a:pt x="1089" y="300"/>
                  </a:cubicBezTo>
                  <a:cubicBezTo>
                    <a:pt x="1115" y="297"/>
                    <a:pt x="1184" y="293"/>
                    <a:pt x="1192" y="274"/>
                  </a:cubicBezTo>
                  <a:cubicBezTo>
                    <a:pt x="1206" y="239"/>
                    <a:pt x="1196" y="198"/>
                    <a:pt x="1209" y="163"/>
                  </a:cubicBezTo>
                  <a:cubicBezTo>
                    <a:pt x="1223" y="126"/>
                    <a:pt x="1344" y="118"/>
                    <a:pt x="1380" y="103"/>
                  </a:cubicBezTo>
                  <a:cubicBezTo>
                    <a:pt x="1434" y="81"/>
                    <a:pt x="1453" y="35"/>
                    <a:pt x="149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11720" y="2784600"/>
              <a:ext cx="203400" cy="933480"/>
            </a:xfrm>
            <a:custGeom>
              <a:avLst/>
              <a:gdLst/>
              <a:ahLst/>
              <a:rect l="l" t="t" r="r" b="b"/>
              <a:pathLst>
                <a:path w="128" h="588">
                  <a:moveTo>
                    <a:pt x="0" y="560"/>
                  </a:moveTo>
                  <a:cubicBezTo>
                    <a:pt x="9" y="566"/>
                    <a:pt x="16" y="576"/>
                    <a:pt x="26" y="577"/>
                  </a:cubicBezTo>
                  <a:cubicBezTo>
                    <a:pt x="111" y="588"/>
                    <a:pt x="70" y="490"/>
                    <a:pt x="43" y="449"/>
                  </a:cubicBezTo>
                  <a:cubicBezTo>
                    <a:pt x="52" y="421"/>
                    <a:pt x="67" y="400"/>
                    <a:pt x="77" y="372"/>
                  </a:cubicBezTo>
                  <a:cubicBezTo>
                    <a:pt x="65" y="336"/>
                    <a:pt x="43" y="325"/>
                    <a:pt x="60" y="286"/>
                  </a:cubicBezTo>
                  <a:cubicBezTo>
                    <a:pt x="72" y="258"/>
                    <a:pt x="128" y="226"/>
                    <a:pt x="128" y="226"/>
                  </a:cubicBezTo>
                  <a:cubicBezTo>
                    <a:pt x="126" y="213"/>
                    <a:pt x="121" y="151"/>
                    <a:pt x="111" y="132"/>
                  </a:cubicBezTo>
                  <a:cubicBezTo>
                    <a:pt x="88" y="87"/>
                    <a:pt x="74" y="75"/>
                    <a:pt x="60" y="29"/>
                  </a:cubicBezTo>
                  <a:cubicBezTo>
                    <a:pt x="69" y="0"/>
                    <a:pt x="59" y="3"/>
                    <a:pt x="77" y="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76680" y="3510000"/>
              <a:ext cx="1087200" cy="1266840"/>
            </a:xfrm>
            <a:custGeom>
              <a:avLst/>
              <a:gdLst/>
              <a:ahLst/>
              <a:rect l="l" t="t" r="r" b="b"/>
              <a:pathLst>
                <a:path w="685" h="798">
                  <a:moveTo>
                    <a:pt x="0" y="798"/>
                  </a:moveTo>
                  <a:cubicBezTo>
                    <a:pt x="48" y="781"/>
                    <a:pt x="66" y="774"/>
                    <a:pt x="102" y="738"/>
                  </a:cubicBezTo>
                  <a:cubicBezTo>
                    <a:pt x="123" y="677"/>
                    <a:pt x="115" y="704"/>
                    <a:pt x="128" y="660"/>
                  </a:cubicBezTo>
                  <a:cubicBezTo>
                    <a:pt x="125" y="649"/>
                    <a:pt x="120" y="638"/>
                    <a:pt x="120" y="626"/>
                  </a:cubicBezTo>
                  <a:cubicBezTo>
                    <a:pt x="120" y="592"/>
                    <a:pt x="123" y="557"/>
                    <a:pt x="128" y="523"/>
                  </a:cubicBezTo>
                  <a:cubicBezTo>
                    <a:pt x="135" y="468"/>
                    <a:pt x="227" y="437"/>
                    <a:pt x="265" y="412"/>
                  </a:cubicBezTo>
                  <a:cubicBezTo>
                    <a:pt x="308" y="383"/>
                    <a:pt x="318" y="335"/>
                    <a:pt x="351" y="300"/>
                  </a:cubicBezTo>
                  <a:cubicBezTo>
                    <a:pt x="384" y="208"/>
                    <a:pt x="425" y="209"/>
                    <a:pt x="505" y="180"/>
                  </a:cubicBezTo>
                  <a:cubicBezTo>
                    <a:pt x="560" y="127"/>
                    <a:pt x="510" y="183"/>
                    <a:pt x="540" y="129"/>
                  </a:cubicBezTo>
                  <a:cubicBezTo>
                    <a:pt x="550" y="111"/>
                    <a:pt x="574" y="78"/>
                    <a:pt x="574" y="78"/>
                  </a:cubicBezTo>
                  <a:cubicBezTo>
                    <a:pt x="577" y="69"/>
                    <a:pt x="577" y="60"/>
                    <a:pt x="582" y="52"/>
                  </a:cubicBezTo>
                  <a:cubicBezTo>
                    <a:pt x="604" y="16"/>
                    <a:pt x="659" y="29"/>
                    <a:pt x="68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1560" y="3292560"/>
              <a:ext cx="245880" cy="844560"/>
            </a:xfrm>
            <a:custGeom>
              <a:avLst/>
              <a:gdLst/>
              <a:ahLst/>
              <a:rect l="l" t="t" r="r" b="b"/>
              <a:pathLst>
                <a:path w="155" h="532">
                  <a:moveTo>
                    <a:pt x="0" y="532"/>
                  </a:moveTo>
                  <a:cubicBezTo>
                    <a:pt x="51" y="454"/>
                    <a:pt x="45" y="486"/>
                    <a:pt x="26" y="360"/>
                  </a:cubicBezTo>
                  <a:cubicBezTo>
                    <a:pt x="23" y="342"/>
                    <a:pt x="8" y="309"/>
                    <a:pt x="8" y="309"/>
                  </a:cubicBezTo>
                  <a:cubicBezTo>
                    <a:pt x="12" y="275"/>
                    <a:pt x="17" y="190"/>
                    <a:pt x="51" y="163"/>
                  </a:cubicBezTo>
                  <a:cubicBezTo>
                    <a:pt x="65" y="152"/>
                    <a:pt x="86" y="152"/>
                    <a:pt x="103" y="146"/>
                  </a:cubicBezTo>
                  <a:cubicBezTo>
                    <a:pt x="155" y="69"/>
                    <a:pt x="137" y="115"/>
                    <a:pt x="137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67120" y="3890880"/>
              <a:ext cx="1033560" cy="627120"/>
            </a:xfrm>
            <a:custGeom>
              <a:avLst/>
              <a:gdLst/>
              <a:ahLst/>
              <a:rect l="l" t="t" r="r" b="b"/>
              <a:pathLst>
                <a:path w="651" h="395">
                  <a:moveTo>
                    <a:pt x="0" y="395"/>
                  </a:moveTo>
                  <a:cubicBezTo>
                    <a:pt x="71" y="392"/>
                    <a:pt x="143" y="391"/>
                    <a:pt x="214" y="386"/>
                  </a:cubicBezTo>
                  <a:cubicBezTo>
                    <a:pt x="254" y="383"/>
                    <a:pt x="287" y="347"/>
                    <a:pt x="325" y="335"/>
                  </a:cubicBezTo>
                  <a:cubicBezTo>
                    <a:pt x="364" y="306"/>
                    <a:pt x="390" y="272"/>
                    <a:pt x="437" y="258"/>
                  </a:cubicBezTo>
                  <a:cubicBezTo>
                    <a:pt x="480" y="212"/>
                    <a:pt x="419" y="269"/>
                    <a:pt x="531" y="232"/>
                  </a:cubicBezTo>
                  <a:cubicBezTo>
                    <a:pt x="543" y="228"/>
                    <a:pt x="548" y="215"/>
                    <a:pt x="557" y="206"/>
                  </a:cubicBezTo>
                  <a:cubicBezTo>
                    <a:pt x="565" y="163"/>
                    <a:pt x="576" y="138"/>
                    <a:pt x="600" y="103"/>
                  </a:cubicBezTo>
                  <a:cubicBezTo>
                    <a:pt x="603" y="95"/>
                    <a:pt x="604" y="86"/>
                    <a:pt x="608" y="78"/>
                  </a:cubicBezTo>
                  <a:cubicBezTo>
                    <a:pt x="612" y="71"/>
                    <a:pt x="621" y="67"/>
                    <a:pt x="625" y="60"/>
                  </a:cubicBezTo>
                  <a:cubicBezTo>
                    <a:pt x="630" y="50"/>
                    <a:pt x="629" y="37"/>
                    <a:pt x="634" y="26"/>
                  </a:cubicBezTo>
                  <a:cubicBezTo>
                    <a:pt x="638" y="16"/>
                    <a:pt x="651" y="0"/>
                    <a:pt x="651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68880" y="3565440"/>
              <a:ext cx="1006560" cy="774720"/>
            </a:xfrm>
            <a:custGeom>
              <a:avLst/>
              <a:gdLst/>
              <a:ahLst/>
              <a:rect l="l" t="t" r="r" b="b"/>
              <a:pathLst>
                <a:path w="634" h="488">
                  <a:moveTo>
                    <a:pt x="0" y="488"/>
                  </a:moveTo>
                  <a:cubicBezTo>
                    <a:pt x="49" y="473"/>
                    <a:pt x="52" y="435"/>
                    <a:pt x="86" y="403"/>
                  </a:cubicBezTo>
                  <a:cubicBezTo>
                    <a:pt x="103" y="368"/>
                    <a:pt x="125" y="307"/>
                    <a:pt x="163" y="291"/>
                  </a:cubicBezTo>
                  <a:cubicBezTo>
                    <a:pt x="184" y="282"/>
                    <a:pt x="256" y="276"/>
                    <a:pt x="266" y="274"/>
                  </a:cubicBezTo>
                  <a:cubicBezTo>
                    <a:pt x="297" y="269"/>
                    <a:pt x="360" y="257"/>
                    <a:pt x="360" y="257"/>
                  </a:cubicBezTo>
                  <a:cubicBezTo>
                    <a:pt x="420" y="218"/>
                    <a:pt x="482" y="120"/>
                    <a:pt x="523" y="60"/>
                  </a:cubicBezTo>
                  <a:cubicBezTo>
                    <a:pt x="543" y="32"/>
                    <a:pt x="592" y="54"/>
                    <a:pt x="626" y="51"/>
                  </a:cubicBezTo>
                  <a:cubicBezTo>
                    <a:pt x="634" y="5"/>
                    <a:pt x="634" y="23"/>
                    <a:pt x="634" y="0"/>
                  </a:cubicBezTo>
                </a:path>
              </a:pathLst>
            </a:custGeom>
            <a:noFill/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343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41008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57200" y="457200"/>
            <a:ext cx="2819520" cy="2593440"/>
            <a:chOff x="457200" y="457200"/>
            <a:chExt cx="2819520" cy="2593440"/>
          </a:xfrm>
        </p:grpSpPr>
        <p:sp>
          <p:nvSpPr>
            <p:cNvPr id="63" name=""/>
            <p:cNvSpPr/>
            <p:nvPr/>
          </p:nvSpPr>
          <p:spPr>
            <a:xfrm>
              <a:off x="838080" y="5335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2438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909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00600" y="457200"/>
            <a:ext cx="2819520" cy="2593440"/>
            <a:chOff x="4800600" y="457200"/>
            <a:chExt cx="2819520" cy="2593440"/>
          </a:xfrm>
        </p:grpSpPr>
        <p:sp>
          <p:nvSpPr>
            <p:cNvPr id="68" name=""/>
            <p:cNvSpPr/>
            <p:nvPr/>
          </p:nvSpPr>
          <p:spPr>
            <a:xfrm>
              <a:off x="5181480" y="5335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2438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343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24280" y="3200400"/>
            <a:ext cx="2819520" cy="2593440"/>
            <a:chOff x="4724280" y="3200400"/>
            <a:chExt cx="2819520" cy="2593440"/>
          </a:xfrm>
        </p:grpSpPr>
        <p:sp>
          <p:nvSpPr>
            <p:cNvPr id="73" name=""/>
            <p:cNvSpPr/>
            <p:nvPr/>
          </p:nvSpPr>
          <p:spPr>
            <a:xfrm>
              <a:off x="5105160" y="32767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5160" y="51814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8080" y="3048120"/>
            <a:ext cx="2819520" cy="2409840"/>
            <a:chOff x="838080" y="3048120"/>
            <a:chExt cx="2819520" cy="2409840"/>
          </a:xfrm>
        </p:grpSpPr>
        <p:sp>
          <p:nvSpPr>
            <p:cNvPr id="78" name=""/>
            <p:cNvSpPr/>
            <p:nvPr/>
          </p:nvSpPr>
          <p:spPr>
            <a:xfrm>
              <a:off x="1218960" y="3124080"/>
              <a:ext cx="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50288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30481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71800" y="51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Q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990720" y="762120"/>
            <a:ext cx="190476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0" y="80"/>
                  <a:pt x="0" y="160"/>
                  <a:pt x="48" y="240"/>
                </a:cubicBezTo>
                <a:cubicBezTo>
                  <a:pt x="96" y="320"/>
                  <a:pt x="152" y="400"/>
                  <a:pt x="288" y="480"/>
                </a:cubicBezTo>
                <a:cubicBezTo>
                  <a:pt x="424" y="560"/>
                  <a:pt x="712" y="648"/>
                  <a:pt x="864" y="720"/>
                </a:cubicBezTo>
                <a:cubicBezTo>
                  <a:pt x="1016" y="792"/>
                  <a:pt x="1108" y="852"/>
                  <a:pt x="1200" y="91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21160" y="990720"/>
            <a:ext cx="1765440" cy="129528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2860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a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38088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ació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3772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244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514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3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09680" y="426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2670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6483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9625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523880" y="3580920"/>
            <a:ext cx="1524240" cy="121932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505320"/>
            <a:ext cx="1765440" cy="160020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334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485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0516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’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iodo 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18148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Q’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666880" y="3885840"/>
            <a:ext cx="0" cy="114300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18960" y="3886200"/>
            <a:ext cx="1447560" cy="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733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’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33520"/>
            <a:ext cx="190476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0"/>
                </a:moveTo>
                <a:cubicBezTo>
                  <a:pt x="20" y="41"/>
                  <a:pt x="57" y="163"/>
                  <a:pt x="122" y="247"/>
                </a:cubicBezTo>
                <a:cubicBezTo>
                  <a:pt x="187" y="331"/>
                  <a:pt x="247" y="428"/>
                  <a:pt x="387" y="504"/>
                </a:cubicBezTo>
                <a:cubicBezTo>
                  <a:pt x="527" y="580"/>
                  <a:pt x="827" y="601"/>
                  <a:pt x="962" y="701"/>
                </a:cubicBezTo>
                <a:cubicBezTo>
                  <a:pt x="1097" y="801"/>
                  <a:pt x="1150" y="1020"/>
                  <a:pt x="120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91440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Periodo concur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533520"/>
            <a:ext cx="640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Medición de cau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7696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 los componentes del ciclo hidrológico es el que puede medirse con mayor pr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276720"/>
            <a:ext cx="7238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ección de aforo (natural o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3962520"/>
            <a:ext cx="2818800" cy="2593080"/>
            <a:chOff x="533520" y="3962520"/>
            <a:chExt cx="2818800" cy="2593080"/>
          </a:xfrm>
        </p:grpSpPr>
        <p:grpSp>
          <p:nvGrpSpPr>
            <p:cNvPr id="121" name=""/>
            <p:cNvGrpSpPr/>
            <p:nvPr/>
          </p:nvGrpSpPr>
          <p:grpSpPr>
            <a:xfrm>
              <a:off x="533520" y="3962520"/>
              <a:ext cx="2818800" cy="2593080"/>
              <a:chOff x="533520" y="3962520"/>
              <a:chExt cx="2818800" cy="2593080"/>
            </a:xfrm>
          </p:grpSpPr>
          <p:sp>
            <p:nvSpPr>
              <p:cNvPr id="122" name=""/>
              <p:cNvSpPr/>
              <p:nvPr/>
            </p:nvSpPr>
            <p:spPr>
              <a:xfrm>
                <a:off x="914040" y="4038480"/>
                <a:ext cx="0" cy="19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14040" y="59432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3520" y="3962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66880" y="60958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143000" y="4597560"/>
              <a:ext cx="1523880" cy="876240"/>
            </a:xfrm>
            <a:custGeom>
              <a:avLst/>
              <a:gdLst/>
              <a:ahLst/>
              <a:rect l="l" t="t" r="r" b="b"/>
              <a:pathLst>
                <a:path w="960" h="552">
                  <a:moveTo>
                    <a:pt x="0" y="272"/>
                  </a:moveTo>
                  <a:cubicBezTo>
                    <a:pt x="32" y="372"/>
                    <a:pt x="64" y="472"/>
                    <a:pt x="96" y="512"/>
                  </a:cubicBezTo>
                  <a:cubicBezTo>
                    <a:pt x="128" y="552"/>
                    <a:pt x="160" y="528"/>
                    <a:pt x="192" y="512"/>
                  </a:cubicBezTo>
                  <a:cubicBezTo>
                    <a:pt x="224" y="496"/>
                    <a:pt x="248" y="472"/>
                    <a:pt x="288" y="416"/>
                  </a:cubicBezTo>
                  <a:cubicBezTo>
                    <a:pt x="328" y="360"/>
                    <a:pt x="392" y="232"/>
                    <a:pt x="432" y="176"/>
                  </a:cubicBezTo>
                  <a:cubicBezTo>
                    <a:pt x="472" y="120"/>
                    <a:pt x="496" y="104"/>
                    <a:pt x="528" y="80"/>
                  </a:cubicBezTo>
                  <a:cubicBezTo>
                    <a:pt x="560" y="56"/>
                    <a:pt x="576" y="0"/>
                    <a:pt x="624" y="32"/>
                  </a:cubicBezTo>
                  <a:cubicBezTo>
                    <a:pt x="672" y="64"/>
                    <a:pt x="760" y="192"/>
                    <a:pt x="816" y="272"/>
                  </a:cubicBezTo>
                  <a:cubicBezTo>
                    <a:pt x="872" y="352"/>
                    <a:pt x="916" y="432"/>
                    <a:pt x="960" y="512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0400" y="4038480"/>
            <a:ext cx="2819520" cy="2593440"/>
            <a:chOff x="3200400" y="4038480"/>
            <a:chExt cx="2819520" cy="2593440"/>
          </a:xfrm>
        </p:grpSpPr>
        <p:grpSp>
          <p:nvGrpSpPr>
            <p:cNvPr id="128" name=""/>
            <p:cNvGrpSpPr/>
            <p:nvPr/>
          </p:nvGrpSpPr>
          <p:grpSpPr>
            <a:xfrm>
              <a:off x="3200400" y="4038480"/>
              <a:ext cx="2819520" cy="2593440"/>
              <a:chOff x="3200400" y="4038480"/>
              <a:chExt cx="2819520" cy="2593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581280" y="411480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81280" y="60195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00400" y="4038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34120" y="6172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949560" y="4191120"/>
              <a:ext cx="1613160" cy="1752480"/>
              <a:chOff x="3949560" y="4191120"/>
              <a:chExt cx="1613160" cy="1752480"/>
            </a:xfrm>
          </p:grpSpPr>
          <p:sp>
            <p:nvSpPr>
              <p:cNvPr id="134" name=""/>
              <p:cNvSpPr/>
              <p:nvPr/>
            </p:nvSpPr>
            <p:spPr>
              <a:xfrm>
                <a:off x="4114800" y="54100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50292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48320" y="47242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52880" y="44956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49560" y="4191120"/>
                <a:ext cx="1613160" cy="1752480"/>
              </a:xfrm>
              <a:custGeom>
                <a:avLst/>
                <a:gdLst/>
                <a:ahLst/>
                <a:rect l="l" t="t" r="r" b="b"/>
                <a:pathLst>
                  <a:path w="1016" h="1104">
                    <a:moveTo>
                      <a:pt x="56" y="960"/>
                    </a:moveTo>
                    <a:cubicBezTo>
                      <a:pt x="28" y="1032"/>
                      <a:pt x="0" y="1104"/>
                      <a:pt x="56" y="1008"/>
                    </a:cubicBezTo>
                    <a:cubicBezTo>
                      <a:pt x="112" y="912"/>
                      <a:pt x="232" y="552"/>
                      <a:pt x="392" y="384"/>
                    </a:cubicBezTo>
                    <a:cubicBezTo>
                      <a:pt x="552" y="216"/>
                      <a:pt x="784" y="108"/>
                      <a:pt x="1016" y="0"/>
                    </a:cubicBez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5867280" y="5029200"/>
            <a:ext cx="609840" cy="609480"/>
          </a:xfrm>
          <a:custGeom>
            <a:avLst/>
            <a:gdLst>
              <a:gd name="textAreaLeft" fmla="*/ 7596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24480" y="4114800"/>
            <a:ext cx="2819520" cy="2593440"/>
            <a:chOff x="6324480" y="4114800"/>
            <a:chExt cx="2819520" cy="2593440"/>
          </a:xfrm>
        </p:grpSpPr>
        <p:grpSp>
          <p:nvGrpSpPr>
            <p:cNvPr id="141" name=""/>
            <p:cNvGrpSpPr/>
            <p:nvPr/>
          </p:nvGrpSpPr>
          <p:grpSpPr>
            <a:xfrm>
              <a:off x="6324480" y="4114800"/>
              <a:ext cx="2819520" cy="2593440"/>
              <a:chOff x="6324480" y="4114800"/>
              <a:chExt cx="2819520" cy="2593440"/>
            </a:xfrm>
          </p:grpSpPr>
          <p:sp>
            <p:nvSpPr>
              <p:cNvPr id="142" name=""/>
              <p:cNvSpPr/>
              <p:nvPr/>
            </p:nvSpPr>
            <p:spPr>
              <a:xfrm>
                <a:off x="6705360" y="41911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360" y="609588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24480" y="4114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6248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858000" y="4692600"/>
              <a:ext cx="1828800" cy="1009800"/>
            </a:xfrm>
            <a:custGeom>
              <a:avLst/>
              <a:gdLst/>
              <a:ahLst/>
              <a:rect l="l" t="t" r="r" b="b"/>
              <a:pathLst>
                <a:path w="1152" h="636">
                  <a:moveTo>
                    <a:pt x="0" y="500"/>
                  </a:moveTo>
                  <a:cubicBezTo>
                    <a:pt x="32" y="540"/>
                    <a:pt x="64" y="580"/>
                    <a:pt x="96" y="596"/>
                  </a:cubicBezTo>
                  <a:cubicBezTo>
                    <a:pt x="128" y="612"/>
                    <a:pt x="160" y="596"/>
                    <a:pt x="192" y="596"/>
                  </a:cubicBezTo>
                  <a:cubicBezTo>
                    <a:pt x="224" y="596"/>
                    <a:pt x="240" y="636"/>
                    <a:pt x="288" y="596"/>
                  </a:cubicBezTo>
                  <a:cubicBezTo>
                    <a:pt x="336" y="556"/>
                    <a:pt x="432" y="436"/>
                    <a:pt x="480" y="356"/>
                  </a:cubicBezTo>
                  <a:cubicBezTo>
                    <a:pt x="528" y="276"/>
                    <a:pt x="529" y="172"/>
                    <a:pt x="576" y="116"/>
                  </a:cubicBezTo>
                  <a:cubicBezTo>
                    <a:pt x="623" y="60"/>
                    <a:pt x="699" y="0"/>
                    <a:pt x="763" y="18"/>
                  </a:cubicBezTo>
                  <a:cubicBezTo>
                    <a:pt x="827" y="36"/>
                    <a:pt x="919" y="176"/>
                    <a:pt x="960" y="224"/>
                  </a:cubicBezTo>
                  <a:cubicBezTo>
                    <a:pt x="1001" y="272"/>
                    <a:pt x="976" y="262"/>
                    <a:pt x="1008" y="308"/>
                  </a:cubicBezTo>
                  <a:cubicBezTo>
                    <a:pt x="1040" y="354"/>
                    <a:pt x="1100" y="428"/>
                    <a:pt x="1152" y="50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380880"/>
            <a:ext cx="6400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terminación de H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2952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imnímetros(reglas, cadenas, cabl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ador de Sond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ensor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ltra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438280" cy="21495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3886200" y="3124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238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3770280"/>
            <a:ext cx="3505320" cy="289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95480" y="4572000"/>
            <a:ext cx="601992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imnígrafo de flotador instalado en pozo de obser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 pozo de observación antieconómico, puede usarse sensor de nivel de burbu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609480"/>
            <a:ext cx="7162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étodos para medir velocidad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4343400"/>
            <a:ext cx="6934320" cy="2442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solución salina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(tiempo entre “bach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dilución salina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(se inyecta 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Comic Sans MS"/>
              </a:rPr>
              <a:t>18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O, deuterio 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H, rodamina B y W, dicromato de sodio con C conocida aguas arriba y se controla C aguas aba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trazadores radio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489320" cy="230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219320"/>
            <a:ext cx="5943600" cy="2494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Mecán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Moli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Dinamómetro (péndulo hidromét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Flo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ttp://www.ideam.gov.co/temas/guiaagua/Anexo%206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57640" y="685800"/>
            <a:ext cx="6933600" cy="2359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éc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medidores electromagnéticos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(se induce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magnético perpendicular a la dirección de la corriente y 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capta con electro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Ultrasonido (US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5638680" y="3200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0:01:46Z</dcterms:created>
  <dc:creator>Ximena Vargas</dc:creator>
  <dc:description/>
  <dc:language>en-US</dc:language>
  <cp:lastModifiedBy>academico</cp:lastModifiedBy>
  <dcterms:modified xsi:type="dcterms:W3CDTF">2006-10-01T22:05:28Z</dcterms:modified>
  <cp:revision>29</cp:revision>
  <dc:subject/>
  <dc:title>Sin título de diapositiva</dc:title>
</cp:coreProperties>
</file>