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4.wmf" ContentType="image/x-wmf"/>
  <Override PartName="/ppt/media/image38.png" ContentType="image/png"/>
  <Override PartName="/ppt/media/image25.gif" ContentType="image/gif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46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3F4-0953-421B-8F8A-B2987E4B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1A6-4D1E-4B41-A691-6747133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9EDD-EEBE-4570-A35B-ADFCA978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99B-424B-4F2F-9F11-451EDE5F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CB8A-1FBF-4572-B712-02E90A8D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039-B791-476F-B685-4EF7501E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8E7-17BD-4F19-835D-F6A0BB61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3DD-B5D1-4C73-8C90-986E3E0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A9E1-ECB2-42A6-BB53-A53F1C57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167-40D5-4AF2-8C86-AC6A383F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970-A44B-450E-BFF5-288AC5B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484-5FBE-4BC0-B868-A04D7103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D48-4845-4029-9C63-A3352F869C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80773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8153280" y="5851440"/>
            <a:ext cx="533520" cy="441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ccccff"/>
                </a:solidFill>
                <a:uFillTx/>
                <a:latin typeface="Verdana"/>
                <a:hlinkClick r:id="rId4" action="ppaction://hlinksldjump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838188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495680" y="5715000"/>
            <a:ext cx="35816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66"/>
                </a:solidFill>
                <a:latin typeface="Copperplate Gothic Light"/>
              </a:rPr>
              <a:t>Fin Capítul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academico</cp:lastModifiedBy>
  <dcterms:modified xsi:type="dcterms:W3CDTF">2007-04-17T18:26:43Z</dcterms:modified>
  <cp:revision>27</cp:revision>
  <dc:subject/>
  <dc:title>Presentación de PowerPoint</dc:title>
</cp:coreProperties>
</file>