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4.wmf" ContentType="image/x-wmf"/>
  <Override PartName="/ppt/media/image38.png" ContentType="image/png"/>
  <Override PartName="/ppt/media/image25.gif" ContentType="image/gif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6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46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6.wmf" ContentType="image/x-wmf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D44-679F-4928-A400-DEBD93B6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EE8-14F3-46DF-A0EE-9AFBFD01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A9A-104C-45B1-B279-0254CA65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4A6-C2F0-4181-A797-796EB4210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FE9-19B0-4E71-8EC0-63A28E5F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167-295E-45E8-BF27-482467A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3E5-83E2-431D-8048-1E5A27E7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6AE-1EFB-44A3-9558-B493F158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50D-4436-4354-8760-0906C2C1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C75-2B94-403B-8E76-D4AA2F7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542B-FFC6-42ED-BB68-6D4A7896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A36-C9F0-4BA7-ACF5-32B6EF7C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7880-9CD2-4F5D-ADDE-632A57E5C7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00"/>
                            </p:stCondLst>
                            <p:childTnLst>
                              <p:par>
                                <p:cTn id="7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500"/>
                            </p:stCondLst>
                            <p:childTnLst>
                              <p:par>
                                <p:cTn id="7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500"/>
                            </p:stCondLst>
                            <p:childTnLst>
                              <p:par>
                                <p:cTn id="8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8077320" y="1066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8153280" y="5851440"/>
            <a:ext cx="533520" cy="441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ccccff"/>
                </a:solidFill>
                <a:uFillTx/>
                <a:latin typeface="Verdana"/>
                <a:hlinkClick r:id="rId4" action="ppaction://hlinksldjump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838188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495680" y="5715000"/>
            <a:ext cx="358164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66"/>
                </a:solidFill>
                <a:latin typeface="Copperplate Gothic Light"/>
              </a:rPr>
              <a:t>Fin Capítul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academico</cp:lastModifiedBy>
  <dcterms:modified xsi:type="dcterms:W3CDTF">2007-04-17T18:26:43Z</dcterms:modified>
  <cp:revision>27</cp:revision>
  <dc:subject/>
  <dc:title>Presentación de PowerPoint</dc:title>
</cp:coreProperties>
</file>